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86B-4B07-4BEF-923E-613DA684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D80-483A-44BF-A5C2-5F75B892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F89-6360-4A79-9C4A-9CF2A200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C64-2E3C-4E80-AFB8-74B7090C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D3D-7CF8-4185-8E92-F9D4C2F8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457-EDA0-4520-82BA-2A1706C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7A2-34DC-4DED-BCC6-8DF966EB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932-A7C7-4D3D-8544-E4D3E1FE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CD0-BB99-4A9C-9402-4809C9C9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996-FF09-41CC-935D-66A01AA7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950-F74A-4536-AA0B-4CDC278F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196-A93B-4FA8-A779-9AAFD68E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389-38B2-46A4-8899-D2B252FE5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61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ther Christian Iss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44480" y="2174760"/>
            <a:ext cx="5853240" cy="2508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THE CHURCH SHOULD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SALT AND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IN A WORLD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DARK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HAS LOST 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1:48Z</dcterms:modified>
  <cp:revision>263</cp:revision>
  <dc:subject/>
  <dc:title>No Slide Title</dc:title>
</cp:coreProperties>
</file>