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EF5-AFBC-4591-AD58-797F059D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4E1-F057-4181-90B7-563DF33C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A54-F450-4142-95FE-AA3B32E5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8BF-2295-4098-9A22-102862E8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816-0B9F-4666-9244-CCCF354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87D-8B27-4BC7-B089-7B96421E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295-2695-486A-ABB2-020E7A9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0CC-D99B-49F5-A33F-938404E3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48D-12E3-46FC-9CD1-8AD1B0D1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4E3-6ED9-4AA9-AA61-4CBA101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FBC-AB9A-4F66-89A1-3A9CA40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D18-5CE1-49CF-930C-6BF270E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723F-4044-4FBA-A1D5-1D339C695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2767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ggestion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urch Invol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9000" y="665280"/>
            <a:ext cx="81784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902444"/>
                </a:solidFill>
                <a:latin typeface="Geometr231 Hv BT"/>
              </a:rPr>
              <a:t>CHURCH INVOLVEMEN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6172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1. Preven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2. Education /Trai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3. Care-Giv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520" y="4584600"/>
            <a:ext cx="65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8200" y="5494320"/>
            <a:ext cx="16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8:10Z</dcterms:modified>
  <cp:revision>263</cp:revision>
  <dc:subject/>
  <dc:title>No Slide Title</dc:title>
</cp:coreProperties>
</file>