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BB3-83A7-4458-BC86-DE482EA3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5D3-1C37-4B33-B83E-BBF45A8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C08-D813-4966-9097-DEF3CE8E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585-BFDA-4EEB-8647-C169CA18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15A-B8D2-4865-8A26-33FEAAE4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1ED-4C19-4D17-9FB9-5B2402A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BA9-669C-4A16-8FA3-E15397A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89F-2D58-41C5-AA52-C1EB6DD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98-16E2-4B10-B858-84721D0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76F-D07E-48F6-BB0A-B313E3E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246-2651-48FA-8846-67EE4A0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8ED-8241-4D74-8AAA-1B2FCA77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46E-68D2-411C-8AEB-870E494F5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8200" y="685800"/>
            <a:ext cx="7988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AGE APPROPRIATE TEACH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562040"/>
            <a:ext cx="7467120" cy="4439160"/>
            <a:chOff x="990720" y="1562040"/>
            <a:chExt cx="7467120" cy="4439160"/>
          </a:xfrm>
        </p:grpSpPr>
        <p:sp>
          <p:nvSpPr>
            <p:cNvPr id="369" name=""/>
            <p:cNvSpPr/>
            <p:nvPr/>
          </p:nvSpPr>
          <p:spPr>
            <a:xfrm>
              <a:off x="1295280" y="1562040"/>
              <a:ext cx="7162560" cy="44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Toddlers = special body; good and bad tou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Ist grade = good hygiene; washing hands; foundation la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2nd-4th grade = body functions; body parts; sexual moles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with reinforced good &amp; bad touches; my special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5th-6th grade = facts age; STDs and transmission; where babies come from;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7th-8th grade = peer pressure; learning about feelings; dialogues of trust; community responsibility &amp; caring; sexual per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th-10th grade = perception can be more real than fact; attitudes; self-worth and 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11th-12th grade = dispel misconceptions; pro-activity on unbiblical values; mate values; career choices; risk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90720" y="1563480"/>
              <a:ext cx="203040" cy="162000"/>
              <a:chOff x="990720" y="1563480"/>
              <a:chExt cx="2030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990720" y="2085840"/>
              <a:ext cx="203040" cy="162000"/>
              <a:chOff x="990720" y="2085840"/>
              <a:chExt cx="203040" cy="162000"/>
            </a:xfrm>
          </p:grpSpPr>
          <p:sp>
            <p:nvSpPr>
              <p:cNvPr id="374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990720" y="2590560"/>
              <a:ext cx="203040" cy="162000"/>
              <a:chOff x="990720" y="2590560"/>
              <a:chExt cx="203040" cy="162000"/>
            </a:xfrm>
          </p:grpSpPr>
          <p:sp>
            <p:nvSpPr>
              <p:cNvPr id="377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3323880"/>
              <a:ext cx="203040" cy="162000"/>
              <a:chOff x="990720" y="3323880"/>
              <a:chExt cx="203040" cy="162000"/>
            </a:xfrm>
          </p:grpSpPr>
          <p:sp>
            <p:nvSpPr>
              <p:cNvPr id="380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720" y="4066920"/>
              <a:ext cx="203040" cy="162000"/>
              <a:chOff x="990720" y="4066920"/>
              <a:chExt cx="203040" cy="162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90720" y="4829040"/>
              <a:ext cx="203040" cy="162000"/>
              <a:chOff x="990720" y="4829040"/>
              <a:chExt cx="203040" cy="162000"/>
            </a:xfrm>
          </p:grpSpPr>
          <p:sp>
            <p:nvSpPr>
              <p:cNvPr id="386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990720" y="5533920"/>
              <a:ext cx="203040" cy="162000"/>
              <a:chOff x="990720" y="5533920"/>
              <a:chExt cx="203040" cy="162000"/>
            </a:xfrm>
          </p:grpSpPr>
          <p:sp>
            <p:nvSpPr>
              <p:cNvPr id="389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1052640"/>
            <a:ext cx="5486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DESIRE SEXUALITY TEACHING FIRST FROM THEIR PAR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0600" y="1676520"/>
            <a:ext cx="3669840" cy="4268160"/>
            <a:chOff x="4800600" y="1676520"/>
            <a:chExt cx="3669840" cy="4268160"/>
          </a:xfrm>
        </p:grpSpPr>
        <p:sp>
          <p:nvSpPr>
            <p:cNvPr id="393" name=""/>
            <p:cNvSpPr/>
            <p:nvPr/>
          </p:nvSpPr>
          <p:spPr>
            <a:xfrm>
              <a:off x="6761880" y="2149560"/>
              <a:ext cx="1708560" cy="3726720"/>
            </a:xfrm>
            <a:custGeom>
              <a:avLst/>
              <a:gdLst/>
              <a:ahLst/>
              <a:rect l="l" t="t" r="r" b="b"/>
              <a:pathLst>
                <a:path w="3947" h="8718">
                  <a:moveTo>
                    <a:pt x="11" y="5575"/>
                  </a:moveTo>
                  <a:lnTo>
                    <a:pt x="92" y="5702"/>
                  </a:lnTo>
                  <a:lnTo>
                    <a:pt x="138" y="5759"/>
                  </a:lnTo>
                  <a:lnTo>
                    <a:pt x="184" y="5793"/>
                  </a:lnTo>
                  <a:lnTo>
                    <a:pt x="241" y="5839"/>
                  </a:lnTo>
                  <a:lnTo>
                    <a:pt x="287" y="5873"/>
                  </a:lnTo>
                  <a:lnTo>
                    <a:pt x="344" y="5908"/>
                  </a:lnTo>
                  <a:lnTo>
                    <a:pt x="390" y="5943"/>
                  </a:lnTo>
                  <a:lnTo>
                    <a:pt x="436" y="5988"/>
                  </a:lnTo>
                  <a:lnTo>
                    <a:pt x="470" y="6045"/>
                  </a:lnTo>
                  <a:lnTo>
                    <a:pt x="550" y="6103"/>
                  </a:lnTo>
                  <a:lnTo>
                    <a:pt x="642" y="6171"/>
                  </a:lnTo>
                  <a:lnTo>
                    <a:pt x="723" y="6241"/>
                  </a:lnTo>
                  <a:lnTo>
                    <a:pt x="803" y="6310"/>
                  </a:lnTo>
                  <a:lnTo>
                    <a:pt x="883" y="6390"/>
                  </a:lnTo>
                  <a:lnTo>
                    <a:pt x="964" y="6470"/>
                  </a:lnTo>
                  <a:lnTo>
                    <a:pt x="1032" y="6551"/>
                  </a:lnTo>
                  <a:lnTo>
                    <a:pt x="1113" y="6630"/>
                  </a:lnTo>
                  <a:lnTo>
                    <a:pt x="1101" y="7181"/>
                  </a:lnTo>
                  <a:lnTo>
                    <a:pt x="1101" y="7193"/>
                  </a:lnTo>
                  <a:lnTo>
                    <a:pt x="1101" y="7204"/>
                  </a:lnTo>
                  <a:lnTo>
                    <a:pt x="1113" y="7216"/>
                  </a:lnTo>
                  <a:lnTo>
                    <a:pt x="1136" y="7216"/>
                  </a:lnTo>
                  <a:lnTo>
                    <a:pt x="1159" y="7227"/>
                  </a:lnTo>
                  <a:lnTo>
                    <a:pt x="1182" y="7216"/>
                  </a:lnTo>
                  <a:lnTo>
                    <a:pt x="1205" y="7216"/>
                  </a:lnTo>
                  <a:lnTo>
                    <a:pt x="1216" y="7204"/>
                  </a:lnTo>
                  <a:lnTo>
                    <a:pt x="1240" y="7181"/>
                  </a:lnTo>
                  <a:lnTo>
                    <a:pt x="1250" y="7169"/>
                  </a:lnTo>
                  <a:lnTo>
                    <a:pt x="1262" y="7147"/>
                  </a:lnTo>
                  <a:lnTo>
                    <a:pt x="1285" y="7124"/>
                  </a:lnTo>
                  <a:lnTo>
                    <a:pt x="1297" y="7101"/>
                  </a:lnTo>
                  <a:lnTo>
                    <a:pt x="1320" y="7078"/>
                  </a:lnTo>
                  <a:lnTo>
                    <a:pt x="1332" y="7055"/>
                  </a:lnTo>
                  <a:lnTo>
                    <a:pt x="1342" y="7032"/>
                  </a:lnTo>
                  <a:lnTo>
                    <a:pt x="1354" y="7010"/>
                  </a:lnTo>
                  <a:lnTo>
                    <a:pt x="1377" y="6986"/>
                  </a:lnTo>
                  <a:lnTo>
                    <a:pt x="1389" y="6963"/>
                  </a:lnTo>
                  <a:lnTo>
                    <a:pt x="1389" y="6940"/>
                  </a:lnTo>
                  <a:lnTo>
                    <a:pt x="1400" y="6929"/>
                  </a:lnTo>
                  <a:lnTo>
                    <a:pt x="1411" y="6906"/>
                  </a:lnTo>
                  <a:lnTo>
                    <a:pt x="1423" y="6894"/>
                  </a:lnTo>
                  <a:lnTo>
                    <a:pt x="1446" y="6883"/>
                  </a:lnTo>
                  <a:lnTo>
                    <a:pt x="1469" y="6871"/>
                  </a:lnTo>
                  <a:lnTo>
                    <a:pt x="1491" y="6861"/>
                  </a:lnTo>
                  <a:lnTo>
                    <a:pt x="1503" y="6849"/>
                  </a:lnTo>
                  <a:lnTo>
                    <a:pt x="1526" y="6837"/>
                  </a:lnTo>
                  <a:lnTo>
                    <a:pt x="1538" y="6814"/>
                  </a:lnTo>
                  <a:lnTo>
                    <a:pt x="1561" y="6791"/>
                  </a:lnTo>
                  <a:lnTo>
                    <a:pt x="1572" y="6757"/>
                  </a:lnTo>
                  <a:lnTo>
                    <a:pt x="1583" y="6734"/>
                  </a:lnTo>
                  <a:lnTo>
                    <a:pt x="1583" y="6700"/>
                  </a:lnTo>
                  <a:lnTo>
                    <a:pt x="1595" y="6677"/>
                  </a:lnTo>
                  <a:lnTo>
                    <a:pt x="1583" y="6630"/>
                  </a:lnTo>
                  <a:lnTo>
                    <a:pt x="1526" y="6561"/>
                  </a:lnTo>
                  <a:lnTo>
                    <a:pt x="1481" y="6481"/>
                  </a:lnTo>
                  <a:lnTo>
                    <a:pt x="1423" y="6412"/>
                  </a:lnTo>
                  <a:lnTo>
                    <a:pt x="1365" y="6332"/>
                  </a:lnTo>
                  <a:lnTo>
                    <a:pt x="1308" y="6263"/>
                  </a:lnTo>
                  <a:lnTo>
                    <a:pt x="1240" y="6195"/>
                  </a:lnTo>
                  <a:lnTo>
                    <a:pt x="1171" y="6126"/>
                  </a:lnTo>
                  <a:lnTo>
                    <a:pt x="1101" y="6057"/>
                  </a:lnTo>
                  <a:lnTo>
                    <a:pt x="1067" y="5977"/>
                  </a:lnTo>
                  <a:lnTo>
                    <a:pt x="1032" y="5896"/>
                  </a:lnTo>
                  <a:lnTo>
                    <a:pt x="999" y="5816"/>
                  </a:lnTo>
                  <a:lnTo>
                    <a:pt x="952" y="5747"/>
                  </a:lnTo>
                  <a:lnTo>
                    <a:pt x="895" y="5667"/>
                  </a:lnTo>
                  <a:lnTo>
                    <a:pt x="838" y="5610"/>
                  </a:lnTo>
                  <a:lnTo>
                    <a:pt x="769" y="5541"/>
                  </a:lnTo>
                  <a:lnTo>
                    <a:pt x="689" y="5484"/>
                  </a:lnTo>
                  <a:lnTo>
                    <a:pt x="689" y="5472"/>
                  </a:lnTo>
                  <a:lnTo>
                    <a:pt x="677" y="5472"/>
                  </a:lnTo>
                  <a:lnTo>
                    <a:pt x="677" y="5461"/>
                  </a:lnTo>
                  <a:lnTo>
                    <a:pt x="666" y="5461"/>
                  </a:lnTo>
                  <a:lnTo>
                    <a:pt x="666" y="5449"/>
                  </a:lnTo>
                  <a:lnTo>
                    <a:pt x="711" y="5346"/>
                  </a:lnTo>
                  <a:lnTo>
                    <a:pt x="769" y="5265"/>
                  </a:lnTo>
                  <a:lnTo>
                    <a:pt x="850" y="5197"/>
                  </a:lnTo>
                  <a:lnTo>
                    <a:pt x="940" y="5128"/>
                  </a:lnTo>
                  <a:lnTo>
                    <a:pt x="1021" y="5059"/>
                  </a:lnTo>
                  <a:lnTo>
                    <a:pt x="1113" y="4990"/>
                  </a:lnTo>
                  <a:lnTo>
                    <a:pt x="1193" y="4910"/>
                  </a:lnTo>
                  <a:lnTo>
                    <a:pt x="1250" y="4818"/>
                  </a:lnTo>
                  <a:lnTo>
                    <a:pt x="1273" y="4796"/>
                  </a:lnTo>
                  <a:lnTo>
                    <a:pt x="1297" y="4773"/>
                  </a:lnTo>
                  <a:lnTo>
                    <a:pt x="1320" y="4749"/>
                  </a:lnTo>
                  <a:lnTo>
                    <a:pt x="1354" y="4726"/>
                  </a:lnTo>
                  <a:lnTo>
                    <a:pt x="1377" y="4704"/>
                  </a:lnTo>
                  <a:lnTo>
                    <a:pt x="1400" y="4681"/>
                  </a:lnTo>
                  <a:lnTo>
                    <a:pt x="1434" y="4657"/>
                  </a:lnTo>
                  <a:lnTo>
                    <a:pt x="1457" y="4635"/>
                  </a:lnTo>
                  <a:lnTo>
                    <a:pt x="1630" y="5655"/>
                  </a:lnTo>
                  <a:lnTo>
                    <a:pt x="1859" y="5759"/>
                  </a:lnTo>
                  <a:lnTo>
                    <a:pt x="1848" y="5839"/>
                  </a:lnTo>
                  <a:lnTo>
                    <a:pt x="1848" y="5851"/>
                  </a:lnTo>
                  <a:lnTo>
                    <a:pt x="1859" y="5863"/>
                  </a:lnTo>
                  <a:lnTo>
                    <a:pt x="1871" y="5873"/>
                  </a:lnTo>
                  <a:lnTo>
                    <a:pt x="1882" y="5873"/>
                  </a:lnTo>
                  <a:lnTo>
                    <a:pt x="1928" y="6034"/>
                  </a:lnTo>
                  <a:lnTo>
                    <a:pt x="1951" y="6206"/>
                  </a:lnTo>
                  <a:lnTo>
                    <a:pt x="1963" y="6378"/>
                  </a:lnTo>
                  <a:lnTo>
                    <a:pt x="1973" y="6561"/>
                  </a:lnTo>
                  <a:lnTo>
                    <a:pt x="1985" y="6734"/>
                  </a:lnTo>
                  <a:lnTo>
                    <a:pt x="2020" y="6894"/>
                  </a:lnTo>
                  <a:lnTo>
                    <a:pt x="2077" y="7043"/>
                  </a:lnTo>
                  <a:lnTo>
                    <a:pt x="2180" y="7181"/>
                  </a:lnTo>
                  <a:lnTo>
                    <a:pt x="2238" y="7284"/>
                  </a:lnTo>
                  <a:lnTo>
                    <a:pt x="2283" y="7388"/>
                  </a:lnTo>
                  <a:lnTo>
                    <a:pt x="2330" y="7502"/>
                  </a:lnTo>
                  <a:lnTo>
                    <a:pt x="2375" y="7617"/>
                  </a:lnTo>
                  <a:lnTo>
                    <a:pt x="2410" y="7732"/>
                  </a:lnTo>
                  <a:lnTo>
                    <a:pt x="2433" y="7847"/>
                  </a:lnTo>
                  <a:lnTo>
                    <a:pt x="2444" y="7961"/>
                  </a:lnTo>
                  <a:lnTo>
                    <a:pt x="2444" y="8087"/>
                  </a:lnTo>
                  <a:lnTo>
                    <a:pt x="2467" y="8157"/>
                  </a:lnTo>
                  <a:lnTo>
                    <a:pt x="2490" y="8225"/>
                  </a:lnTo>
                  <a:lnTo>
                    <a:pt x="2490" y="8306"/>
                  </a:lnTo>
                  <a:lnTo>
                    <a:pt x="2479" y="8374"/>
                  </a:lnTo>
                  <a:lnTo>
                    <a:pt x="2467" y="8455"/>
                  </a:lnTo>
                  <a:lnTo>
                    <a:pt x="2467" y="8535"/>
                  </a:lnTo>
                  <a:lnTo>
                    <a:pt x="2455" y="8604"/>
                  </a:lnTo>
                  <a:lnTo>
                    <a:pt x="2455" y="8684"/>
                  </a:lnTo>
                  <a:lnTo>
                    <a:pt x="2455" y="8695"/>
                  </a:lnTo>
                  <a:lnTo>
                    <a:pt x="2467" y="8706"/>
                  </a:lnTo>
                  <a:lnTo>
                    <a:pt x="2479" y="8706"/>
                  </a:lnTo>
                  <a:lnTo>
                    <a:pt x="2490" y="8706"/>
                  </a:lnTo>
                  <a:lnTo>
                    <a:pt x="2502" y="8718"/>
                  </a:lnTo>
                  <a:lnTo>
                    <a:pt x="2513" y="8718"/>
                  </a:lnTo>
                  <a:lnTo>
                    <a:pt x="2524" y="8718"/>
                  </a:lnTo>
                  <a:lnTo>
                    <a:pt x="2547" y="8718"/>
                  </a:lnTo>
                  <a:lnTo>
                    <a:pt x="2559" y="8706"/>
                  </a:lnTo>
                  <a:lnTo>
                    <a:pt x="2571" y="8695"/>
                  </a:lnTo>
                  <a:lnTo>
                    <a:pt x="2571" y="8684"/>
                  </a:lnTo>
                  <a:lnTo>
                    <a:pt x="2582" y="8673"/>
                  </a:lnTo>
                  <a:lnTo>
                    <a:pt x="2594" y="8649"/>
                  </a:lnTo>
                  <a:lnTo>
                    <a:pt x="2604" y="8638"/>
                  </a:lnTo>
                  <a:lnTo>
                    <a:pt x="2616" y="8626"/>
                  </a:lnTo>
                  <a:lnTo>
                    <a:pt x="2628" y="8614"/>
                  </a:lnTo>
                  <a:lnTo>
                    <a:pt x="2708" y="8649"/>
                  </a:lnTo>
                  <a:lnTo>
                    <a:pt x="2972" y="8569"/>
                  </a:lnTo>
                  <a:lnTo>
                    <a:pt x="2984" y="8535"/>
                  </a:lnTo>
                  <a:lnTo>
                    <a:pt x="2984" y="8500"/>
                  </a:lnTo>
                  <a:lnTo>
                    <a:pt x="2984" y="8465"/>
                  </a:lnTo>
                  <a:lnTo>
                    <a:pt x="2961" y="8432"/>
                  </a:lnTo>
                  <a:lnTo>
                    <a:pt x="2949" y="8397"/>
                  </a:lnTo>
                  <a:lnTo>
                    <a:pt x="2926" y="8363"/>
                  </a:lnTo>
                  <a:lnTo>
                    <a:pt x="2914" y="8328"/>
                  </a:lnTo>
                  <a:lnTo>
                    <a:pt x="2892" y="8294"/>
                  </a:lnTo>
                  <a:lnTo>
                    <a:pt x="2800" y="8133"/>
                  </a:lnTo>
                  <a:lnTo>
                    <a:pt x="2731" y="7961"/>
                  </a:lnTo>
                  <a:lnTo>
                    <a:pt x="2685" y="7777"/>
                  </a:lnTo>
                  <a:lnTo>
                    <a:pt x="2651" y="7583"/>
                  </a:lnTo>
                  <a:lnTo>
                    <a:pt x="2628" y="7388"/>
                  </a:lnTo>
                  <a:lnTo>
                    <a:pt x="2604" y="7193"/>
                  </a:lnTo>
                  <a:lnTo>
                    <a:pt x="2582" y="7010"/>
                  </a:lnTo>
                  <a:lnTo>
                    <a:pt x="2547" y="6826"/>
                  </a:lnTo>
                  <a:lnTo>
                    <a:pt x="2467" y="6596"/>
                  </a:lnTo>
                  <a:lnTo>
                    <a:pt x="2422" y="6367"/>
                  </a:lnTo>
                  <a:lnTo>
                    <a:pt x="2387" y="6137"/>
                  </a:lnTo>
                  <a:lnTo>
                    <a:pt x="2375" y="5908"/>
                  </a:lnTo>
                  <a:lnTo>
                    <a:pt x="2375" y="5679"/>
                  </a:lnTo>
                  <a:lnTo>
                    <a:pt x="2387" y="5449"/>
                  </a:lnTo>
                  <a:lnTo>
                    <a:pt x="2410" y="5220"/>
                  </a:lnTo>
                  <a:lnTo>
                    <a:pt x="2422" y="4990"/>
                  </a:lnTo>
                  <a:lnTo>
                    <a:pt x="2433" y="4818"/>
                  </a:lnTo>
                  <a:lnTo>
                    <a:pt x="2455" y="4635"/>
                  </a:lnTo>
                  <a:lnTo>
                    <a:pt x="2479" y="4451"/>
                  </a:lnTo>
                  <a:lnTo>
                    <a:pt x="2490" y="4267"/>
                  </a:lnTo>
                  <a:lnTo>
                    <a:pt x="2502" y="4084"/>
                  </a:lnTo>
                  <a:lnTo>
                    <a:pt x="2490" y="3912"/>
                  </a:lnTo>
                  <a:lnTo>
                    <a:pt x="2444" y="3740"/>
                  </a:lnTo>
                  <a:lnTo>
                    <a:pt x="2375" y="3568"/>
                  </a:lnTo>
                  <a:lnTo>
                    <a:pt x="2363" y="3568"/>
                  </a:lnTo>
                  <a:lnTo>
                    <a:pt x="2353" y="3568"/>
                  </a:lnTo>
                  <a:lnTo>
                    <a:pt x="2341" y="3568"/>
                  </a:lnTo>
                  <a:lnTo>
                    <a:pt x="2330" y="3557"/>
                  </a:lnTo>
                  <a:lnTo>
                    <a:pt x="2330" y="3545"/>
                  </a:lnTo>
                  <a:lnTo>
                    <a:pt x="2318" y="3534"/>
                  </a:lnTo>
                  <a:lnTo>
                    <a:pt x="2363" y="3419"/>
                  </a:lnTo>
                  <a:lnTo>
                    <a:pt x="2410" y="3304"/>
                  </a:lnTo>
                  <a:lnTo>
                    <a:pt x="2467" y="3201"/>
                  </a:lnTo>
                  <a:lnTo>
                    <a:pt x="2536" y="3098"/>
                  </a:lnTo>
                  <a:lnTo>
                    <a:pt x="2604" y="3006"/>
                  </a:lnTo>
                  <a:lnTo>
                    <a:pt x="2685" y="2914"/>
                  </a:lnTo>
                  <a:lnTo>
                    <a:pt x="2765" y="2822"/>
                  </a:lnTo>
                  <a:lnTo>
                    <a:pt x="2869" y="2731"/>
                  </a:lnTo>
                  <a:lnTo>
                    <a:pt x="2880" y="2742"/>
                  </a:lnTo>
                  <a:lnTo>
                    <a:pt x="2892" y="2742"/>
                  </a:lnTo>
                  <a:lnTo>
                    <a:pt x="2892" y="2753"/>
                  </a:lnTo>
                  <a:lnTo>
                    <a:pt x="2892" y="2765"/>
                  </a:lnTo>
                  <a:lnTo>
                    <a:pt x="2904" y="2777"/>
                  </a:lnTo>
                  <a:lnTo>
                    <a:pt x="2892" y="2857"/>
                  </a:lnTo>
                  <a:lnTo>
                    <a:pt x="2892" y="2937"/>
                  </a:lnTo>
                  <a:lnTo>
                    <a:pt x="2914" y="3018"/>
                  </a:lnTo>
                  <a:lnTo>
                    <a:pt x="2926" y="3086"/>
                  </a:lnTo>
                  <a:lnTo>
                    <a:pt x="2949" y="3167"/>
                  </a:lnTo>
                  <a:lnTo>
                    <a:pt x="2972" y="3247"/>
                  </a:lnTo>
                  <a:lnTo>
                    <a:pt x="2995" y="3316"/>
                  </a:lnTo>
                  <a:lnTo>
                    <a:pt x="3018" y="3396"/>
                  </a:lnTo>
                  <a:lnTo>
                    <a:pt x="3041" y="3430"/>
                  </a:lnTo>
                  <a:lnTo>
                    <a:pt x="3053" y="3453"/>
                  </a:lnTo>
                  <a:lnTo>
                    <a:pt x="3064" y="3488"/>
                  </a:lnTo>
                  <a:lnTo>
                    <a:pt x="3075" y="3522"/>
                  </a:lnTo>
                  <a:lnTo>
                    <a:pt x="3098" y="3557"/>
                  </a:lnTo>
                  <a:lnTo>
                    <a:pt x="3110" y="3591"/>
                  </a:lnTo>
                  <a:lnTo>
                    <a:pt x="3133" y="3614"/>
                  </a:lnTo>
                  <a:lnTo>
                    <a:pt x="3155" y="3637"/>
                  </a:lnTo>
                  <a:lnTo>
                    <a:pt x="3259" y="3568"/>
                  </a:lnTo>
                  <a:lnTo>
                    <a:pt x="3833" y="2433"/>
                  </a:lnTo>
                  <a:lnTo>
                    <a:pt x="3856" y="2353"/>
                  </a:lnTo>
                  <a:lnTo>
                    <a:pt x="3878" y="2261"/>
                  </a:lnTo>
                  <a:lnTo>
                    <a:pt x="3902" y="2169"/>
                  </a:lnTo>
                  <a:lnTo>
                    <a:pt x="3925" y="2088"/>
                  </a:lnTo>
                  <a:lnTo>
                    <a:pt x="3936" y="1996"/>
                  </a:lnTo>
                  <a:lnTo>
                    <a:pt x="3947" y="1916"/>
                  </a:lnTo>
                  <a:lnTo>
                    <a:pt x="3936" y="1836"/>
                  </a:lnTo>
                  <a:lnTo>
                    <a:pt x="3913" y="1755"/>
                  </a:lnTo>
                  <a:lnTo>
                    <a:pt x="3902" y="1755"/>
                  </a:lnTo>
                  <a:lnTo>
                    <a:pt x="3890" y="1755"/>
                  </a:lnTo>
                  <a:lnTo>
                    <a:pt x="3878" y="1755"/>
                  </a:lnTo>
                  <a:lnTo>
                    <a:pt x="3867" y="1755"/>
                  </a:lnTo>
                  <a:lnTo>
                    <a:pt x="3844" y="1767"/>
                  </a:lnTo>
                  <a:lnTo>
                    <a:pt x="3821" y="1790"/>
                  </a:lnTo>
                  <a:lnTo>
                    <a:pt x="3798" y="1814"/>
                  </a:lnTo>
                  <a:lnTo>
                    <a:pt x="3786" y="1836"/>
                  </a:lnTo>
                  <a:lnTo>
                    <a:pt x="3776" y="1871"/>
                  </a:lnTo>
                  <a:lnTo>
                    <a:pt x="3764" y="1894"/>
                  </a:lnTo>
                  <a:lnTo>
                    <a:pt x="3752" y="1928"/>
                  </a:lnTo>
                  <a:lnTo>
                    <a:pt x="3741" y="1963"/>
                  </a:lnTo>
                  <a:lnTo>
                    <a:pt x="3729" y="1963"/>
                  </a:lnTo>
                  <a:lnTo>
                    <a:pt x="3718" y="1963"/>
                  </a:lnTo>
                  <a:lnTo>
                    <a:pt x="3684" y="1882"/>
                  </a:lnTo>
                  <a:lnTo>
                    <a:pt x="3672" y="1871"/>
                  </a:lnTo>
                  <a:lnTo>
                    <a:pt x="3661" y="1871"/>
                  </a:lnTo>
                  <a:lnTo>
                    <a:pt x="3649" y="1871"/>
                  </a:lnTo>
                  <a:lnTo>
                    <a:pt x="3637" y="1871"/>
                  </a:lnTo>
                  <a:lnTo>
                    <a:pt x="3627" y="1871"/>
                  </a:lnTo>
                  <a:lnTo>
                    <a:pt x="3603" y="2008"/>
                  </a:lnTo>
                  <a:lnTo>
                    <a:pt x="3592" y="2146"/>
                  </a:lnTo>
                  <a:lnTo>
                    <a:pt x="3569" y="2283"/>
                  </a:lnTo>
                  <a:lnTo>
                    <a:pt x="3535" y="2410"/>
                  </a:lnTo>
                  <a:lnTo>
                    <a:pt x="3500" y="2536"/>
                  </a:lnTo>
                  <a:lnTo>
                    <a:pt x="3454" y="2651"/>
                  </a:lnTo>
                  <a:lnTo>
                    <a:pt x="3386" y="2765"/>
                  </a:lnTo>
                  <a:lnTo>
                    <a:pt x="3305" y="2857"/>
                  </a:lnTo>
                  <a:lnTo>
                    <a:pt x="3294" y="2857"/>
                  </a:lnTo>
                  <a:lnTo>
                    <a:pt x="3282" y="2857"/>
                  </a:lnTo>
                  <a:lnTo>
                    <a:pt x="3259" y="2696"/>
                  </a:lnTo>
                  <a:lnTo>
                    <a:pt x="3259" y="2524"/>
                  </a:lnTo>
                  <a:lnTo>
                    <a:pt x="3270" y="2353"/>
                  </a:lnTo>
                  <a:lnTo>
                    <a:pt x="3282" y="2180"/>
                  </a:lnTo>
                  <a:lnTo>
                    <a:pt x="3270" y="2020"/>
                  </a:lnTo>
                  <a:lnTo>
                    <a:pt x="3225" y="1871"/>
                  </a:lnTo>
                  <a:lnTo>
                    <a:pt x="3133" y="1733"/>
                  </a:lnTo>
                  <a:lnTo>
                    <a:pt x="2995" y="1618"/>
                  </a:lnTo>
                  <a:lnTo>
                    <a:pt x="2995" y="1606"/>
                  </a:lnTo>
                  <a:lnTo>
                    <a:pt x="2984" y="1596"/>
                  </a:lnTo>
                  <a:lnTo>
                    <a:pt x="2984" y="1584"/>
                  </a:lnTo>
                  <a:lnTo>
                    <a:pt x="3213" y="1412"/>
                  </a:lnTo>
                  <a:lnTo>
                    <a:pt x="3408" y="1045"/>
                  </a:lnTo>
                  <a:lnTo>
                    <a:pt x="3408" y="1033"/>
                  </a:lnTo>
                  <a:lnTo>
                    <a:pt x="3408" y="1022"/>
                  </a:lnTo>
                  <a:lnTo>
                    <a:pt x="3408" y="1010"/>
                  </a:lnTo>
                  <a:lnTo>
                    <a:pt x="3396" y="1010"/>
                  </a:lnTo>
                  <a:lnTo>
                    <a:pt x="3396" y="998"/>
                  </a:lnTo>
                  <a:lnTo>
                    <a:pt x="3386" y="987"/>
                  </a:lnTo>
                  <a:lnTo>
                    <a:pt x="3386" y="976"/>
                  </a:lnTo>
                  <a:lnTo>
                    <a:pt x="3396" y="953"/>
                  </a:lnTo>
                  <a:lnTo>
                    <a:pt x="3408" y="941"/>
                  </a:lnTo>
                  <a:lnTo>
                    <a:pt x="3419" y="930"/>
                  </a:lnTo>
                  <a:lnTo>
                    <a:pt x="3431" y="918"/>
                  </a:lnTo>
                  <a:lnTo>
                    <a:pt x="3443" y="908"/>
                  </a:lnTo>
                  <a:lnTo>
                    <a:pt x="3454" y="896"/>
                  </a:lnTo>
                  <a:lnTo>
                    <a:pt x="3466" y="884"/>
                  </a:lnTo>
                  <a:lnTo>
                    <a:pt x="3477" y="849"/>
                  </a:lnTo>
                  <a:lnTo>
                    <a:pt x="3500" y="816"/>
                  </a:lnTo>
                  <a:lnTo>
                    <a:pt x="3523" y="769"/>
                  </a:lnTo>
                  <a:lnTo>
                    <a:pt x="3535" y="735"/>
                  </a:lnTo>
                  <a:lnTo>
                    <a:pt x="3557" y="689"/>
                  </a:lnTo>
                  <a:lnTo>
                    <a:pt x="3569" y="643"/>
                  </a:lnTo>
                  <a:lnTo>
                    <a:pt x="3569" y="598"/>
                  </a:lnTo>
                  <a:lnTo>
                    <a:pt x="3569" y="551"/>
                  </a:lnTo>
                  <a:lnTo>
                    <a:pt x="3557" y="540"/>
                  </a:lnTo>
                  <a:lnTo>
                    <a:pt x="3557" y="528"/>
                  </a:lnTo>
                  <a:lnTo>
                    <a:pt x="3545" y="528"/>
                  </a:lnTo>
                  <a:lnTo>
                    <a:pt x="3545" y="517"/>
                  </a:lnTo>
                  <a:lnTo>
                    <a:pt x="3535" y="517"/>
                  </a:lnTo>
                  <a:lnTo>
                    <a:pt x="3500" y="265"/>
                  </a:lnTo>
                  <a:lnTo>
                    <a:pt x="3362" y="173"/>
                  </a:lnTo>
                  <a:lnTo>
                    <a:pt x="3339" y="59"/>
                  </a:lnTo>
                  <a:lnTo>
                    <a:pt x="3282" y="12"/>
                  </a:lnTo>
                  <a:lnTo>
                    <a:pt x="3259" y="12"/>
                  </a:lnTo>
                  <a:lnTo>
                    <a:pt x="3247" y="12"/>
                  </a:lnTo>
                  <a:lnTo>
                    <a:pt x="3236" y="24"/>
                  </a:lnTo>
                  <a:lnTo>
                    <a:pt x="3225" y="24"/>
                  </a:lnTo>
                  <a:lnTo>
                    <a:pt x="3213" y="35"/>
                  </a:lnTo>
                  <a:lnTo>
                    <a:pt x="3202" y="47"/>
                  </a:lnTo>
                  <a:lnTo>
                    <a:pt x="3190" y="47"/>
                  </a:lnTo>
                  <a:lnTo>
                    <a:pt x="3167" y="47"/>
                  </a:lnTo>
                  <a:lnTo>
                    <a:pt x="3155" y="35"/>
                  </a:lnTo>
                  <a:lnTo>
                    <a:pt x="3155" y="24"/>
                  </a:lnTo>
                  <a:lnTo>
                    <a:pt x="3145" y="24"/>
                  </a:lnTo>
                  <a:lnTo>
                    <a:pt x="3145" y="12"/>
                  </a:lnTo>
                  <a:lnTo>
                    <a:pt x="3133" y="12"/>
                  </a:lnTo>
                  <a:lnTo>
                    <a:pt x="2845" y="0"/>
                  </a:lnTo>
                  <a:lnTo>
                    <a:pt x="2835" y="12"/>
                  </a:lnTo>
                  <a:lnTo>
                    <a:pt x="2823" y="24"/>
                  </a:lnTo>
                  <a:lnTo>
                    <a:pt x="2812" y="47"/>
                  </a:lnTo>
                  <a:lnTo>
                    <a:pt x="2812" y="69"/>
                  </a:lnTo>
                  <a:lnTo>
                    <a:pt x="2800" y="92"/>
                  </a:lnTo>
                  <a:lnTo>
                    <a:pt x="2788" y="104"/>
                  </a:lnTo>
                  <a:lnTo>
                    <a:pt x="2777" y="127"/>
                  </a:lnTo>
                  <a:lnTo>
                    <a:pt x="2765" y="139"/>
                  </a:lnTo>
                  <a:lnTo>
                    <a:pt x="2628" y="139"/>
                  </a:lnTo>
                  <a:lnTo>
                    <a:pt x="2616" y="139"/>
                  </a:lnTo>
                  <a:lnTo>
                    <a:pt x="2604" y="150"/>
                  </a:lnTo>
                  <a:lnTo>
                    <a:pt x="2582" y="161"/>
                  </a:lnTo>
                  <a:lnTo>
                    <a:pt x="2571" y="173"/>
                  </a:lnTo>
                  <a:lnTo>
                    <a:pt x="2559" y="184"/>
                  </a:lnTo>
                  <a:lnTo>
                    <a:pt x="2547" y="208"/>
                  </a:lnTo>
                  <a:lnTo>
                    <a:pt x="2536" y="219"/>
                  </a:lnTo>
                  <a:lnTo>
                    <a:pt x="2536" y="242"/>
                  </a:lnTo>
                  <a:lnTo>
                    <a:pt x="2122" y="517"/>
                  </a:lnTo>
                  <a:lnTo>
                    <a:pt x="1985" y="517"/>
                  </a:lnTo>
                  <a:lnTo>
                    <a:pt x="1973" y="528"/>
                  </a:lnTo>
                  <a:lnTo>
                    <a:pt x="1963" y="551"/>
                  </a:lnTo>
                  <a:lnTo>
                    <a:pt x="1963" y="563"/>
                  </a:lnTo>
                  <a:lnTo>
                    <a:pt x="1973" y="586"/>
                  </a:lnTo>
                  <a:lnTo>
                    <a:pt x="1973" y="608"/>
                  </a:lnTo>
                  <a:lnTo>
                    <a:pt x="1985" y="620"/>
                  </a:lnTo>
                  <a:lnTo>
                    <a:pt x="1985" y="643"/>
                  </a:lnTo>
                  <a:lnTo>
                    <a:pt x="1973" y="666"/>
                  </a:lnTo>
                  <a:lnTo>
                    <a:pt x="1963" y="678"/>
                  </a:lnTo>
                  <a:lnTo>
                    <a:pt x="1939" y="678"/>
                  </a:lnTo>
                  <a:lnTo>
                    <a:pt x="1928" y="689"/>
                  </a:lnTo>
                  <a:lnTo>
                    <a:pt x="1905" y="689"/>
                  </a:lnTo>
                  <a:lnTo>
                    <a:pt x="1882" y="678"/>
                  </a:lnTo>
                  <a:lnTo>
                    <a:pt x="1859" y="678"/>
                  </a:lnTo>
                  <a:lnTo>
                    <a:pt x="1848" y="666"/>
                  </a:lnTo>
                  <a:lnTo>
                    <a:pt x="1836" y="655"/>
                  </a:lnTo>
                  <a:lnTo>
                    <a:pt x="1824" y="643"/>
                  </a:lnTo>
                  <a:lnTo>
                    <a:pt x="1813" y="632"/>
                  </a:lnTo>
                  <a:lnTo>
                    <a:pt x="1813" y="620"/>
                  </a:lnTo>
                  <a:lnTo>
                    <a:pt x="1802" y="608"/>
                  </a:lnTo>
                  <a:lnTo>
                    <a:pt x="1790" y="598"/>
                  </a:lnTo>
                  <a:lnTo>
                    <a:pt x="1779" y="586"/>
                  </a:lnTo>
                  <a:lnTo>
                    <a:pt x="1779" y="575"/>
                  </a:lnTo>
                  <a:lnTo>
                    <a:pt x="1756" y="575"/>
                  </a:lnTo>
                  <a:lnTo>
                    <a:pt x="1744" y="563"/>
                  </a:lnTo>
                  <a:lnTo>
                    <a:pt x="1722" y="563"/>
                  </a:lnTo>
                  <a:lnTo>
                    <a:pt x="1698" y="563"/>
                  </a:lnTo>
                  <a:lnTo>
                    <a:pt x="1675" y="563"/>
                  </a:lnTo>
                  <a:lnTo>
                    <a:pt x="1652" y="575"/>
                  </a:lnTo>
                  <a:lnTo>
                    <a:pt x="1630" y="586"/>
                  </a:lnTo>
                  <a:lnTo>
                    <a:pt x="1618" y="598"/>
                  </a:lnTo>
                  <a:lnTo>
                    <a:pt x="1606" y="608"/>
                  </a:lnTo>
                  <a:lnTo>
                    <a:pt x="1606" y="620"/>
                  </a:lnTo>
                  <a:lnTo>
                    <a:pt x="1618" y="632"/>
                  </a:lnTo>
                  <a:lnTo>
                    <a:pt x="1618" y="643"/>
                  </a:lnTo>
                  <a:lnTo>
                    <a:pt x="1630" y="666"/>
                  </a:lnTo>
                  <a:lnTo>
                    <a:pt x="1630" y="678"/>
                  </a:lnTo>
                  <a:lnTo>
                    <a:pt x="1641" y="689"/>
                  </a:lnTo>
                  <a:lnTo>
                    <a:pt x="1641" y="700"/>
                  </a:lnTo>
                  <a:lnTo>
                    <a:pt x="1641" y="712"/>
                  </a:lnTo>
                  <a:lnTo>
                    <a:pt x="1641" y="724"/>
                  </a:lnTo>
                  <a:lnTo>
                    <a:pt x="1641" y="735"/>
                  </a:lnTo>
                  <a:lnTo>
                    <a:pt x="1641" y="747"/>
                  </a:lnTo>
                  <a:lnTo>
                    <a:pt x="1641" y="757"/>
                  </a:lnTo>
                  <a:lnTo>
                    <a:pt x="1698" y="792"/>
                  </a:lnTo>
                  <a:lnTo>
                    <a:pt x="1744" y="816"/>
                  </a:lnTo>
                  <a:lnTo>
                    <a:pt x="1813" y="827"/>
                  </a:lnTo>
                  <a:lnTo>
                    <a:pt x="1871" y="838"/>
                  </a:lnTo>
                  <a:lnTo>
                    <a:pt x="1928" y="838"/>
                  </a:lnTo>
                  <a:lnTo>
                    <a:pt x="1997" y="838"/>
                  </a:lnTo>
                  <a:lnTo>
                    <a:pt x="2054" y="827"/>
                  </a:lnTo>
                  <a:lnTo>
                    <a:pt x="2122" y="804"/>
                  </a:lnTo>
                  <a:lnTo>
                    <a:pt x="2100" y="838"/>
                  </a:lnTo>
                  <a:lnTo>
                    <a:pt x="2089" y="861"/>
                  </a:lnTo>
                  <a:lnTo>
                    <a:pt x="2054" y="896"/>
                  </a:lnTo>
                  <a:lnTo>
                    <a:pt x="2020" y="908"/>
                  </a:lnTo>
                  <a:lnTo>
                    <a:pt x="1985" y="930"/>
                  </a:lnTo>
                  <a:lnTo>
                    <a:pt x="1951" y="941"/>
                  </a:lnTo>
                  <a:lnTo>
                    <a:pt x="1916" y="965"/>
                  </a:lnTo>
                  <a:lnTo>
                    <a:pt x="1882" y="976"/>
                  </a:lnTo>
                  <a:lnTo>
                    <a:pt x="1457" y="861"/>
                  </a:lnTo>
                  <a:lnTo>
                    <a:pt x="1400" y="792"/>
                  </a:lnTo>
                  <a:lnTo>
                    <a:pt x="1332" y="735"/>
                  </a:lnTo>
                  <a:lnTo>
                    <a:pt x="1262" y="689"/>
                  </a:lnTo>
                  <a:lnTo>
                    <a:pt x="1182" y="643"/>
                  </a:lnTo>
                  <a:lnTo>
                    <a:pt x="1091" y="598"/>
                  </a:lnTo>
                  <a:lnTo>
                    <a:pt x="1021" y="540"/>
                  </a:lnTo>
                  <a:lnTo>
                    <a:pt x="940" y="483"/>
                  </a:lnTo>
                  <a:lnTo>
                    <a:pt x="883" y="414"/>
                  </a:lnTo>
                  <a:lnTo>
                    <a:pt x="872" y="368"/>
                  </a:lnTo>
                  <a:lnTo>
                    <a:pt x="860" y="333"/>
                  </a:lnTo>
                  <a:lnTo>
                    <a:pt x="860" y="288"/>
                  </a:lnTo>
                  <a:lnTo>
                    <a:pt x="850" y="253"/>
                  </a:lnTo>
                  <a:lnTo>
                    <a:pt x="850" y="219"/>
                  </a:lnTo>
                  <a:lnTo>
                    <a:pt x="838" y="173"/>
                  </a:lnTo>
                  <a:lnTo>
                    <a:pt x="826" y="139"/>
                  </a:lnTo>
                  <a:lnTo>
                    <a:pt x="815" y="104"/>
                  </a:lnTo>
                  <a:lnTo>
                    <a:pt x="711" y="35"/>
                  </a:lnTo>
                  <a:lnTo>
                    <a:pt x="390" y="24"/>
                  </a:lnTo>
                  <a:lnTo>
                    <a:pt x="379" y="35"/>
                  </a:lnTo>
                  <a:lnTo>
                    <a:pt x="379" y="47"/>
                  </a:lnTo>
                  <a:lnTo>
                    <a:pt x="367" y="59"/>
                  </a:lnTo>
                  <a:lnTo>
                    <a:pt x="367" y="69"/>
                  </a:lnTo>
                  <a:lnTo>
                    <a:pt x="367" y="81"/>
                  </a:lnTo>
                  <a:lnTo>
                    <a:pt x="367" y="92"/>
                  </a:lnTo>
                  <a:lnTo>
                    <a:pt x="367" y="116"/>
                  </a:lnTo>
                  <a:lnTo>
                    <a:pt x="367" y="127"/>
                  </a:lnTo>
                  <a:lnTo>
                    <a:pt x="333" y="208"/>
                  </a:lnTo>
                  <a:lnTo>
                    <a:pt x="390" y="414"/>
                  </a:lnTo>
                  <a:lnTo>
                    <a:pt x="528" y="494"/>
                  </a:lnTo>
                  <a:lnTo>
                    <a:pt x="642" y="598"/>
                  </a:lnTo>
                  <a:lnTo>
                    <a:pt x="746" y="712"/>
                  </a:lnTo>
                  <a:lnTo>
                    <a:pt x="850" y="838"/>
                  </a:lnTo>
                  <a:lnTo>
                    <a:pt x="952" y="953"/>
                  </a:lnTo>
                  <a:lnTo>
                    <a:pt x="1067" y="1067"/>
                  </a:lnTo>
                  <a:lnTo>
                    <a:pt x="1205" y="1148"/>
                  </a:lnTo>
                  <a:lnTo>
                    <a:pt x="1354" y="1194"/>
                  </a:lnTo>
                  <a:lnTo>
                    <a:pt x="1389" y="1228"/>
                  </a:lnTo>
                  <a:lnTo>
                    <a:pt x="1434" y="1251"/>
                  </a:lnTo>
                  <a:lnTo>
                    <a:pt x="1481" y="1274"/>
                  </a:lnTo>
                  <a:lnTo>
                    <a:pt x="1526" y="1286"/>
                  </a:lnTo>
                  <a:lnTo>
                    <a:pt x="1572" y="1308"/>
                  </a:lnTo>
                  <a:lnTo>
                    <a:pt x="1618" y="1331"/>
                  </a:lnTo>
                  <a:lnTo>
                    <a:pt x="1652" y="1365"/>
                  </a:lnTo>
                  <a:lnTo>
                    <a:pt x="1675" y="1412"/>
                  </a:lnTo>
                  <a:lnTo>
                    <a:pt x="1675" y="1423"/>
                  </a:lnTo>
                  <a:lnTo>
                    <a:pt x="1675" y="1435"/>
                  </a:lnTo>
                  <a:lnTo>
                    <a:pt x="1675" y="1446"/>
                  </a:lnTo>
                  <a:lnTo>
                    <a:pt x="1675" y="1457"/>
                  </a:lnTo>
                  <a:lnTo>
                    <a:pt x="1675" y="1469"/>
                  </a:lnTo>
                  <a:lnTo>
                    <a:pt x="1675" y="1481"/>
                  </a:lnTo>
                  <a:lnTo>
                    <a:pt x="1687" y="1481"/>
                  </a:lnTo>
                  <a:lnTo>
                    <a:pt x="1687" y="1492"/>
                  </a:lnTo>
                  <a:lnTo>
                    <a:pt x="1698" y="1492"/>
                  </a:lnTo>
                  <a:lnTo>
                    <a:pt x="1698" y="1504"/>
                  </a:lnTo>
                  <a:lnTo>
                    <a:pt x="1652" y="1549"/>
                  </a:lnTo>
                  <a:lnTo>
                    <a:pt x="1595" y="1596"/>
                  </a:lnTo>
                  <a:lnTo>
                    <a:pt x="1538" y="1653"/>
                  </a:lnTo>
                  <a:lnTo>
                    <a:pt x="1491" y="1710"/>
                  </a:lnTo>
                  <a:lnTo>
                    <a:pt x="1434" y="1767"/>
                  </a:lnTo>
                  <a:lnTo>
                    <a:pt x="1389" y="1836"/>
                  </a:lnTo>
                  <a:lnTo>
                    <a:pt x="1354" y="1904"/>
                  </a:lnTo>
                  <a:lnTo>
                    <a:pt x="1320" y="1974"/>
                  </a:lnTo>
                  <a:lnTo>
                    <a:pt x="1332" y="2008"/>
                  </a:lnTo>
                  <a:lnTo>
                    <a:pt x="1332" y="2031"/>
                  </a:lnTo>
                  <a:lnTo>
                    <a:pt x="1342" y="2055"/>
                  </a:lnTo>
                  <a:lnTo>
                    <a:pt x="1354" y="2077"/>
                  </a:lnTo>
                  <a:lnTo>
                    <a:pt x="1365" y="2100"/>
                  </a:lnTo>
                  <a:lnTo>
                    <a:pt x="1377" y="2123"/>
                  </a:lnTo>
                  <a:lnTo>
                    <a:pt x="1389" y="2146"/>
                  </a:lnTo>
                  <a:lnTo>
                    <a:pt x="1400" y="2169"/>
                  </a:lnTo>
                  <a:lnTo>
                    <a:pt x="1411" y="2169"/>
                  </a:lnTo>
                  <a:lnTo>
                    <a:pt x="1423" y="2180"/>
                  </a:lnTo>
                  <a:lnTo>
                    <a:pt x="1446" y="2180"/>
                  </a:lnTo>
                  <a:lnTo>
                    <a:pt x="1457" y="2192"/>
                  </a:lnTo>
                  <a:lnTo>
                    <a:pt x="1469" y="2204"/>
                  </a:lnTo>
                  <a:lnTo>
                    <a:pt x="1481" y="2214"/>
                  </a:lnTo>
                  <a:lnTo>
                    <a:pt x="1481" y="2226"/>
                  </a:lnTo>
                  <a:lnTo>
                    <a:pt x="1491" y="2249"/>
                  </a:lnTo>
                  <a:lnTo>
                    <a:pt x="1446" y="2375"/>
                  </a:lnTo>
                  <a:lnTo>
                    <a:pt x="1411" y="2502"/>
                  </a:lnTo>
                  <a:lnTo>
                    <a:pt x="1389" y="2628"/>
                  </a:lnTo>
                  <a:lnTo>
                    <a:pt x="1377" y="2753"/>
                  </a:lnTo>
                  <a:lnTo>
                    <a:pt x="1354" y="2892"/>
                  </a:lnTo>
                  <a:lnTo>
                    <a:pt x="1342" y="3018"/>
                  </a:lnTo>
                  <a:lnTo>
                    <a:pt x="1320" y="3155"/>
                  </a:lnTo>
                  <a:lnTo>
                    <a:pt x="1285" y="3281"/>
                  </a:lnTo>
                  <a:lnTo>
                    <a:pt x="1205" y="3361"/>
                  </a:lnTo>
                  <a:lnTo>
                    <a:pt x="1136" y="3453"/>
                  </a:lnTo>
                  <a:lnTo>
                    <a:pt x="1067" y="3534"/>
                  </a:lnTo>
                  <a:lnTo>
                    <a:pt x="999" y="3626"/>
                  </a:lnTo>
                  <a:lnTo>
                    <a:pt x="940" y="3718"/>
                  </a:lnTo>
                  <a:lnTo>
                    <a:pt x="883" y="3820"/>
                  </a:lnTo>
                  <a:lnTo>
                    <a:pt x="815" y="3912"/>
                  </a:lnTo>
                  <a:lnTo>
                    <a:pt x="758" y="4004"/>
                  </a:lnTo>
                  <a:lnTo>
                    <a:pt x="699" y="4118"/>
                  </a:lnTo>
                  <a:lnTo>
                    <a:pt x="631" y="4233"/>
                  </a:lnTo>
                  <a:lnTo>
                    <a:pt x="574" y="4337"/>
                  </a:lnTo>
                  <a:lnTo>
                    <a:pt x="505" y="4440"/>
                  </a:lnTo>
                  <a:lnTo>
                    <a:pt x="448" y="4543"/>
                  </a:lnTo>
                  <a:lnTo>
                    <a:pt x="390" y="4647"/>
                  </a:lnTo>
                  <a:lnTo>
                    <a:pt x="333" y="4761"/>
                  </a:lnTo>
                  <a:lnTo>
                    <a:pt x="276" y="4875"/>
                  </a:lnTo>
                  <a:lnTo>
                    <a:pt x="299" y="4945"/>
                  </a:lnTo>
                  <a:lnTo>
                    <a:pt x="0" y="5553"/>
                  </a:lnTo>
                  <a:lnTo>
                    <a:pt x="11" y="55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12280" y="4312440"/>
              <a:ext cx="590040" cy="834120"/>
            </a:xfrm>
            <a:custGeom>
              <a:avLst/>
              <a:gdLst/>
              <a:ahLst/>
              <a:rect l="l" t="t" r="r" b="b"/>
              <a:pathLst>
                <a:path w="1366" h="1951">
                  <a:moveTo>
                    <a:pt x="11" y="425"/>
                  </a:moveTo>
                  <a:lnTo>
                    <a:pt x="11" y="471"/>
                  </a:lnTo>
                  <a:lnTo>
                    <a:pt x="11" y="504"/>
                  </a:lnTo>
                  <a:lnTo>
                    <a:pt x="23" y="539"/>
                  </a:lnTo>
                  <a:lnTo>
                    <a:pt x="34" y="563"/>
                  </a:lnTo>
                  <a:lnTo>
                    <a:pt x="45" y="596"/>
                  </a:lnTo>
                  <a:lnTo>
                    <a:pt x="57" y="631"/>
                  </a:lnTo>
                  <a:lnTo>
                    <a:pt x="80" y="653"/>
                  </a:lnTo>
                  <a:lnTo>
                    <a:pt x="103" y="677"/>
                  </a:lnTo>
                  <a:lnTo>
                    <a:pt x="172" y="723"/>
                  </a:lnTo>
                  <a:lnTo>
                    <a:pt x="241" y="769"/>
                  </a:lnTo>
                  <a:lnTo>
                    <a:pt x="298" y="814"/>
                  </a:lnTo>
                  <a:lnTo>
                    <a:pt x="355" y="861"/>
                  </a:lnTo>
                  <a:lnTo>
                    <a:pt x="425" y="918"/>
                  </a:lnTo>
                  <a:lnTo>
                    <a:pt x="482" y="963"/>
                  </a:lnTo>
                  <a:lnTo>
                    <a:pt x="551" y="1010"/>
                  </a:lnTo>
                  <a:lnTo>
                    <a:pt x="619" y="1055"/>
                  </a:lnTo>
                  <a:lnTo>
                    <a:pt x="688" y="1112"/>
                  </a:lnTo>
                  <a:lnTo>
                    <a:pt x="768" y="1170"/>
                  </a:lnTo>
                  <a:lnTo>
                    <a:pt x="849" y="1228"/>
                  </a:lnTo>
                  <a:lnTo>
                    <a:pt x="917" y="1296"/>
                  </a:lnTo>
                  <a:lnTo>
                    <a:pt x="986" y="1365"/>
                  </a:lnTo>
                  <a:lnTo>
                    <a:pt x="1044" y="1434"/>
                  </a:lnTo>
                  <a:lnTo>
                    <a:pt x="1101" y="1514"/>
                  </a:lnTo>
                  <a:lnTo>
                    <a:pt x="1135" y="1606"/>
                  </a:lnTo>
                  <a:lnTo>
                    <a:pt x="1125" y="1606"/>
                  </a:lnTo>
                  <a:lnTo>
                    <a:pt x="1125" y="1618"/>
                  </a:lnTo>
                  <a:lnTo>
                    <a:pt x="1113" y="1618"/>
                  </a:lnTo>
                  <a:lnTo>
                    <a:pt x="1101" y="1629"/>
                  </a:lnTo>
                  <a:lnTo>
                    <a:pt x="1090" y="1629"/>
                  </a:lnTo>
                  <a:lnTo>
                    <a:pt x="1090" y="1951"/>
                  </a:lnTo>
                  <a:lnTo>
                    <a:pt x="1227" y="1686"/>
                  </a:lnTo>
                  <a:lnTo>
                    <a:pt x="1239" y="1663"/>
                  </a:lnTo>
                  <a:lnTo>
                    <a:pt x="1250" y="1641"/>
                  </a:lnTo>
                  <a:lnTo>
                    <a:pt x="1262" y="1629"/>
                  </a:lnTo>
                  <a:lnTo>
                    <a:pt x="1285" y="1618"/>
                  </a:lnTo>
                  <a:lnTo>
                    <a:pt x="1308" y="1594"/>
                  </a:lnTo>
                  <a:lnTo>
                    <a:pt x="1331" y="1583"/>
                  </a:lnTo>
                  <a:lnTo>
                    <a:pt x="1342" y="1560"/>
                  </a:lnTo>
                  <a:lnTo>
                    <a:pt x="1366" y="1537"/>
                  </a:lnTo>
                  <a:lnTo>
                    <a:pt x="1354" y="1526"/>
                  </a:lnTo>
                  <a:lnTo>
                    <a:pt x="1342" y="1514"/>
                  </a:lnTo>
                  <a:lnTo>
                    <a:pt x="1331" y="1514"/>
                  </a:lnTo>
                  <a:lnTo>
                    <a:pt x="1319" y="1502"/>
                  </a:lnTo>
                  <a:lnTo>
                    <a:pt x="1250" y="1549"/>
                  </a:lnTo>
                  <a:lnTo>
                    <a:pt x="1239" y="1549"/>
                  </a:lnTo>
                  <a:lnTo>
                    <a:pt x="1239" y="1537"/>
                  </a:lnTo>
                  <a:lnTo>
                    <a:pt x="1227" y="1537"/>
                  </a:lnTo>
                  <a:lnTo>
                    <a:pt x="1158" y="1411"/>
                  </a:lnTo>
                  <a:lnTo>
                    <a:pt x="1113" y="1377"/>
                  </a:lnTo>
                  <a:lnTo>
                    <a:pt x="1056" y="1331"/>
                  </a:lnTo>
                  <a:lnTo>
                    <a:pt x="1009" y="1285"/>
                  </a:lnTo>
                  <a:lnTo>
                    <a:pt x="964" y="1239"/>
                  </a:lnTo>
                  <a:lnTo>
                    <a:pt x="929" y="1193"/>
                  </a:lnTo>
                  <a:lnTo>
                    <a:pt x="884" y="1136"/>
                  </a:lnTo>
                  <a:lnTo>
                    <a:pt x="849" y="1090"/>
                  </a:lnTo>
                  <a:lnTo>
                    <a:pt x="815" y="1044"/>
                  </a:lnTo>
                  <a:lnTo>
                    <a:pt x="539" y="861"/>
                  </a:lnTo>
                  <a:lnTo>
                    <a:pt x="539" y="849"/>
                  </a:lnTo>
                  <a:lnTo>
                    <a:pt x="539" y="837"/>
                  </a:lnTo>
                  <a:lnTo>
                    <a:pt x="527" y="837"/>
                  </a:lnTo>
                  <a:lnTo>
                    <a:pt x="527" y="826"/>
                  </a:lnTo>
                  <a:lnTo>
                    <a:pt x="527" y="814"/>
                  </a:lnTo>
                  <a:lnTo>
                    <a:pt x="539" y="814"/>
                  </a:lnTo>
                  <a:lnTo>
                    <a:pt x="539" y="804"/>
                  </a:lnTo>
                  <a:lnTo>
                    <a:pt x="551" y="792"/>
                  </a:lnTo>
                  <a:lnTo>
                    <a:pt x="562" y="780"/>
                  </a:lnTo>
                  <a:lnTo>
                    <a:pt x="574" y="780"/>
                  </a:lnTo>
                  <a:lnTo>
                    <a:pt x="584" y="769"/>
                  </a:lnTo>
                  <a:lnTo>
                    <a:pt x="596" y="769"/>
                  </a:lnTo>
                  <a:lnTo>
                    <a:pt x="608" y="769"/>
                  </a:lnTo>
                  <a:lnTo>
                    <a:pt x="619" y="780"/>
                  </a:lnTo>
                  <a:lnTo>
                    <a:pt x="631" y="780"/>
                  </a:lnTo>
                  <a:lnTo>
                    <a:pt x="643" y="792"/>
                  </a:lnTo>
                  <a:lnTo>
                    <a:pt x="654" y="804"/>
                  </a:lnTo>
                  <a:lnTo>
                    <a:pt x="665" y="814"/>
                  </a:lnTo>
                  <a:lnTo>
                    <a:pt x="676" y="826"/>
                  </a:lnTo>
                  <a:lnTo>
                    <a:pt x="688" y="849"/>
                  </a:lnTo>
                  <a:lnTo>
                    <a:pt x="711" y="861"/>
                  </a:lnTo>
                  <a:lnTo>
                    <a:pt x="723" y="872"/>
                  </a:lnTo>
                  <a:lnTo>
                    <a:pt x="745" y="884"/>
                  </a:lnTo>
                  <a:lnTo>
                    <a:pt x="757" y="884"/>
                  </a:lnTo>
                  <a:lnTo>
                    <a:pt x="757" y="872"/>
                  </a:lnTo>
                  <a:lnTo>
                    <a:pt x="757" y="861"/>
                  </a:lnTo>
                  <a:lnTo>
                    <a:pt x="745" y="861"/>
                  </a:lnTo>
                  <a:lnTo>
                    <a:pt x="643" y="700"/>
                  </a:lnTo>
                  <a:lnTo>
                    <a:pt x="608" y="677"/>
                  </a:lnTo>
                  <a:lnTo>
                    <a:pt x="574" y="643"/>
                  </a:lnTo>
                  <a:lnTo>
                    <a:pt x="551" y="608"/>
                  </a:lnTo>
                  <a:lnTo>
                    <a:pt x="516" y="574"/>
                  </a:lnTo>
                  <a:lnTo>
                    <a:pt x="494" y="539"/>
                  </a:lnTo>
                  <a:lnTo>
                    <a:pt x="470" y="504"/>
                  </a:lnTo>
                  <a:lnTo>
                    <a:pt x="459" y="459"/>
                  </a:lnTo>
                  <a:lnTo>
                    <a:pt x="435" y="413"/>
                  </a:lnTo>
                  <a:lnTo>
                    <a:pt x="584" y="184"/>
                  </a:lnTo>
                  <a:lnTo>
                    <a:pt x="584" y="172"/>
                  </a:lnTo>
                  <a:lnTo>
                    <a:pt x="584" y="161"/>
                  </a:lnTo>
                  <a:lnTo>
                    <a:pt x="574" y="161"/>
                  </a:lnTo>
                  <a:lnTo>
                    <a:pt x="275" y="23"/>
                  </a:lnTo>
                  <a:lnTo>
                    <a:pt x="275" y="12"/>
                  </a:lnTo>
                  <a:lnTo>
                    <a:pt x="275" y="0"/>
                  </a:lnTo>
                  <a:lnTo>
                    <a:pt x="264" y="0"/>
                  </a:lnTo>
                  <a:lnTo>
                    <a:pt x="229" y="12"/>
                  </a:lnTo>
                  <a:lnTo>
                    <a:pt x="194" y="35"/>
                  </a:lnTo>
                  <a:lnTo>
                    <a:pt x="172" y="69"/>
                  </a:lnTo>
                  <a:lnTo>
                    <a:pt x="149" y="115"/>
                  </a:lnTo>
                  <a:lnTo>
                    <a:pt x="126" y="149"/>
                  </a:lnTo>
                  <a:lnTo>
                    <a:pt x="103" y="196"/>
                  </a:lnTo>
                  <a:lnTo>
                    <a:pt x="80" y="241"/>
                  </a:lnTo>
                  <a:lnTo>
                    <a:pt x="57" y="275"/>
                  </a:lnTo>
                  <a:lnTo>
                    <a:pt x="57" y="298"/>
                  </a:lnTo>
                  <a:lnTo>
                    <a:pt x="45" y="310"/>
                  </a:lnTo>
                  <a:lnTo>
                    <a:pt x="45" y="333"/>
                  </a:lnTo>
                  <a:lnTo>
                    <a:pt x="34" y="345"/>
                  </a:lnTo>
                  <a:lnTo>
                    <a:pt x="34" y="367"/>
                  </a:lnTo>
                  <a:lnTo>
                    <a:pt x="23" y="379"/>
                  </a:lnTo>
                  <a:lnTo>
                    <a:pt x="11" y="390"/>
                  </a:lnTo>
                  <a:lnTo>
                    <a:pt x="0" y="402"/>
                  </a:lnTo>
                  <a:lnTo>
                    <a:pt x="11" y="425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0880" y="3616560"/>
              <a:ext cx="794520" cy="979560"/>
            </a:xfrm>
            <a:custGeom>
              <a:avLst/>
              <a:gdLst/>
              <a:ahLst/>
              <a:rect l="l" t="t" r="r" b="b"/>
              <a:pathLst>
                <a:path w="1836" h="2294">
                  <a:moveTo>
                    <a:pt x="0" y="1376"/>
                  </a:moveTo>
                  <a:lnTo>
                    <a:pt x="0" y="1515"/>
                  </a:lnTo>
                  <a:lnTo>
                    <a:pt x="12" y="1526"/>
                  </a:lnTo>
                  <a:lnTo>
                    <a:pt x="22" y="1526"/>
                  </a:lnTo>
                  <a:lnTo>
                    <a:pt x="34" y="1537"/>
                  </a:lnTo>
                  <a:lnTo>
                    <a:pt x="46" y="1537"/>
                  </a:lnTo>
                  <a:lnTo>
                    <a:pt x="57" y="1537"/>
                  </a:lnTo>
                  <a:lnTo>
                    <a:pt x="69" y="1537"/>
                  </a:lnTo>
                  <a:lnTo>
                    <a:pt x="81" y="1549"/>
                  </a:lnTo>
                  <a:lnTo>
                    <a:pt x="92" y="1560"/>
                  </a:lnTo>
                  <a:lnTo>
                    <a:pt x="104" y="1572"/>
                  </a:lnTo>
                  <a:lnTo>
                    <a:pt x="104" y="1584"/>
                  </a:lnTo>
                  <a:lnTo>
                    <a:pt x="114" y="1584"/>
                  </a:lnTo>
                  <a:lnTo>
                    <a:pt x="114" y="1595"/>
                  </a:lnTo>
                  <a:lnTo>
                    <a:pt x="149" y="1606"/>
                  </a:lnTo>
                  <a:lnTo>
                    <a:pt x="183" y="1629"/>
                  </a:lnTo>
                  <a:lnTo>
                    <a:pt x="218" y="1652"/>
                  </a:lnTo>
                  <a:lnTo>
                    <a:pt x="263" y="1664"/>
                  </a:lnTo>
                  <a:lnTo>
                    <a:pt x="298" y="1686"/>
                  </a:lnTo>
                  <a:lnTo>
                    <a:pt x="333" y="1698"/>
                  </a:lnTo>
                  <a:lnTo>
                    <a:pt x="367" y="1698"/>
                  </a:lnTo>
                  <a:lnTo>
                    <a:pt x="414" y="1676"/>
                  </a:lnTo>
                  <a:lnTo>
                    <a:pt x="494" y="1617"/>
                  </a:lnTo>
                  <a:lnTo>
                    <a:pt x="585" y="1549"/>
                  </a:lnTo>
                  <a:lnTo>
                    <a:pt x="655" y="1480"/>
                  </a:lnTo>
                  <a:lnTo>
                    <a:pt x="735" y="1400"/>
                  </a:lnTo>
                  <a:lnTo>
                    <a:pt x="804" y="1319"/>
                  </a:lnTo>
                  <a:lnTo>
                    <a:pt x="872" y="1239"/>
                  </a:lnTo>
                  <a:lnTo>
                    <a:pt x="941" y="1159"/>
                  </a:lnTo>
                  <a:lnTo>
                    <a:pt x="1021" y="1090"/>
                  </a:lnTo>
                  <a:lnTo>
                    <a:pt x="998" y="986"/>
                  </a:lnTo>
                  <a:lnTo>
                    <a:pt x="998" y="976"/>
                  </a:lnTo>
                  <a:lnTo>
                    <a:pt x="1010" y="964"/>
                  </a:lnTo>
                  <a:lnTo>
                    <a:pt x="1021" y="964"/>
                  </a:lnTo>
                  <a:lnTo>
                    <a:pt x="1033" y="953"/>
                  </a:lnTo>
                  <a:lnTo>
                    <a:pt x="1045" y="953"/>
                  </a:lnTo>
                  <a:lnTo>
                    <a:pt x="1055" y="964"/>
                  </a:lnTo>
                  <a:lnTo>
                    <a:pt x="1067" y="964"/>
                  </a:lnTo>
                  <a:lnTo>
                    <a:pt x="1079" y="976"/>
                  </a:lnTo>
                  <a:lnTo>
                    <a:pt x="1090" y="986"/>
                  </a:lnTo>
                  <a:lnTo>
                    <a:pt x="1136" y="1067"/>
                  </a:lnTo>
                  <a:lnTo>
                    <a:pt x="1125" y="1159"/>
                  </a:lnTo>
                  <a:lnTo>
                    <a:pt x="1125" y="1251"/>
                  </a:lnTo>
                  <a:lnTo>
                    <a:pt x="1136" y="1343"/>
                  </a:lnTo>
                  <a:lnTo>
                    <a:pt x="1147" y="1435"/>
                  </a:lnTo>
                  <a:lnTo>
                    <a:pt x="1159" y="1526"/>
                  </a:lnTo>
                  <a:lnTo>
                    <a:pt x="1170" y="1617"/>
                  </a:lnTo>
                  <a:lnTo>
                    <a:pt x="1182" y="1709"/>
                  </a:lnTo>
                  <a:lnTo>
                    <a:pt x="1194" y="1801"/>
                  </a:lnTo>
                  <a:lnTo>
                    <a:pt x="1205" y="1859"/>
                  </a:lnTo>
                  <a:lnTo>
                    <a:pt x="1205" y="1916"/>
                  </a:lnTo>
                  <a:lnTo>
                    <a:pt x="1216" y="1974"/>
                  </a:lnTo>
                  <a:lnTo>
                    <a:pt x="1216" y="2031"/>
                  </a:lnTo>
                  <a:lnTo>
                    <a:pt x="1228" y="2076"/>
                  </a:lnTo>
                  <a:lnTo>
                    <a:pt x="1251" y="2123"/>
                  </a:lnTo>
                  <a:lnTo>
                    <a:pt x="1274" y="2168"/>
                  </a:lnTo>
                  <a:lnTo>
                    <a:pt x="1308" y="2203"/>
                  </a:lnTo>
                  <a:lnTo>
                    <a:pt x="1354" y="2214"/>
                  </a:lnTo>
                  <a:lnTo>
                    <a:pt x="1388" y="2225"/>
                  </a:lnTo>
                  <a:lnTo>
                    <a:pt x="1423" y="2237"/>
                  </a:lnTo>
                  <a:lnTo>
                    <a:pt x="1457" y="2249"/>
                  </a:lnTo>
                  <a:lnTo>
                    <a:pt x="1503" y="2249"/>
                  </a:lnTo>
                  <a:lnTo>
                    <a:pt x="1537" y="2249"/>
                  </a:lnTo>
                  <a:lnTo>
                    <a:pt x="1572" y="2237"/>
                  </a:lnTo>
                  <a:lnTo>
                    <a:pt x="1595" y="2225"/>
                  </a:lnTo>
                  <a:lnTo>
                    <a:pt x="1607" y="2225"/>
                  </a:lnTo>
                  <a:lnTo>
                    <a:pt x="1618" y="2237"/>
                  </a:lnTo>
                  <a:lnTo>
                    <a:pt x="1618" y="2249"/>
                  </a:lnTo>
                  <a:lnTo>
                    <a:pt x="1618" y="2260"/>
                  </a:lnTo>
                  <a:lnTo>
                    <a:pt x="1607" y="2272"/>
                  </a:lnTo>
                  <a:lnTo>
                    <a:pt x="1607" y="2282"/>
                  </a:lnTo>
                  <a:lnTo>
                    <a:pt x="1618" y="2282"/>
                  </a:lnTo>
                  <a:lnTo>
                    <a:pt x="1618" y="2294"/>
                  </a:lnTo>
                  <a:lnTo>
                    <a:pt x="1767" y="2237"/>
                  </a:lnTo>
                  <a:lnTo>
                    <a:pt x="1778" y="2225"/>
                  </a:lnTo>
                  <a:lnTo>
                    <a:pt x="1778" y="2214"/>
                  </a:lnTo>
                  <a:lnTo>
                    <a:pt x="1778" y="2203"/>
                  </a:lnTo>
                  <a:lnTo>
                    <a:pt x="1767" y="2192"/>
                  </a:lnTo>
                  <a:lnTo>
                    <a:pt x="1756" y="2180"/>
                  </a:lnTo>
                  <a:lnTo>
                    <a:pt x="1744" y="2168"/>
                  </a:lnTo>
                  <a:lnTo>
                    <a:pt x="1733" y="2157"/>
                  </a:lnTo>
                  <a:lnTo>
                    <a:pt x="1733" y="2145"/>
                  </a:lnTo>
                  <a:lnTo>
                    <a:pt x="1744" y="1262"/>
                  </a:lnTo>
                  <a:lnTo>
                    <a:pt x="1744" y="1251"/>
                  </a:lnTo>
                  <a:lnTo>
                    <a:pt x="1733" y="1251"/>
                  </a:lnTo>
                  <a:lnTo>
                    <a:pt x="1733" y="1239"/>
                  </a:lnTo>
                  <a:lnTo>
                    <a:pt x="1721" y="1239"/>
                  </a:lnTo>
                  <a:lnTo>
                    <a:pt x="1710" y="1227"/>
                  </a:lnTo>
                  <a:lnTo>
                    <a:pt x="1698" y="1227"/>
                  </a:lnTo>
                  <a:lnTo>
                    <a:pt x="1686" y="1217"/>
                  </a:lnTo>
                  <a:lnTo>
                    <a:pt x="1676" y="1227"/>
                  </a:lnTo>
                  <a:lnTo>
                    <a:pt x="1653" y="1227"/>
                  </a:lnTo>
                  <a:lnTo>
                    <a:pt x="1641" y="1239"/>
                  </a:lnTo>
                  <a:lnTo>
                    <a:pt x="1629" y="1239"/>
                  </a:lnTo>
                  <a:lnTo>
                    <a:pt x="1618" y="1251"/>
                  </a:lnTo>
                  <a:lnTo>
                    <a:pt x="1595" y="1251"/>
                  </a:lnTo>
                  <a:lnTo>
                    <a:pt x="1584" y="1262"/>
                  </a:lnTo>
                  <a:lnTo>
                    <a:pt x="1561" y="1251"/>
                  </a:lnTo>
                  <a:lnTo>
                    <a:pt x="1549" y="1251"/>
                  </a:lnTo>
                  <a:lnTo>
                    <a:pt x="1549" y="1239"/>
                  </a:lnTo>
                  <a:lnTo>
                    <a:pt x="1549" y="1227"/>
                  </a:lnTo>
                  <a:lnTo>
                    <a:pt x="1676" y="1078"/>
                  </a:lnTo>
                  <a:lnTo>
                    <a:pt x="1435" y="1170"/>
                  </a:lnTo>
                  <a:lnTo>
                    <a:pt x="1423" y="1170"/>
                  </a:lnTo>
                  <a:lnTo>
                    <a:pt x="1412" y="1170"/>
                  </a:lnTo>
                  <a:lnTo>
                    <a:pt x="1400" y="1159"/>
                  </a:lnTo>
                  <a:lnTo>
                    <a:pt x="1388" y="1159"/>
                  </a:lnTo>
                  <a:lnTo>
                    <a:pt x="1388" y="1147"/>
                  </a:lnTo>
                  <a:lnTo>
                    <a:pt x="1388" y="1136"/>
                  </a:lnTo>
                  <a:lnTo>
                    <a:pt x="1400" y="1113"/>
                  </a:lnTo>
                  <a:lnTo>
                    <a:pt x="1412" y="1090"/>
                  </a:lnTo>
                  <a:lnTo>
                    <a:pt x="1435" y="1067"/>
                  </a:lnTo>
                  <a:lnTo>
                    <a:pt x="1457" y="1044"/>
                  </a:lnTo>
                  <a:lnTo>
                    <a:pt x="1480" y="1021"/>
                  </a:lnTo>
                  <a:lnTo>
                    <a:pt x="1503" y="1010"/>
                  </a:lnTo>
                  <a:lnTo>
                    <a:pt x="1527" y="986"/>
                  </a:lnTo>
                  <a:lnTo>
                    <a:pt x="1549" y="953"/>
                  </a:lnTo>
                  <a:lnTo>
                    <a:pt x="1584" y="941"/>
                  </a:lnTo>
                  <a:lnTo>
                    <a:pt x="1618" y="918"/>
                  </a:lnTo>
                  <a:lnTo>
                    <a:pt x="1664" y="895"/>
                  </a:lnTo>
                  <a:lnTo>
                    <a:pt x="1698" y="872"/>
                  </a:lnTo>
                  <a:lnTo>
                    <a:pt x="1721" y="861"/>
                  </a:lnTo>
                  <a:lnTo>
                    <a:pt x="1756" y="837"/>
                  </a:lnTo>
                  <a:lnTo>
                    <a:pt x="1790" y="803"/>
                  </a:lnTo>
                  <a:lnTo>
                    <a:pt x="1825" y="780"/>
                  </a:lnTo>
                  <a:lnTo>
                    <a:pt x="1836" y="678"/>
                  </a:lnTo>
                  <a:lnTo>
                    <a:pt x="1710" y="345"/>
                  </a:lnTo>
                  <a:lnTo>
                    <a:pt x="1366" y="321"/>
                  </a:lnTo>
                  <a:lnTo>
                    <a:pt x="1251" y="264"/>
                  </a:lnTo>
                  <a:lnTo>
                    <a:pt x="1194" y="253"/>
                  </a:lnTo>
                  <a:lnTo>
                    <a:pt x="1136" y="241"/>
                  </a:lnTo>
                  <a:lnTo>
                    <a:pt x="1090" y="229"/>
                  </a:lnTo>
                  <a:lnTo>
                    <a:pt x="1033" y="207"/>
                  </a:lnTo>
                  <a:lnTo>
                    <a:pt x="987" y="184"/>
                  </a:lnTo>
                  <a:lnTo>
                    <a:pt x="941" y="149"/>
                  </a:lnTo>
                  <a:lnTo>
                    <a:pt x="906" y="115"/>
                  </a:lnTo>
                  <a:lnTo>
                    <a:pt x="872" y="70"/>
                  </a:lnTo>
                  <a:lnTo>
                    <a:pt x="861" y="58"/>
                  </a:lnTo>
                  <a:lnTo>
                    <a:pt x="861" y="46"/>
                  </a:lnTo>
                  <a:lnTo>
                    <a:pt x="861" y="35"/>
                  </a:lnTo>
                  <a:lnTo>
                    <a:pt x="849" y="23"/>
                  </a:lnTo>
                  <a:lnTo>
                    <a:pt x="849" y="12"/>
                  </a:lnTo>
                  <a:lnTo>
                    <a:pt x="849" y="0"/>
                  </a:lnTo>
                  <a:lnTo>
                    <a:pt x="723" y="115"/>
                  </a:lnTo>
                  <a:lnTo>
                    <a:pt x="608" y="253"/>
                  </a:lnTo>
                  <a:lnTo>
                    <a:pt x="504" y="390"/>
                  </a:lnTo>
                  <a:lnTo>
                    <a:pt x="424" y="539"/>
                  </a:lnTo>
                  <a:lnTo>
                    <a:pt x="333" y="688"/>
                  </a:lnTo>
                  <a:lnTo>
                    <a:pt x="253" y="837"/>
                  </a:lnTo>
                  <a:lnTo>
                    <a:pt x="161" y="998"/>
                  </a:lnTo>
                  <a:lnTo>
                    <a:pt x="69" y="1136"/>
                  </a:lnTo>
                  <a:lnTo>
                    <a:pt x="57" y="1170"/>
                  </a:lnTo>
                  <a:lnTo>
                    <a:pt x="46" y="1205"/>
                  </a:lnTo>
                  <a:lnTo>
                    <a:pt x="34" y="1239"/>
                  </a:lnTo>
                  <a:lnTo>
                    <a:pt x="34" y="1262"/>
                  </a:lnTo>
                  <a:lnTo>
                    <a:pt x="22" y="1296"/>
                  </a:lnTo>
                  <a:lnTo>
                    <a:pt x="22" y="1319"/>
                  </a:lnTo>
                  <a:lnTo>
                    <a:pt x="12" y="1354"/>
                  </a:lnTo>
                  <a:lnTo>
                    <a:pt x="0" y="137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55920" y="2194200"/>
              <a:ext cx="401400" cy="367200"/>
            </a:xfrm>
            <a:custGeom>
              <a:avLst/>
              <a:gdLst/>
              <a:ahLst/>
              <a:rect l="l" t="t" r="r" b="b"/>
              <a:pathLst>
                <a:path w="929" h="861">
                  <a:moveTo>
                    <a:pt x="10" y="23"/>
                  </a:moveTo>
                  <a:lnTo>
                    <a:pt x="69" y="138"/>
                  </a:lnTo>
                  <a:lnTo>
                    <a:pt x="69" y="149"/>
                  </a:lnTo>
                  <a:lnTo>
                    <a:pt x="69" y="161"/>
                  </a:lnTo>
                  <a:lnTo>
                    <a:pt x="57" y="161"/>
                  </a:lnTo>
                  <a:lnTo>
                    <a:pt x="45" y="172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0" y="206"/>
                  </a:lnTo>
                  <a:lnTo>
                    <a:pt x="10" y="241"/>
                  </a:lnTo>
                  <a:lnTo>
                    <a:pt x="34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14" y="321"/>
                  </a:lnTo>
                  <a:lnTo>
                    <a:pt x="149" y="345"/>
                  </a:lnTo>
                  <a:lnTo>
                    <a:pt x="183" y="355"/>
                  </a:lnTo>
                  <a:lnTo>
                    <a:pt x="206" y="379"/>
                  </a:lnTo>
                  <a:lnTo>
                    <a:pt x="551" y="792"/>
                  </a:lnTo>
                  <a:lnTo>
                    <a:pt x="745" y="861"/>
                  </a:lnTo>
                  <a:lnTo>
                    <a:pt x="745" y="849"/>
                  </a:lnTo>
                  <a:lnTo>
                    <a:pt x="745" y="837"/>
                  </a:lnTo>
                  <a:lnTo>
                    <a:pt x="745" y="826"/>
                  </a:lnTo>
                  <a:lnTo>
                    <a:pt x="745" y="814"/>
                  </a:lnTo>
                  <a:lnTo>
                    <a:pt x="757" y="804"/>
                  </a:lnTo>
                  <a:lnTo>
                    <a:pt x="768" y="792"/>
                  </a:lnTo>
                  <a:lnTo>
                    <a:pt x="780" y="792"/>
                  </a:lnTo>
                  <a:lnTo>
                    <a:pt x="792" y="792"/>
                  </a:lnTo>
                  <a:lnTo>
                    <a:pt x="802" y="792"/>
                  </a:lnTo>
                  <a:lnTo>
                    <a:pt x="814" y="792"/>
                  </a:lnTo>
                  <a:lnTo>
                    <a:pt x="825" y="792"/>
                  </a:lnTo>
                  <a:lnTo>
                    <a:pt x="837" y="792"/>
                  </a:lnTo>
                  <a:lnTo>
                    <a:pt x="849" y="804"/>
                  </a:lnTo>
                  <a:lnTo>
                    <a:pt x="860" y="814"/>
                  </a:lnTo>
                  <a:lnTo>
                    <a:pt x="884" y="826"/>
                  </a:lnTo>
                  <a:lnTo>
                    <a:pt x="894" y="826"/>
                  </a:lnTo>
                  <a:lnTo>
                    <a:pt x="906" y="837"/>
                  </a:lnTo>
                  <a:lnTo>
                    <a:pt x="917" y="849"/>
                  </a:lnTo>
                  <a:lnTo>
                    <a:pt x="929" y="861"/>
                  </a:lnTo>
                  <a:lnTo>
                    <a:pt x="917" y="804"/>
                  </a:lnTo>
                  <a:lnTo>
                    <a:pt x="884" y="757"/>
                  </a:lnTo>
                  <a:lnTo>
                    <a:pt x="849" y="712"/>
                  </a:lnTo>
                  <a:lnTo>
                    <a:pt x="802" y="665"/>
                  </a:lnTo>
                  <a:lnTo>
                    <a:pt x="757" y="631"/>
                  </a:lnTo>
                  <a:lnTo>
                    <a:pt x="700" y="596"/>
                  </a:lnTo>
                  <a:lnTo>
                    <a:pt x="653" y="562"/>
                  </a:lnTo>
                  <a:lnTo>
                    <a:pt x="596" y="539"/>
                  </a:lnTo>
                  <a:lnTo>
                    <a:pt x="573" y="528"/>
                  </a:lnTo>
                  <a:lnTo>
                    <a:pt x="551" y="516"/>
                  </a:lnTo>
                  <a:lnTo>
                    <a:pt x="527" y="504"/>
                  </a:lnTo>
                  <a:lnTo>
                    <a:pt x="504" y="504"/>
                  </a:lnTo>
                  <a:lnTo>
                    <a:pt x="482" y="494"/>
                  </a:lnTo>
                  <a:lnTo>
                    <a:pt x="459" y="494"/>
                  </a:lnTo>
                  <a:lnTo>
                    <a:pt x="435" y="482"/>
                  </a:lnTo>
                  <a:lnTo>
                    <a:pt x="412" y="471"/>
                  </a:lnTo>
                  <a:lnTo>
                    <a:pt x="390" y="424"/>
                  </a:lnTo>
                  <a:lnTo>
                    <a:pt x="367" y="367"/>
                  </a:lnTo>
                  <a:lnTo>
                    <a:pt x="355" y="298"/>
                  </a:lnTo>
                  <a:lnTo>
                    <a:pt x="343" y="229"/>
                  </a:lnTo>
                  <a:lnTo>
                    <a:pt x="321" y="172"/>
                  </a:lnTo>
                  <a:lnTo>
                    <a:pt x="298" y="115"/>
                  </a:lnTo>
                  <a:lnTo>
                    <a:pt x="263" y="57"/>
                  </a:lnTo>
                  <a:lnTo>
                    <a:pt x="229" y="23"/>
                  </a:lnTo>
                  <a:lnTo>
                    <a:pt x="1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4080" y="2739600"/>
              <a:ext cx="614160" cy="974160"/>
            </a:xfrm>
            <a:custGeom>
              <a:avLst/>
              <a:gdLst/>
              <a:ahLst/>
              <a:rect l="l" t="t" r="r" b="b"/>
              <a:pathLst>
                <a:path w="1423" h="2282">
                  <a:moveTo>
                    <a:pt x="0" y="2042"/>
                  </a:moveTo>
                  <a:lnTo>
                    <a:pt x="0" y="2065"/>
                  </a:lnTo>
                  <a:lnTo>
                    <a:pt x="12" y="2076"/>
                  </a:lnTo>
                  <a:lnTo>
                    <a:pt x="24" y="2099"/>
                  </a:lnTo>
                  <a:lnTo>
                    <a:pt x="46" y="2111"/>
                  </a:lnTo>
                  <a:lnTo>
                    <a:pt x="58" y="2123"/>
                  </a:lnTo>
                  <a:lnTo>
                    <a:pt x="81" y="2133"/>
                  </a:lnTo>
                  <a:lnTo>
                    <a:pt x="92" y="2157"/>
                  </a:lnTo>
                  <a:lnTo>
                    <a:pt x="104" y="2168"/>
                  </a:lnTo>
                  <a:lnTo>
                    <a:pt x="620" y="2282"/>
                  </a:lnTo>
                  <a:lnTo>
                    <a:pt x="620" y="2272"/>
                  </a:lnTo>
                  <a:lnTo>
                    <a:pt x="608" y="2272"/>
                  </a:lnTo>
                  <a:lnTo>
                    <a:pt x="608" y="2260"/>
                  </a:lnTo>
                  <a:lnTo>
                    <a:pt x="598" y="2260"/>
                  </a:lnTo>
                  <a:lnTo>
                    <a:pt x="598" y="2249"/>
                  </a:lnTo>
                  <a:lnTo>
                    <a:pt x="586" y="2249"/>
                  </a:lnTo>
                  <a:lnTo>
                    <a:pt x="586" y="2237"/>
                  </a:lnTo>
                  <a:lnTo>
                    <a:pt x="586" y="2225"/>
                  </a:lnTo>
                  <a:lnTo>
                    <a:pt x="586" y="2214"/>
                  </a:lnTo>
                  <a:lnTo>
                    <a:pt x="666" y="2053"/>
                  </a:lnTo>
                  <a:lnTo>
                    <a:pt x="655" y="2019"/>
                  </a:lnTo>
                  <a:lnTo>
                    <a:pt x="643" y="1984"/>
                  </a:lnTo>
                  <a:lnTo>
                    <a:pt x="643" y="1950"/>
                  </a:lnTo>
                  <a:lnTo>
                    <a:pt x="643" y="1904"/>
                  </a:lnTo>
                  <a:lnTo>
                    <a:pt x="655" y="1870"/>
                  </a:lnTo>
                  <a:lnTo>
                    <a:pt x="678" y="1824"/>
                  </a:lnTo>
                  <a:lnTo>
                    <a:pt x="689" y="1778"/>
                  </a:lnTo>
                  <a:lnTo>
                    <a:pt x="700" y="1743"/>
                  </a:lnTo>
                  <a:lnTo>
                    <a:pt x="700" y="1733"/>
                  </a:lnTo>
                  <a:lnTo>
                    <a:pt x="689" y="1733"/>
                  </a:lnTo>
                  <a:lnTo>
                    <a:pt x="689" y="1721"/>
                  </a:lnTo>
                  <a:lnTo>
                    <a:pt x="517" y="1594"/>
                  </a:lnTo>
                  <a:lnTo>
                    <a:pt x="506" y="1584"/>
                  </a:lnTo>
                  <a:lnTo>
                    <a:pt x="506" y="1572"/>
                  </a:lnTo>
                  <a:lnTo>
                    <a:pt x="494" y="1572"/>
                  </a:lnTo>
                  <a:lnTo>
                    <a:pt x="494" y="1560"/>
                  </a:lnTo>
                  <a:lnTo>
                    <a:pt x="494" y="1549"/>
                  </a:lnTo>
                  <a:lnTo>
                    <a:pt x="483" y="1537"/>
                  </a:lnTo>
                  <a:lnTo>
                    <a:pt x="483" y="1525"/>
                  </a:lnTo>
                  <a:lnTo>
                    <a:pt x="700" y="1480"/>
                  </a:lnTo>
                  <a:lnTo>
                    <a:pt x="712" y="1480"/>
                  </a:lnTo>
                  <a:lnTo>
                    <a:pt x="724" y="1492"/>
                  </a:lnTo>
                  <a:lnTo>
                    <a:pt x="735" y="1503"/>
                  </a:lnTo>
                  <a:lnTo>
                    <a:pt x="735" y="1515"/>
                  </a:lnTo>
                  <a:lnTo>
                    <a:pt x="735" y="1525"/>
                  </a:lnTo>
                  <a:lnTo>
                    <a:pt x="747" y="1525"/>
                  </a:lnTo>
                  <a:lnTo>
                    <a:pt x="781" y="1549"/>
                  </a:lnTo>
                  <a:lnTo>
                    <a:pt x="815" y="1549"/>
                  </a:lnTo>
                  <a:lnTo>
                    <a:pt x="849" y="1537"/>
                  </a:lnTo>
                  <a:lnTo>
                    <a:pt x="884" y="1537"/>
                  </a:lnTo>
                  <a:lnTo>
                    <a:pt x="930" y="1515"/>
                  </a:lnTo>
                  <a:lnTo>
                    <a:pt x="965" y="1503"/>
                  </a:lnTo>
                  <a:lnTo>
                    <a:pt x="1010" y="1492"/>
                  </a:lnTo>
                  <a:lnTo>
                    <a:pt x="1045" y="1480"/>
                  </a:lnTo>
                  <a:lnTo>
                    <a:pt x="1229" y="1262"/>
                  </a:lnTo>
                  <a:lnTo>
                    <a:pt x="1194" y="1182"/>
                  </a:lnTo>
                  <a:lnTo>
                    <a:pt x="1171" y="1102"/>
                  </a:lnTo>
                  <a:lnTo>
                    <a:pt x="1171" y="1021"/>
                  </a:lnTo>
                  <a:lnTo>
                    <a:pt x="1182" y="929"/>
                  </a:lnTo>
                  <a:lnTo>
                    <a:pt x="1206" y="849"/>
                  </a:lnTo>
                  <a:lnTo>
                    <a:pt x="1239" y="769"/>
                  </a:lnTo>
                  <a:lnTo>
                    <a:pt x="1274" y="688"/>
                  </a:lnTo>
                  <a:lnTo>
                    <a:pt x="1298" y="608"/>
                  </a:lnTo>
                  <a:lnTo>
                    <a:pt x="1423" y="425"/>
                  </a:lnTo>
                  <a:lnTo>
                    <a:pt x="1412" y="425"/>
                  </a:lnTo>
                  <a:lnTo>
                    <a:pt x="1400" y="437"/>
                  </a:lnTo>
                  <a:lnTo>
                    <a:pt x="1378" y="437"/>
                  </a:lnTo>
                  <a:lnTo>
                    <a:pt x="1366" y="447"/>
                  </a:lnTo>
                  <a:lnTo>
                    <a:pt x="1343" y="459"/>
                  </a:lnTo>
                  <a:lnTo>
                    <a:pt x="1331" y="470"/>
                  </a:lnTo>
                  <a:lnTo>
                    <a:pt x="1309" y="459"/>
                  </a:lnTo>
                  <a:lnTo>
                    <a:pt x="1286" y="447"/>
                  </a:lnTo>
                  <a:lnTo>
                    <a:pt x="1194" y="482"/>
                  </a:lnTo>
                  <a:lnTo>
                    <a:pt x="1090" y="527"/>
                  </a:lnTo>
                  <a:lnTo>
                    <a:pt x="988" y="574"/>
                  </a:lnTo>
                  <a:lnTo>
                    <a:pt x="873" y="619"/>
                  </a:lnTo>
                  <a:lnTo>
                    <a:pt x="769" y="654"/>
                  </a:lnTo>
                  <a:lnTo>
                    <a:pt x="666" y="654"/>
                  </a:lnTo>
                  <a:lnTo>
                    <a:pt x="563" y="643"/>
                  </a:lnTo>
                  <a:lnTo>
                    <a:pt x="471" y="586"/>
                  </a:lnTo>
                  <a:lnTo>
                    <a:pt x="448" y="539"/>
                  </a:lnTo>
                  <a:lnTo>
                    <a:pt x="448" y="494"/>
                  </a:lnTo>
                  <a:lnTo>
                    <a:pt x="448" y="447"/>
                  </a:lnTo>
                  <a:lnTo>
                    <a:pt x="459" y="402"/>
                  </a:lnTo>
                  <a:lnTo>
                    <a:pt x="471" y="356"/>
                  </a:lnTo>
                  <a:lnTo>
                    <a:pt x="483" y="298"/>
                  </a:lnTo>
                  <a:lnTo>
                    <a:pt x="506" y="253"/>
                  </a:lnTo>
                  <a:lnTo>
                    <a:pt x="517" y="207"/>
                  </a:lnTo>
                  <a:lnTo>
                    <a:pt x="666" y="0"/>
                  </a:lnTo>
                  <a:lnTo>
                    <a:pt x="586" y="58"/>
                  </a:lnTo>
                  <a:lnTo>
                    <a:pt x="494" y="115"/>
                  </a:lnTo>
                  <a:lnTo>
                    <a:pt x="402" y="184"/>
                  </a:lnTo>
                  <a:lnTo>
                    <a:pt x="310" y="253"/>
                  </a:lnTo>
                  <a:lnTo>
                    <a:pt x="230" y="333"/>
                  </a:lnTo>
                  <a:lnTo>
                    <a:pt x="150" y="413"/>
                  </a:lnTo>
                  <a:lnTo>
                    <a:pt x="92" y="505"/>
                  </a:lnTo>
                  <a:lnTo>
                    <a:pt x="35" y="608"/>
                  </a:lnTo>
                  <a:lnTo>
                    <a:pt x="92" y="735"/>
                  </a:lnTo>
                  <a:lnTo>
                    <a:pt x="116" y="746"/>
                  </a:lnTo>
                  <a:lnTo>
                    <a:pt x="126" y="757"/>
                  </a:lnTo>
                  <a:lnTo>
                    <a:pt x="150" y="780"/>
                  </a:lnTo>
                  <a:lnTo>
                    <a:pt x="161" y="792"/>
                  </a:lnTo>
                  <a:lnTo>
                    <a:pt x="184" y="815"/>
                  </a:lnTo>
                  <a:lnTo>
                    <a:pt x="196" y="837"/>
                  </a:lnTo>
                  <a:lnTo>
                    <a:pt x="218" y="860"/>
                  </a:lnTo>
                  <a:lnTo>
                    <a:pt x="230" y="884"/>
                  </a:lnTo>
                  <a:lnTo>
                    <a:pt x="196" y="952"/>
                  </a:lnTo>
                  <a:lnTo>
                    <a:pt x="161" y="1033"/>
                  </a:lnTo>
                  <a:lnTo>
                    <a:pt x="138" y="1113"/>
                  </a:lnTo>
                  <a:lnTo>
                    <a:pt x="104" y="1193"/>
                  </a:lnTo>
                  <a:lnTo>
                    <a:pt x="92" y="1274"/>
                  </a:lnTo>
                  <a:lnTo>
                    <a:pt x="69" y="1365"/>
                  </a:lnTo>
                  <a:lnTo>
                    <a:pt x="69" y="1445"/>
                  </a:lnTo>
                  <a:lnTo>
                    <a:pt x="58" y="1525"/>
                  </a:lnTo>
                  <a:lnTo>
                    <a:pt x="69" y="1572"/>
                  </a:lnTo>
                  <a:lnTo>
                    <a:pt x="69" y="1606"/>
                  </a:lnTo>
                  <a:lnTo>
                    <a:pt x="69" y="1641"/>
                  </a:lnTo>
                  <a:lnTo>
                    <a:pt x="58" y="1675"/>
                  </a:lnTo>
                  <a:lnTo>
                    <a:pt x="35" y="1709"/>
                  </a:lnTo>
                  <a:lnTo>
                    <a:pt x="24" y="1743"/>
                  </a:lnTo>
                  <a:lnTo>
                    <a:pt x="12" y="1778"/>
                  </a:lnTo>
                  <a:lnTo>
                    <a:pt x="0" y="1801"/>
                  </a:lnTo>
                  <a:lnTo>
                    <a:pt x="0" y="1824"/>
                  </a:lnTo>
                  <a:lnTo>
                    <a:pt x="12" y="1835"/>
                  </a:lnTo>
                  <a:lnTo>
                    <a:pt x="12" y="1847"/>
                  </a:lnTo>
                  <a:lnTo>
                    <a:pt x="24" y="1858"/>
                  </a:lnTo>
                  <a:lnTo>
                    <a:pt x="35" y="1870"/>
                  </a:lnTo>
                  <a:lnTo>
                    <a:pt x="46" y="1882"/>
                  </a:lnTo>
                  <a:lnTo>
                    <a:pt x="58" y="1893"/>
                  </a:lnTo>
                  <a:lnTo>
                    <a:pt x="58" y="1904"/>
                  </a:lnTo>
                  <a:lnTo>
                    <a:pt x="0" y="2019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92240" y="2556720"/>
              <a:ext cx="308160" cy="162360"/>
            </a:xfrm>
            <a:custGeom>
              <a:avLst/>
              <a:gdLst/>
              <a:ahLst/>
              <a:rect l="l" t="t" r="r" b="b"/>
              <a:pathLst>
                <a:path w="712" h="378">
                  <a:moveTo>
                    <a:pt x="0" y="23"/>
                  </a:moveTo>
                  <a:lnTo>
                    <a:pt x="12" y="34"/>
                  </a:ln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345" y="367"/>
                  </a:lnTo>
                  <a:lnTo>
                    <a:pt x="356" y="367"/>
                  </a:lnTo>
                  <a:lnTo>
                    <a:pt x="356" y="355"/>
                  </a:lnTo>
                  <a:lnTo>
                    <a:pt x="367" y="355"/>
                  </a:lnTo>
                  <a:lnTo>
                    <a:pt x="379" y="344"/>
                  </a:lnTo>
                  <a:lnTo>
                    <a:pt x="391" y="333"/>
                  </a:lnTo>
                  <a:lnTo>
                    <a:pt x="402" y="344"/>
                  </a:lnTo>
                  <a:lnTo>
                    <a:pt x="414" y="344"/>
                  </a:lnTo>
                  <a:lnTo>
                    <a:pt x="425" y="344"/>
                  </a:lnTo>
                  <a:lnTo>
                    <a:pt x="425" y="355"/>
                  </a:lnTo>
                  <a:lnTo>
                    <a:pt x="436" y="355"/>
                  </a:lnTo>
                  <a:lnTo>
                    <a:pt x="448" y="367"/>
                  </a:lnTo>
                  <a:lnTo>
                    <a:pt x="448" y="378"/>
                  </a:lnTo>
                  <a:lnTo>
                    <a:pt x="459" y="378"/>
                  </a:lnTo>
                  <a:lnTo>
                    <a:pt x="712" y="241"/>
                  </a:lnTo>
                  <a:lnTo>
                    <a:pt x="494" y="184"/>
                  </a:lnTo>
                  <a:lnTo>
                    <a:pt x="482" y="184"/>
                  </a:lnTo>
                  <a:lnTo>
                    <a:pt x="471" y="184"/>
                  </a:lnTo>
                  <a:lnTo>
                    <a:pt x="459" y="172"/>
                  </a:lnTo>
                  <a:lnTo>
                    <a:pt x="459" y="161"/>
                  </a:lnTo>
                  <a:lnTo>
                    <a:pt x="448" y="161"/>
                  </a:lnTo>
                  <a:lnTo>
                    <a:pt x="448" y="149"/>
                  </a:lnTo>
                  <a:lnTo>
                    <a:pt x="436" y="149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7720" y="2430360"/>
              <a:ext cx="129600" cy="54360"/>
            </a:xfrm>
            <a:custGeom>
              <a:avLst/>
              <a:gdLst/>
              <a:ahLst/>
              <a:rect l="l" t="t" r="r" b="b"/>
              <a:pathLst>
                <a:path w="299" h="126">
                  <a:moveTo>
                    <a:pt x="0" y="11"/>
                  </a:moveTo>
                  <a:lnTo>
                    <a:pt x="12" y="11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12" y="45"/>
                  </a:lnTo>
                  <a:lnTo>
                    <a:pt x="24" y="57"/>
                  </a:lnTo>
                  <a:lnTo>
                    <a:pt x="24" y="69"/>
                  </a:lnTo>
                  <a:lnTo>
                    <a:pt x="58" y="80"/>
                  </a:lnTo>
                  <a:lnTo>
                    <a:pt x="81" y="102"/>
                  </a:lnTo>
                  <a:lnTo>
                    <a:pt x="115" y="114"/>
                  </a:lnTo>
                  <a:lnTo>
                    <a:pt x="150" y="126"/>
                  </a:lnTo>
                  <a:lnTo>
                    <a:pt x="195" y="126"/>
                  </a:lnTo>
                  <a:lnTo>
                    <a:pt x="230" y="126"/>
                  </a:lnTo>
                  <a:lnTo>
                    <a:pt x="265" y="114"/>
                  </a:lnTo>
                  <a:lnTo>
                    <a:pt x="299" y="102"/>
                  </a:lnTo>
                  <a:lnTo>
                    <a:pt x="253" y="114"/>
                  </a:lnTo>
                  <a:lnTo>
                    <a:pt x="218" y="114"/>
                  </a:lnTo>
                  <a:lnTo>
                    <a:pt x="173" y="114"/>
                  </a:lnTo>
                  <a:lnTo>
                    <a:pt x="138" y="102"/>
                  </a:lnTo>
                  <a:lnTo>
                    <a:pt x="104" y="80"/>
                  </a:lnTo>
                  <a:lnTo>
                    <a:pt x="69" y="57"/>
                  </a:lnTo>
                  <a:lnTo>
                    <a:pt x="34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7720" y="2640600"/>
              <a:ext cx="401400" cy="328320"/>
            </a:xfrm>
            <a:custGeom>
              <a:avLst/>
              <a:gdLst/>
              <a:ahLst/>
              <a:rect l="l" t="t" r="r" b="b"/>
              <a:pathLst>
                <a:path w="930" h="768">
                  <a:moveTo>
                    <a:pt x="0" y="711"/>
                  </a:moveTo>
                  <a:lnTo>
                    <a:pt x="0" y="723"/>
                  </a:lnTo>
                  <a:lnTo>
                    <a:pt x="11" y="723"/>
                  </a:lnTo>
                  <a:lnTo>
                    <a:pt x="11" y="734"/>
                  </a:lnTo>
                  <a:lnTo>
                    <a:pt x="11" y="746"/>
                  </a:lnTo>
                  <a:lnTo>
                    <a:pt x="23" y="756"/>
                  </a:lnTo>
                  <a:lnTo>
                    <a:pt x="138" y="768"/>
                  </a:lnTo>
                  <a:lnTo>
                    <a:pt x="264" y="768"/>
                  </a:lnTo>
                  <a:lnTo>
                    <a:pt x="378" y="746"/>
                  </a:lnTo>
                  <a:lnTo>
                    <a:pt x="493" y="699"/>
                  </a:lnTo>
                  <a:lnTo>
                    <a:pt x="608" y="654"/>
                  </a:lnTo>
                  <a:lnTo>
                    <a:pt x="711" y="597"/>
                  </a:lnTo>
                  <a:lnTo>
                    <a:pt x="826" y="550"/>
                  </a:lnTo>
                  <a:lnTo>
                    <a:pt x="930" y="505"/>
                  </a:lnTo>
                  <a:lnTo>
                    <a:pt x="574" y="597"/>
                  </a:lnTo>
                  <a:lnTo>
                    <a:pt x="517" y="654"/>
                  </a:lnTo>
                  <a:lnTo>
                    <a:pt x="505" y="654"/>
                  </a:lnTo>
                  <a:lnTo>
                    <a:pt x="493" y="654"/>
                  </a:lnTo>
                  <a:lnTo>
                    <a:pt x="493" y="642"/>
                  </a:lnTo>
                  <a:lnTo>
                    <a:pt x="482" y="642"/>
                  </a:lnTo>
                  <a:lnTo>
                    <a:pt x="470" y="642"/>
                  </a:lnTo>
                  <a:lnTo>
                    <a:pt x="458" y="654"/>
                  </a:lnTo>
                  <a:lnTo>
                    <a:pt x="448" y="666"/>
                  </a:lnTo>
                  <a:lnTo>
                    <a:pt x="436" y="666"/>
                  </a:lnTo>
                  <a:lnTo>
                    <a:pt x="425" y="676"/>
                  </a:lnTo>
                  <a:lnTo>
                    <a:pt x="413" y="676"/>
                  </a:lnTo>
                  <a:lnTo>
                    <a:pt x="390" y="676"/>
                  </a:lnTo>
                  <a:lnTo>
                    <a:pt x="378" y="676"/>
                  </a:lnTo>
                  <a:lnTo>
                    <a:pt x="367" y="666"/>
                  </a:lnTo>
                  <a:lnTo>
                    <a:pt x="356" y="666"/>
                  </a:lnTo>
                  <a:lnTo>
                    <a:pt x="344" y="654"/>
                  </a:lnTo>
                  <a:lnTo>
                    <a:pt x="333" y="642"/>
                  </a:lnTo>
                  <a:lnTo>
                    <a:pt x="321" y="631"/>
                  </a:lnTo>
                  <a:lnTo>
                    <a:pt x="309" y="619"/>
                  </a:lnTo>
                  <a:lnTo>
                    <a:pt x="298" y="607"/>
                  </a:lnTo>
                  <a:lnTo>
                    <a:pt x="309" y="585"/>
                  </a:lnTo>
                  <a:lnTo>
                    <a:pt x="309" y="574"/>
                  </a:lnTo>
                  <a:lnTo>
                    <a:pt x="321" y="550"/>
                  </a:lnTo>
                  <a:lnTo>
                    <a:pt x="333" y="539"/>
                  </a:lnTo>
                  <a:lnTo>
                    <a:pt x="344" y="516"/>
                  </a:lnTo>
                  <a:lnTo>
                    <a:pt x="367" y="505"/>
                  </a:lnTo>
                  <a:lnTo>
                    <a:pt x="378" y="493"/>
                  </a:lnTo>
                  <a:lnTo>
                    <a:pt x="401" y="482"/>
                  </a:lnTo>
                  <a:lnTo>
                    <a:pt x="860" y="401"/>
                  </a:lnTo>
                  <a:lnTo>
                    <a:pt x="850" y="401"/>
                  </a:lnTo>
                  <a:lnTo>
                    <a:pt x="838" y="390"/>
                  </a:lnTo>
                  <a:lnTo>
                    <a:pt x="826" y="390"/>
                  </a:lnTo>
                  <a:lnTo>
                    <a:pt x="815" y="378"/>
                  </a:lnTo>
                  <a:lnTo>
                    <a:pt x="815" y="367"/>
                  </a:lnTo>
                  <a:lnTo>
                    <a:pt x="803" y="356"/>
                  </a:lnTo>
                  <a:lnTo>
                    <a:pt x="791" y="344"/>
                  </a:lnTo>
                  <a:lnTo>
                    <a:pt x="791" y="333"/>
                  </a:lnTo>
                  <a:lnTo>
                    <a:pt x="826" y="264"/>
                  </a:lnTo>
                  <a:lnTo>
                    <a:pt x="826" y="252"/>
                  </a:lnTo>
                  <a:lnTo>
                    <a:pt x="826" y="241"/>
                  </a:lnTo>
                  <a:lnTo>
                    <a:pt x="826" y="229"/>
                  </a:lnTo>
                  <a:lnTo>
                    <a:pt x="758" y="207"/>
                  </a:lnTo>
                  <a:lnTo>
                    <a:pt x="677" y="126"/>
                  </a:lnTo>
                  <a:lnTo>
                    <a:pt x="631" y="0"/>
                  </a:lnTo>
                  <a:lnTo>
                    <a:pt x="550" y="23"/>
                  </a:lnTo>
                  <a:lnTo>
                    <a:pt x="470" y="68"/>
                  </a:lnTo>
                  <a:lnTo>
                    <a:pt x="390" y="115"/>
                  </a:lnTo>
                  <a:lnTo>
                    <a:pt x="321" y="160"/>
                  </a:lnTo>
                  <a:lnTo>
                    <a:pt x="252" y="217"/>
                  </a:lnTo>
                  <a:lnTo>
                    <a:pt x="195" y="287"/>
                  </a:lnTo>
                  <a:lnTo>
                    <a:pt x="138" y="356"/>
                  </a:lnTo>
                  <a:lnTo>
                    <a:pt x="80" y="436"/>
                  </a:lnTo>
                  <a:lnTo>
                    <a:pt x="68" y="470"/>
                  </a:lnTo>
                  <a:lnTo>
                    <a:pt x="46" y="505"/>
                  </a:lnTo>
                  <a:lnTo>
                    <a:pt x="34" y="539"/>
                  </a:lnTo>
                  <a:lnTo>
                    <a:pt x="23" y="574"/>
                  </a:lnTo>
                  <a:lnTo>
                    <a:pt x="11" y="607"/>
                  </a:lnTo>
                  <a:lnTo>
                    <a:pt x="11" y="642"/>
                  </a:lnTo>
                  <a:lnTo>
                    <a:pt x="0" y="676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2280" y="4645800"/>
              <a:ext cx="366840" cy="1170720"/>
            </a:xfrm>
            <a:custGeom>
              <a:avLst/>
              <a:gdLst/>
              <a:ahLst/>
              <a:rect l="l" t="t" r="r" b="b"/>
              <a:pathLst>
                <a:path w="850" h="2742">
                  <a:moveTo>
                    <a:pt x="12" y="24"/>
                  </a:moveTo>
                  <a:lnTo>
                    <a:pt x="23" y="115"/>
                  </a:lnTo>
                  <a:lnTo>
                    <a:pt x="35" y="206"/>
                  </a:lnTo>
                  <a:lnTo>
                    <a:pt x="46" y="298"/>
                  </a:lnTo>
                  <a:lnTo>
                    <a:pt x="46" y="390"/>
                  </a:lnTo>
                  <a:lnTo>
                    <a:pt x="58" y="482"/>
                  </a:lnTo>
                  <a:lnTo>
                    <a:pt x="58" y="573"/>
                  </a:lnTo>
                  <a:lnTo>
                    <a:pt x="58" y="677"/>
                  </a:lnTo>
                  <a:lnTo>
                    <a:pt x="46" y="769"/>
                  </a:lnTo>
                  <a:lnTo>
                    <a:pt x="115" y="987"/>
                  </a:lnTo>
                  <a:lnTo>
                    <a:pt x="195" y="1193"/>
                  </a:lnTo>
                  <a:lnTo>
                    <a:pt x="287" y="1388"/>
                  </a:lnTo>
                  <a:lnTo>
                    <a:pt x="378" y="1583"/>
                  </a:lnTo>
                  <a:lnTo>
                    <a:pt x="459" y="1778"/>
                  </a:lnTo>
                  <a:lnTo>
                    <a:pt x="528" y="1985"/>
                  </a:lnTo>
                  <a:lnTo>
                    <a:pt x="574" y="2202"/>
                  </a:lnTo>
                  <a:lnTo>
                    <a:pt x="574" y="2432"/>
                  </a:lnTo>
                  <a:lnTo>
                    <a:pt x="586" y="2477"/>
                  </a:lnTo>
                  <a:lnTo>
                    <a:pt x="574" y="2512"/>
                  </a:lnTo>
                  <a:lnTo>
                    <a:pt x="574" y="2558"/>
                  </a:lnTo>
                  <a:lnTo>
                    <a:pt x="562" y="2593"/>
                  </a:lnTo>
                  <a:lnTo>
                    <a:pt x="562" y="2626"/>
                  </a:lnTo>
                  <a:lnTo>
                    <a:pt x="551" y="2673"/>
                  </a:lnTo>
                  <a:lnTo>
                    <a:pt x="551" y="2707"/>
                  </a:lnTo>
                  <a:lnTo>
                    <a:pt x="562" y="2742"/>
                  </a:lnTo>
                  <a:lnTo>
                    <a:pt x="574" y="2730"/>
                  </a:lnTo>
                  <a:lnTo>
                    <a:pt x="574" y="2718"/>
                  </a:lnTo>
                  <a:lnTo>
                    <a:pt x="586" y="2707"/>
                  </a:lnTo>
                  <a:lnTo>
                    <a:pt x="597" y="2707"/>
                  </a:lnTo>
                  <a:lnTo>
                    <a:pt x="609" y="2696"/>
                  </a:lnTo>
                  <a:lnTo>
                    <a:pt x="619" y="2684"/>
                  </a:lnTo>
                  <a:lnTo>
                    <a:pt x="827" y="2684"/>
                  </a:lnTo>
                  <a:lnTo>
                    <a:pt x="838" y="2684"/>
                  </a:lnTo>
                  <a:lnTo>
                    <a:pt x="838" y="2673"/>
                  </a:lnTo>
                  <a:lnTo>
                    <a:pt x="838" y="2661"/>
                  </a:lnTo>
                  <a:lnTo>
                    <a:pt x="838" y="2650"/>
                  </a:lnTo>
                  <a:lnTo>
                    <a:pt x="850" y="2638"/>
                  </a:lnTo>
                  <a:lnTo>
                    <a:pt x="850" y="2626"/>
                  </a:lnTo>
                  <a:lnTo>
                    <a:pt x="850" y="2616"/>
                  </a:lnTo>
                  <a:lnTo>
                    <a:pt x="838" y="2604"/>
                  </a:lnTo>
                  <a:lnTo>
                    <a:pt x="746" y="2569"/>
                  </a:lnTo>
                  <a:lnTo>
                    <a:pt x="735" y="2558"/>
                  </a:lnTo>
                  <a:lnTo>
                    <a:pt x="735" y="2546"/>
                  </a:lnTo>
                  <a:lnTo>
                    <a:pt x="723" y="2535"/>
                  </a:lnTo>
                  <a:lnTo>
                    <a:pt x="735" y="2524"/>
                  </a:lnTo>
                  <a:lnTo>
                    <a:pt x="735" y="2512"/>
                  </a:lnTo>
                  <a:lnTo>
                    <a:pt x="746" y="2501"/>
                  </a:lnTo>
                  <a:lnTo>
                    <a:pt x="758" y="2489"/>
                  </a:lnTo>
                  <a:lnTo>
                    <a:pt x="758" y="2477"/>
                  </a:lnTo>
                  <a:lnTo>
                    <a:pt x="758" y="2467"/>
                  </a:lnTo>
                  <a:lnTo>
                    <a:pt x="700" y="2432"/>
                  </a:lnTo>
                  <a:lnTo>
                    <a:pt x="700" y="2420"/>
                  </a:lnTo>
                  <a:lnTo>
                    <a:pt x="700" y="2409"/>
                  </a:lnTo>
                  <a:lnTo>
                    <a:pt x="711" y="2409"/>
                  </a:lnTo>
                  <a:lnTo>
                    <a:pt x="723" y="2397"/>
                  </a:lnTo>
                  <a:lnTo>
                    <a:pt x="735" y="2386"/>
                  </a:lnTo>
                  <a:lnTo>
                    <a:pt x="746" y="2375"/>
                  </a:lnTo>
                  <a:lnTo>
                    <a:pt x="746" y="2363"/>
                  </a:lnTo>
                  <a:lnTo>
                    <a:pt x="735" y="2351"/>
                  </a:lnTo>
                  <a:lnTo>
                    <a:pt x="723" y="2351"/>
                  </a:lnTo>
                  <a:lnTo>
                    <a:pt x="711" y="2351"/>
                  </a:lnTo>
                  <a:lnTo>
                    <a:pt x="689" y="2351"/>
                  </a:lnTo>
                  <a:lnTo>
                    <a:pt x="678" y="2351"/>
                  </a:lnTo>
                  <a:lnTo>
                    <a:pt x="654" y="2351"/>
                  </a:lnTo>
                  <a:lnTo>
                    <a:pt x="643" y="2340"/>
                  </a:lnTo>
                  <a:lnTo>
                    <a:pt x="619" y="2340"/>
                  </a:lnTo>
                  <a:lnTo>
                    <a:pt x="619" y="2328"/>
                  </a:lnTo>
                  <a:lnTo>
                    <a:pt x="609" y="2328"/>
                  </a:lnTo>
                  <a:lnTo>
                    <a:pt x="597" y="2318"/>
                  </a:lnTo>
                  <a:lnTo>
                    <a:pt x="597" y="2306"/>
                  </a:lnTo>
                  <a:lnTo>
                    <a:pt x="586" y="2294"/>
                  </a:lnTo>
                  <a:lnTo>
                    <a:pt x="586" y="2283"/>
                  </a:lnTo>
                  <a:lnTo>
                    <a:pt x="597" y="2110"/>
                  </a:lnTo>
                  <a:lnTo>
                    <a:pt x="586" y="2099"/>
                  </a:lnTo>
                  <a:lnTo>
                    <a:pt x="574" y="2087"/>
                  </a:lnTo>
                  <a:lnTo>
                    <a:pt x="562" y="2087"/>
                  </a:lnTo>
                  <a:lnTo>
                    <a:pt x="562" y="2077"/>
                  </a:lnTo>
                  <a:lnTo>
                    <a:pt x="539" y="1881"/>
                  </a:lnTo>
                  <a:lnTo>
                    <a:pt x="517" y="1687"/>
                  </a:lnTo>
                  <a:lnTo>
                    <a:pt x="494" y="1503"/>
                  </a:lnTo>
                  <a:lnTo>
                    <a:pt x="459" y="1308"/>
                  </a:lnTo>
                  <a:lnTo>
                    <a:pt x="425" y="1112"/>
                  </a:lnTo>
                  <a:lnTo>
                    <a:pt x="390" y="918"/>
                  </a:lnTo>
                  <a:lnTo>
                    <a:pt x="356" y="722"/>
                  </a:lnTo>
                  <a:lnTo>
                    <a:pt x="321" y="528"/>
                  </a:lnTo>
                  <a:lnTo>
                    <a:pt x="287" y="471"/>
                  </a:lnTo>
                  <a:lnTo>
                    <a:pt x="253" y="402"/>
                  </a:lnTo>
                  <a:lnTo>
                    <a:pt x="241" y="332"/>
                  </a:lnTo>
                  <a:lnTo>
                    <a:pt x="229" y="275"/>
                  </a:lnTo>
                  <a:lnTo>
                    <a:pt x="229" y="206"/>
                  </a:lnTo>
                  <a:lnTo>
                    <a:pt x="218" y="138"/>
                  </a:lnTo>
                  <a:lnTo>
                    <a:pt x="207" y="69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1440" y="2587320"/>
              <a:ext cx="19080" cy="18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1" y="45"/>
                  </a:moveTo>
                  <a:lnTo>
                    <a:pt x="23" y="45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57200" y="4674600"/>
              <a:ext cx="29160" cy="88920"/>
            </a:xfrm>
            <a:custGeom>
              <a:avLst/>
              <a:gdLst/>
              <a:ahLst/>
              <a:rect l="l" t="t" r="r" b="b"/>
              <a:pathLst>
                <a:path w="69" h="206">
                  <a:moveTo>
                    <a:pt x="0" y="12"/>
                  </a:moveTo>
                  <a:lnTo>
                    <a:pt x="69" y="206"/>
                  </a:lnTo>
                  <a:lnTo>
                    <a:pt x="69" y="1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6360" y="2537640"/>
              <a:ext cx="29160" cy="237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0" y="57"/>
                  </a:moveTo>
                  <a:lnTo>
                    <a:pt x="69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23" y="22"/>
                  </a:lnTo>
                  <a:lnTo>
                    <a:pt x="12" y="33"/>
                  </a:lnTo>
                  <a:lnTo>
                    <a:pt x="12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5440" y="2561760"/>
              <a:ext cx="39960" cy="38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12" y="68"/>
                  </a:moveTo>
                  <a:lnTo>
                    <a:pt x="23" y="80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69" y="92"/>
                  </a:lnTo>
                  <a:lnTo>
                    <a:pt x="69" y="80"/>
                  </a:lnTo>
                  <a:lnTo>
                    <a:pt x="81" y="68"/>
                  </a:lnTo>
                  <a:lnTo>
                    <a:pt x="81" y="57"/>
                  </a:lnTo>
                  <a:lnTo>
                    <a:pt x="92" y="45"/>
                  </a:lnTo>
                  <a:lnTo>
                    <a:pt x="92" y="33"/>
                  </a:lnTo>
                  <a:lnTo>
                    <a:pt x="92" y="11"/>
                  </a:lnTo>
                  <a:lnTo>
                    <a:pt x="92" y="0"/>
                  </a:lnTo>
                  <a:lnTo>
                    <a:pt x="69" y="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46" y="22"/>
                  </a:lnTo>
                  <a:lnTo>
                    <a:pt x="34" y="33"/>
                  </a:lnTo>
                  <a:lnTo>
                    <a:pt x="23" y="33"/>
                  </a:lnTo>
                  <a:lnTo>
                    <a:pt x="12" y="57"/>
                  </a:lnTo>
                  <a:lnTo>
                    <a:pt x="0" y="68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40000" y="2331000"/>
              <a:ext cx="55080" cy="4392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0" y="103"/>
                  </a:moveTo>
                  <a:lnTo>
                    <a:pt x="12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480" y="2449080"/>
              <a:ext cx="39600" cy="25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57"/>
                  </a:moveTo>
                  <a:lnTo>
                    <a:pt x="11" y="57"/>
                  </a:lnTo>
                  <a:lnTo>
                    <a:pt x="92" y="24"/>
                  </a:lnTo>
                  <a:lnTo>
                    <a:pt x="92" y="1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85000" y="2508480"/>
              <a:ext cx="55080" cy="4788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115"/>
                  </a:moveTo>
                  <a:lnTo>
                    <a:pt x="127" y="0"/>
                  </a:lnTo>
                  <a:lnTo>
                    <a:pt x="104" y="11"/>
                  </a:lnTo>
                  <a:lnTo>
                    <a:pt x="92" y="23"/>
                  </a:lnTo>
                  <a:lnTo>
                    <a:pt x="70" y="35"/>
                  </a:lnTo>
                  <a:lnTo>
                    <a:pt x="47" y="46"/>
                  </a:lnTo>
                  <a:lnTo>
                    <a:pt x="24" y="70"/>
                  </a:lnTo>
                  <a:lnTo>
                    <a:pt x="12" y="80"/>
                  </a:lnTo>
                  <a:lnTo>
                    <a:pt x="0" y="9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64920" y="2435400"/>
              <a:ext cx="29160" cy="183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12" y="46"/>
                  </a:moveTo>
                  <a:lnTo>
                    <a:pt x="69" y="1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4" y="23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9040" y="2248920"/>
              <a:ext cx="15120" cy="2880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35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9040" y="2900160"/>
              <a:ext cx="437760" cy="642600"/>
            </a:xfrm>
            <a:custGeom>
              <a:avLst/>
              <a:gdLst/>
              <a:ahLst/>
              <a:rect l="l" t="t" r="r" b="b"/>
              <a:pathLst>
                <a:path w="1011" h="1504">
                  <a:moveTo>
                    <a:pt x="0" y="678"/>
                  </a:moveTo>
                  <a:lnTo>
                    <a:pt x="47" y="769"/>
                  </a:lnTo>
                  <a:lnTo>
                    <a:pt x="265" y="598"/>
                  </a:lnTo>
                  <a:lnTo>
                    <a:pt x="265" y="586"/>
                  </a:lnTo>
                  <a:lnTo>
                    <a:pt x="265" y="574"/>
                  </a:lnTo>
                  <a:lnTo>
                    <a:pt x="265" y="563"/>
                  </a:lnTo>
                  <a:lnTo>
                    <a:pt x="265" y="551"/>
                  </a:lnTo>
                  <a:lnTo>
                    <a:pt x="265" y="540"/>
                  </a:lnTo>
                  <a:lnTo>
                    <a:pt x="253" y="528"/>
                  </a:lnTo>
                  <a:lnTo>
                    <a:pt x="241" y="528"/>
                  </a:lnTo>
                  <a:lnTo>
                    <a:pt x="231" y="528"/>
                  </a:lnTo>
                  <a:lnTo>
                    <a:pt x="219" y="528"/>
                  </a:lnTo>
                  <a:lnTo>
                    <a:pt x="208" y="540"/>
                  </a:lnTo>
                  <a:lnTo>
                    <a:pt x="196" y="551"/>
                  </a:lnTo>
                  <a:lnTo>
                    <a:pt x="184" y="551"/>
                  </a:lnTo>
                  <a:lnTo>
                    <a:pt x="173" y="551"/>
                  </a:lnTo>
                  <a:lnTo>
                    <a:pt x="116" y="506"/>
                  </a:lnTo>
                  <a:lnTo>
                    <a:pt x="116" y="494"/>
                  </a:lnTo>
                  <a:lnTo>
                    <a:pt x="127" y="482"/>
                  </a:lnTo>
                  <a:lnTo>
                    <a:pt x="139" y="471"/>
                  </a:lnTo>
                  <a:lnTo>
                    <a:pt x="139" y="459"/>
                  </a:lnTo>
                  <a:lnTo>
                    <a:pt x="151" y="449"/>
                  </a:lnTo>
                  <a:lnTo>
                    <a:pt x="161" y="449"/>
                  </a:lnTo>
                  <a:lnTo>
                    <a:pt x="173" y="437"/>
                  </a:lnTo>
                  <a:lnTo>
                    <a:pt x="310" y="425"/>
                  </a:lnTo>
                  <a:lnTo>
                    <a:pt x="414" y="506"/>
                  </a:lnTo>
                  <a:lnTo>
                    <a:pt x="380" y="574"/>
                  </a:lnTo>
                  <a:lnTo>
                    <a:pt x="391" y="586"/>
                  </a:lnTo>
                  <a:lnTo>
                    <a:pt x="391" y="598"/>
                  </a:lnTo>
                  <a:lnTo>
                    <a:pt x="402" y="598"/>
                  </a:lnTo>
                  <a:lnTo>
                    <a:pt x="414" y="598"/>
                  </a:lnTo>
                  <a:lnTo>
                    <a:pt x="425" y="598"/>
                  </a:lnTo>
                  <a:lnTo>
                    <a:pt x="425" y="608"/>
                  </a:lnTo>
                  <a:lnTo>
                    <a:pt x="437" y="608"/>
                  </a:lnTo>
                  <a:lnTo>
                    <a:pt x="414" y="712"/>
                  </a:lnTo>
                  <a:lnTo>
                    <a:pt x="402" y="804"/>
                  </a:lnTo>
                  <a:lnTo>
                    <a:pt x="402" y="918"/>
                  </a:lnTo>
                  <a:lnTo>
                    <a:pt x="414" y="1022"/>
                  </a:lnTo>
                  <a:lnTo>
                    <a:pt x="425" y="1125"/>
                  </a:lnTo>
                  <a:lnTo>
                    <a:pt x="449" y="1228"/>
                  </a:lnTo>
                  <a:lnTo>
                    <a:pt x="471" y="1343"/>
                  </a:lnTo>
                  <a:lnTo>
                    <a:pt x="494" y="1446"/>
                  </a:lnTo>
                  <a:lnTo>
                    <a:pt x="551" y="1423"/>
                  </a:lnTo>
                  <a:lnTo>
                    <a:pt x="563" y="1423"/>
                  </a:lnTo>
                  <a:lnTo>
                    <a:pt x="574" y="1435"/>
                  </a:lnTo>
                  <a:lnTo>
                    <a:pt x="586" y="1446"/>
                  </a:lnTo>
                  <a:lnTo>
                    <a:pt x="598" y="1457"/>
                  </a:lnTo>
                  <a:lnTo>
                    <a:pt x="609" y="1469"/>
                  </a:lnTo>
                  <a:lnTo>
                    <a:pt x="609" y="1480"/>
                  </a:lnTo>
                  <a:lnTo>
                    <a:pt x="621" y="1492"/>
                  </a:lnTo>
                  <a:lnTo>
                    <a:pt x="621" y="1504"/>
                  </a:lnTo>
                  <a:lnTo>
                    <a:pt x="690" y="1435"/>
                  </a:lnTo>
                  <a:lnTo>
                    <a:pt x="747" y="1355"/>
                  </a:lnTo>
                  <a:lnTo>
                    <a:pt x="792" y="1274"/>
                  </a:lnTo>
                  <a:lnTo>
                    <a:pt x="839" y="1194"/>
                  </a:lnTo>
                  <a:lnTo>
                    <a:pt x="884" y="1102"/>
                  </a:lnTo>
                  <a:lnTo>
                    <a:pt x="919" y="1010"/>
                  </a:lnTo>
                  <a:lnTo>
                    <a:pt x="965" y="918"/>
                  </a:lnTo>
                  <a:lnTo>
                    <a:pt x="1011" y="827"/>
                  </a:lnTo>
                  <a:lnTo>
                    <a:pt x="999" y="815"/>
                  </a:lnTo>
                  <a:lnTo>
                    <a:pt x="999" y="804"/>
                  </a:lnTo>
                  <a:lnTo>
                    <a:pt x="988" y="804"/>
                  </a:lnTo>
                  <a:lnTo>
                    <a:pt x="621" y="1400"/>
                  </a:lnTo>
                  <a:lnTo>
                    <a:pt x="609" y="1400"/>
                  </a:lnTo>
                  <a:lnTo>
                    <a:pt x="609" y="1412"/>
                  </a:lnTo>
                  <a:lnTo>
                    <a:pt x="598" y="1412"/>
                  </a:lnTo>
                  <a:lnTo>
                    <a:pt x="586" y="1412"/>
                  </a:lnTo>
                  <a:lnTo>
                    <a:pt x="574" y="1412"/>
                  </a:lnTo>
                  <a:lnTo>
                    <a:pt x="563" y="1412"/>
                  </a:lnTo>
                  <a:lnTo>
                    <a:pt x="551" y="1412"/>
                  </a:lnTo>
                  <a:lnTo>
                    <a:pt x="551" y="1400"/>
                  </a:lnTo>
                  <a:lnTo>
                    <a:pt x="541" y="1400"/>
                  </a:lnTo>
                  <a:lnTo>
                    <a:pt x="541" y="1388"/>
                  </a:lnTo>
                  <a:lnTo>
                    <a:pt x="541" y="1377"/>
                  </a:lnTo>
                  <a:lnTo>
                    <a:pt x="529" y="1365"/>
                  </a:lnTo>
                  <a:lnTo>
                    <a:pt x="563" y="1320"/>
                  </a:lnTo>
                  <a:lnTo>
                    <a:pt x="586" y="1263"/>
                  </a:lnTo>
                  <a:lnTo>
                    <a:pt x="598" y="1194"/>
                  </a:lnTo>
                  <a:lnTo>
                    <a:pt x="598" y="1125"/>
                  </a:lnTo>
                  <a:lnTo>
                    <a:pt x="586" y="1056"/>
                  </a:lnTo>
                  <a:lnTo>
                    <a:pt x="586" y="987"/>
                  </a:lnTo>
                  <a:lnTo>
                    <a:pt x="574" y="918"/>
                  </a:lnTo>
                  <a:lnTo>
                    <a:pt x="563" y="849"/>
                  </a:lnTo>
                  <a:lnTo>
                    <a:pt x="574" y="769"/>
                  </a:lnTo>
                  <a:lnTo>
                    <a:pt x="574" y="700"/>
                  </a:lnTo>
                  <a:lnTo>
                    <a:pt x="586" y="632"/>
                  </a:lnTo>
                  <a:lnTo>
                    <a:pt x="586" y="563"/>
                  </a:lnTo>
                  <a:lnTo>
                    <a:pt x="598" y="494"/>
                  </a:lnTo>
                  <a:lnTo>
                    <a:pt x="598" y="425"/>
                  </a:lnTo>
                  <a:lnTo>
                    <a:pt x="598" y="357"/>
                  </a:lnTo>
                  <a:lnTo>
                    <a:pt x="598" y="288"/>
                  </a:lnTo>
                  <a:lnTo>
                    <a:pt x="598" y="241"/>
                  </a:lnTo>
                  <a:lnTo>
                    <a:pt x="586" y="196"/>
                  </a:lnTo>
                  <a:lnTo>
                    <a:pt x="563" y="161"/>
                  </a:lnTo>
                  <a:lnTo>
                    <a:pt x="529" y="127"/>
                  </a:lnTo>
                  <a:lnTo>
                    <a:pt x="506" y="104"/>
                  </a:lnTo>
                  <a:lnTo>
                    <a:pt x="471" y="81"/>
                  </a:lnTo>
                  <a:lnTo>
                    <a:pt x="449" y="47"/>
                  </a:lnTo>
                  <a:lnTo>
                    <a:pt x="437" y="12"/>
                  </a:lnTo>
                  <a:lnTo>
                    <a:pt x="425" y="12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68" y="0"/>
                  </a:lnTo>
                  <a:lnTo>
                    <a:pt x="357" y="12"/>
                  </a:lnTo>
                  <a:lnTo>
                    <a:pt x="345" y="12"/>
                  </a:lnTo>
                  <a:lnTo>
                    <a:pt x="333" y="24"/>
                  </a:lnTo>
                  <a:lnTo>
                    <a:pt x="265" y="92"/>
                  </a:lnTo>
                  <a:lnTo>
                    <a:pt x="219" y="173"/>
                  </a:lnTo>
                  <a:lnTo>
                    <a:pt x="161" y="241"/>
                  </a:lnTo>
                  <a:lnTo>
                    <a:pt x="116" y="322"/>
                  </a:lnTo>
                  <a:lnTo>
                    <a:pt x="81" y="402"/>
                  </a:lnTo>
                  <a:lnTo>
                    <a:pt x="47" y="494"/>
                  </a:lnTo>
                  <a:lnTo>
                    <a:pt x="24" y="574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5440" y="2435400"/>
              <a:ext cx="236880" cy="278640"/>
            </a:xfrm>
            <a:custGeom>
              <a:avLst/>
              <a:gdLst/>
              <a:ahLst/>
              <a:rect l="l" t="t" r="r" b="b"/>
              <a:pathLst>
                <a:path w="551" h="654">
                  <a:moveTo>
                    <a:pt x="0" y="574"/>
                  </a:moveTo>
                  <a:lnTo>
                    <a:pt x="22" y="585"/>
                  </a:lnTo>
                  <a:lnTo>
                    <a:pt x="45" y="597"/>
                  </a:lnTo>
                  <a:lnTo>
                    <a:pt x="69" y="608"/>
                  </a:lnTo>
                  <a:lnTo>
                    <a:pt x="102" y="620"/>
                  </a:lnTo>
                  <a:lnTo>
                    <a:pt x="126" y="631"/>
                  </a:lnTo>
                  <a:lnTo>
                    <a:pt x="149" y="631"/>
                  </a:lnTo>
                  <a:lnTo>
                    <a:pt x="161" y="642"/>
                  </a:lnTo>
                  <a:lnTo>
                    <a:pt x="171" y="654"/>
                  </a:lnTo>
                  <a:lnTo>
                    <a:pt x="263" y="585"/>
                  </a:lnTo>
                  <a:lnTo>
                    <a:pt x="275" y="585"/>
                  </a:lnTo>
                  <a:lnTo>
                    <a:pt x="286" y="574"/>
                  </a:lnTo>
                  <a:lnTo>
                    <a:pt x="298" y="574"/>
                  </a:lnTo>
                  <a:lnTo>
                    <a:pt x="310" y="562"/>
                  </a:lnTo>
                  <a:lnTo>
                    <a:pt x="320" y="562"/>
                  </a:lnTo>
                  <a:lnTo>
                    <a:pt x="332" y="550"/>
                  </a:lnTo>
                  <a:lnTo>
                    <a:pt x="355" y="540"/>
                  </a:lnTo>
                  <a:lnTo>
                    <a:pt x="435" y="493"/>
                  </a:lnTo>
                  <a:lnTo>
                    <a:pt x="447" y="482"/>
                  </a:lnTo>
                  <a:lnTo>
                    <a:pt x="459" y="471"/>
                  </a:lnTo>
                  <a:lnTo>
                    <a:pt x="470" y="448"/>
                  </a:lnTo>
                  <a:lnTo>
                    <a:pt x="481" y="424"/>
                  </a:lnTo>
                  <a:lnTo>
                    <a:pt x="493" y="401"/>
                  </a:lnTo>
                  <a:lnTo>
                    <a:pt x="504" y="379"/>
                  </a:lnTo>
                  <a:lnTo>
                    <a:pt x="504" y="356"/>
                  </a:lnTo>
                  <a:lnTo>
                    <a:pt x="504" y="344"/>
                  </a:lnTo>
                  <a:lnTo>
                    <a:pt x="493" y="344"/>
                  </a:lnTo>
                  <a:lnTo>
                    <a:pt x="481" y="344"/>
                  </a:lnTo>
                  <a:lnTo>
                    <a:pt x="459" y="344"/>
                  </a:lnTo>
                  <a:lnTo>
                    <a:pt x="447" y="344"/>
                  </a:lnTo>
                  <a:lnTo>
                    <a:pt x="435" y="344"/>
                  </a:lnTo>
                  <a:lnTo>
                    <a:pt x="424" y="344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1" y="321"/>
                  </a:lnTo>
                  <a:lnTo>
                    <a:pt x="367" y="310"/>
                  </a:lnTo>
                  <a:lnTo>
                    <a:pt x="355" y="310"/>
                  </a:lnTo>
                  <a:lnTo>
                    <a:pt x="343" y="310"/>
                  </a:lnTo>
                  <a:lnTo>
                    <a:pt x="343" y="299"/>
                  </a:lnTo>
                  <a:lnTo>
                    <a:pt x="332" y="287"/>
                  </a:lnTo>
                  <a:lnTo>
                    <a:pt x="320" y="275"/>
                  </a:lnTo>
                  <a:lnTo>
                    <a:pt x="320" y="264"/>
                  </a:lnTo>
                  <a:lnTo>
                    <a:pt x="320" y="252"/>
                  </a:lnTo>
                  <a:lnTo>
                    <a:pt x="332" y="252"/>
                  </a:lnTo>
                  <a:lnTo>
                    <a:pt x="343" y="242"/>
                  </a:lnTo>
                  <a:lnTo>
                    <a:pt x="355" y="242"/>
                  </a:lnTo>
                  <a:lnTo>
                    <a:pt x="367" y="242"/>
                  </a:lnTo>
                  <a:lnTo>
                    <a:pt x="378" y="242"/>
                  </a:lnTo>
                  <a:lnTo>
                    <a:pt x="390" y="242"/>
                  </a:lnTo>
                  <a:lnTo>
                    <a:pt x="539" y="275"/>
                  </a:lnTo>
                  <a:lnTo>
                    <a:pt x="551" y="150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9" y="12"/>
                  </a:lnTo>
                  <a:lnTo>
                    <a:pt x="137" y="23"/>
                  </a:lnTo>
                  <a:lnTo>
                    <a:pt x="137" y="34"/>
                  </a:lnTo>
                  <a:lnTo>
                    <a:pt x="126" y="46"/>
                  </a:lnTo>
                  <a:lnTo>
                    <a:pt x="126" y="58"/>
                  </a:lnTo>
                  <a:lnTo>
                    <a:pt x="114" y="69"/>
                  </a:lnTo>
                  <a:lnTo>
                    <a:pt x="102" y="81"/>
                  </a:lnTo>
                  <a:lnTo>
                    <a:pt x="241" y="103"/>
                  </a:lnTo>
                  <a:lnTo>
                    <a:pt x="343" y="172"/>
                  </a:lnTo>
                  <a:lnTo>
                    <a:pt x="343" y="195"/>
                  </a:lnTo>
                  <a:lnTo>
                    <a:pt x="332" y="218"/>
                  </a:lnTo>
                  <a:lnTo>
                    <a:pt x="320" y="242"/>
                  </a:lnTo>
                  <a:lnTo>
                    <a:pt x="298" y="264"/>
                  </a:lnTo>
                  <a:lnTo>
                    <a:pt x="286" y="287"/>
                  </a:lnTo>
                  <a:lnTo>
                    <a:pt x="263" y="299"/>
                  </a:lnTo>
                  <a:lnTo>
                    <a:pt x="251" y="310"/>
                  </a:lnTo>
                  <a:lnTo>
                    <a:pt x="241" y="310"/>
                  </a:lnTo>
                  <a:lnTo>
                    <a:pt x="286" y="230"/>
                  </a:lnTo>
                  <a:lnTo>
                    <a:pt x="194" y="230"/>
                  </a:lnTo>
                  <a:lnTo>
                    <a:pt x="69" y="161"/>
                  </a:lnTo>
                  <a:lnTo>
                    <a:pt x="34" y="275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4960" y="2606400"/>
              <a:ext cx="74160" cy="6804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92" y="161"/>
                  </a:moveTo>
                  <a:lnTo>
                    <a:pt x="80" y="149"/>
                  </a:lnTo>
                  <a:lnTo>
                    <a:pt x="68" y="149"/>
                  </a:lnTo>
                  <a:lnTo>
                    <a:pt x="45" y="139"/>
                  </a:lnTo>
                  <a:lnTo>
                    <a:pt x="33" y="127"/>
                  </a:lnTo>
                  <a:lnTo>
                    <a:pt x="22" y="115"/>
                  </a:lnTo>
                  <a:lnTo>
                    <a:pt x="11" y="104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2" y="0"/>
                  </a:lnTo>
                  <a:lnTo>
                    <a:pt x="45" y="12"/>
                  </a:lnTo>
                  <a:lnTo>
                    <a:pt x="57" y="23"/>
                  </a:lnTo>
                  <a:lnTo>
                    <a:pt x="80" y="35"/>
                  </a:lnTo>
                  <a:lnTo>
                    <a:pt x="102" y="58"/>
                  </a:lnTo>
                  <a:lnTo>
                    <a:pt x="125" y="70"/>
                  </a:lnTo>
                  <a:lnTo>
                    <a:pt x="149" y="81"/>
                  </a:lnTo>
                  <a:lnTo>
                    <a:pt x="160" y="104"/>
                  </a:lnTo>
                  <a:lnTo>
                    <a:pt x="172" y="115"/>
                  </a:lnTo>
                  <a:lnTo>
                    <a:pt x="172" y="127"/>
                  </a:lnTo>
                  <a:lnTo>
                    <a:pt x="172" y="139"/>
                  </a:lnTo>
                  <a:lnTo>
                    <a:pt x="160" y="139"/>
                  </a:lnTo>
                  <a:lnTo>
                    <a:pt x="149" y="139"/>
                  </a:lnTo>
                  <a:lnTo>
                    <a:pt x="137" y="149"/>
                  </a:lnTo>
                  <a:lnTo>
                    <a:pt x="125" y="149"/>
                  </a:lnTo>
                  <a:lnTo>
                    <a:pt x="102" y="149"/>
                  </a:lnTo>
                  <a:lnTo>
                    <a:pt x="92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65360" y="2233440"/>
              <a:ext cx="63720" cy="118080"/>
            </a:xfrm>
            <a:custGeom>
              <a:avLst/>
              <a:gdLst/>
              <a:ahLst/>
              <a:rect l="l" t="t" r="r" b="b"/>
              <a:pathLst>
                <a:path w="149" h="275">
                  <a:moveTo>
                    <a:pt x="0" y="46"/>
                  </a:moveTo>
                  <a:lnTo>
                    <a:pt x="0" y="57"/>
                  </a:lnTo>
                  <a:lnTo>
                    <a:pt x="11" y="69"/>
                  </a:lnTo>
                  <a:lnTo>
                    <a:pt x="11" y="80"/>
                  </a:lnTo>
                  <a:lnTo>
                    <a:pt x="23" y="80"/>
                  </a:lnTo>
                  <a:lnTo>
                    <a:pt x="35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58" y="92"/>
                  </a:lnTo>
                  <a:lnTo>
                    <a:pt x="149" y="27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9960" y="2595960"/>
              <a:ext cx="45000" cy="3096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2" y="12"/>
                  </a:moveTo>
                  <a:lnTo>
                    <a:pt x="12" y="22"/>
                  </a:lnTo>
                  <a:lnTo>
                    <a:pt x="23" y="34"/>
                  </a:lnTo>
                  <a:lnTo>
                    <a:pt x="35" y="45"/>
                  </a:lnTo>
                  <a:lnTo>
                    <a:pt x="47" y="45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70" y="69"/>
                  </a:lnTo>
                  <a:lnTo>
                    <a:pt x="80" y="69"/>
                  </a:lnTo>
                  <a:lnTo>
                    <a:pt x="92" y="69"/>
                  </a:lnTo>
                  <a:lnTo>
                    <a:pt x="104" y="69"/>
                  </a:lnTo>
                  <a:lnTo>
                    <a:pt x="104" y="57"/>
                  </a:lnTo>
                  <a:lnTo>
                    <a:pt x="104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80" y="22"/>
                  </a:lnTo>
                  <a:lnTo>
                    <a:pt x="70" y="12"/>
                  </a:lnTo>
                  <a:lnTo>
                    <a:pt x="58" y="12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2199240"/>
              <a:ext cx="25560" cy="54360"/>
            </a:xfrm>
            <a:custGeom>
              <a:avLst/>
              <a:gdLst/>
              <a:ahLst/>
              <a:rect l="l" t="t" r="r" b="b"/>
              <a:pathLst>
                <a:path w="57" h="126">
                  <a:moveTo>
                    <a:pt x="0" y="23"/>
                  </a:moveTo>
                  <a:lnTo>
                    <a:pt x="57" y="126"/>
                  </a:lnTo>
                  <a:lnTo>
                    <a:pt x="57" y="114"/>
                  </a:lnTo>
                  <a:lnTo>
                    <a:pt x="57" y="103"/>
                  </a:lnTo>
                  <a:lnTo>
                    <a:pt x="57" y="80"/>
                  </a:lnTo>
                  <a:lnTo>
                    <a:pt x="57" y="57"/>
                  </a:lnTo>
                  <a:lnTo>
                    <a:pt x="45" y="45"/>
                  </a:lnTo>
                  <a:lnTo>
                    <a:pt x="45" y="23"/>
                  </a:lnTo>
                  <a:lnTo>
                    <a:pt x="34" y="1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69040" y="2180520"/>
              <a:ext cx="13680" cy="160200"/>
            </a:xfrm>
            <a:custGeom>
              <a:avLst/>
              <a:gdLst/>
              <a:ahLst/>
              <a:rect l="l" t="t" r="r" b="b"/>
              <a:pathLst>
                <a:path w="35" h="380">
                  <a:moveTo>
                    <a:pt x="0" y="23"/>
                  </a:moveTo>
                  <a:lnTo>
                    <a:pt x="35" y="380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3600" y="2635560"/>
              <a:ext cx="24120" cy="306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0" y="34"/>
                  </a:move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35" y="69"/>
                  </a:lnTo>
                  <a:lnTo>
                    <a:pt x="47" y="69"/>
                  </a:lnTo>
                  <a:lnTo>
                    <a:pt x="47" y="57"/>
                  </a:lnTo>
                  <a:lnTo>
                    <a:pt x="47" y="45"/>
                  </a:lnTo>
                  <a:lnTo>
                    <a:pt x="57" y="45"/>
                  </a:lnTo>
                  <a:lnTo>
                    <a:pt x="57" y="34"/>
                  </a:lnTo>
                  <a:lnTo>
                    <a:pt x="57" y="22"/>
                  </a:lnTo>
                  <a:lnTo>
                    <a:pt x="57" y="1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7720" y="2708640"/>
              <a:ext cx="10440" cy="154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12" y="23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42200" y="2278080"/>
              <a:ext cx="20520" cy="1177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275"/>
                  </a:moveTo>
                  <a:lnTo>
                    <a:pt x="12" y="26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7240" y="2430360"/>
              <a:ext cx="29160" cy="57600"/>
            </a:xfrm>
            <a:custGeom>
              <a:avLst/>
              <a:gdLst/>
              <a:ahLst/>
              <a:rect l="l" t="t" r="r" b="b"/>
              <a:pathLst>
                <a:path w="69" h="137">
                  <a:moveTo>
                    <a:pt x="0" y="137"/>
                  </a:moveTo>
                  <a:lnTo>
                    <a:pt x="12" y="126"/>
                  </a:lnTo>
                  <a:lnTo>
                    <a:pt x="23" y="114"/>
                  </a:lnTo>
                  <a:lnTo>
                    <a:pt x="23" y="102"/>
                  </a:lnTo>
                  <a:lnTo>
                    <a:pt x="35" y="92"/>
                  </a:lnTo>
                  <a:lnTo>
                    <a:pt x="46" y="69"/>
                  </a:lnTo>
                  <a:lnTo>
                    <a:pt x="57" y="57"/>
                  </a:lnTo>
                  <a:lnTo>
                    <a:pt x="57" y="34"/>
                  </a:lnTo>
                  <a:lnTo>
                    <a:pt x="69" y="23"/>
                  </a:lnTo>
                  <a:lnTo>
                    <a:pt x="69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640" y="3023280"/>
              <a:ext cx="68760" cy="126360"/>
            </a:xfrm>
            <a:custGeom>
              <a:avLst/>
              <a:gdLst/>
              <a:ahLst/>
              <a:rect l="l" t="t" r="r" b="b"/>
              <a:pathLst>
                <a:path w="161" h="298">
                  <a:moveTo>
                    <a:pt x="0" y="126"/>
                  </a:moveTo>
                  <a:lnTo>
                    <a:pt x="35" y="298"/>
                  </a:lnTo>
                  <a:lnTo>
                    <a:pt x="57" y="263"/>
                  </a:lnTo>
                  <a:lnTo>
                    <a:pt x="80" y="229"/>
                  </a:lnTo>
                  <a:lnTo>
                    <a:pt x="103" y="194"/>
                  </a:lnTo>
                  <a:lnTo>
                    <a:pt x="127" y="161"/>
                  </a:lnTo>
                  <a:lnTo>
                    <a:pt x="149" y="126"/>
                  </a:lnTo>
                  <a:lnTo>
                    <a:pt x="161" y="91"/>
                  </a:lnTo>
                  <a:lnTo>
                    <a:pt x="161" y="45"/>
                  </a:lnTo>
                  <a:lnTo>
                    <a:pt x="161" y="0"/>
                  </a:lnTo>
                  <a:lnTo>
                    <a:pt x="80" y="45"/>
                  </a:lnTo>
                  <a:lnTo>
                    <a:pt x="69" y="45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35" y="45"/>
                  </a:lnTo>
                  <a:lnTo>
                    <a:pt x="23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0000" y="2616480"/>
              <a:ext cx="63720" cy="442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149" y="92"/>
                  </a:moveTo>
                  <a:lnTo>
                    <a:pt x="11" y="0"/>
                  </a:lnTo>
                  <a:lnTo>
                    <a:pt x="0" y="12"/>
                  </a:lnTo>
                  <a:lnTo>
                    <a:pt x="126" y="104"/>
                  </a:lnTo>
                  <a:lnTo>
                    <a:pt x="138" y="104"/>
                  </a:lnTo>
                  <a:lnTo>
                    <a:pt x="149" y="104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920" y="2669400"/>
              <a:ext cx="23760" cy="97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7" y="2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7680" y="3131280"/>
              <a:ext cx="191880" cy="122760"/>
            </a:xfrm>
            <a:custGeom>
              <a:avLst/>
              <a:gdLst/>
              <a:ahLst/>
              <a:rect l="l" t="t" r="r" b="b"/>
              <a:pathLst>
                <a:path w="447" h="287">
                  <a:moveTo>
                    <a:pt x="0" y="58"/>
                  </a:moveTo>
                  <a:lnTo>
                    <a:pt x="46" y="195"/>
                  </a:lnTo>
                  <a:lnTo>
                    <a:pt x="68" y="217"/>
                  </a:lnTo>
                  <a:lnTo>
                    <a:pt x="103" y="241"/>
                  </a:lnTo>
                  <a:lnTo>
                    <a:pt x="149" y="252"/>
                  </a:lnTo>
                  <a:lnTo>
                    <a:pt x="183" y="264"/>
                  </a:lnTo>
                  <a:lnTo>
                    <a:pt x="229" y="275"/>
                  </a:lnTo>
                  <a:lnTo>
                    <a:pt x="275" y="287"/>
                  </a:lnTo>
                  <a:lnTo>
                    <a:pt x="321" y="287"/>
                  </a:lnTo>
                  <a:lnTo>
                    <a:pt x="366" y="287"/>
                  </a:lnTo>
                  <a:lnTo>
                    <a:pt x="366" y="275"/>
                  </a:lnTo>
                  <a:lnTo>
                    <a:pt x="366" y="264"/>
                  </a:lnTo>
                  <a:lnTo>
                    <a:pt x="378" y="252"/>
                  </a:lnTo>
                  <a:lnTo>
                    <a:pt x="378" y="241"/>
                  </a:lnTo>
                  <a:lnTo>
                    <a:pt x="447" y="207"/>
                  </a:lnTo>
                  <a:lnTo>
                    <a:pt x="125" y="138"/>
                  </a:lnTo>
                  <a:lnTo>
                    <a:pt x="80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0600" y="1676520"/>
              <a:ext cx="1649520" cy="4268160"/>
            </a:xfrm>
            <a:custGeom>
              <a:avLst/>
              <a:gdLst/>
              <a:ahLst/>
              <a:rect l="l" t="t" r="r" b="b"/>
              <a:pathLst>
                <a:path w="3814" h="9989">
                  <a:moveTo>
                    <a:pt x="3814" y="7098"/>
                  </a:moveTo>
                  <a:lnTo>
                    <a:pt x="3814" y="6992"/>
                  </a:lnTo>
                  <a:lnTo>
                    <a:pt x="3800" y="6979"/>
                  </a:lnTo>
                  <a:lnTo>
                    <a:pt x="3774" y="6966"/>
                  </a:lnTo>
                  <a:lnTo>
                    <a:pt x="3761" y="6953"/>
                  </a:lnTo>
                  <a:lnTo>
                    <a:pt x="3748" y="6940"/>
                  </a:lnTo>
                  <a:lnTo>
                    <a:pt x="3721" y="6927"/>
                  </a:lnTo>
                  <a:lnTo>
                    <a:pt x="3695" y="6913"/>
                  </a:lnTo>
                  <a:lnTo>
                    <a:pt x="3682" y="6913"/>
                  </a:lnTo>
                  <a:lnTo>
                    <a:pt x="3656" y="6887"/>
                  </a:lnTo>
                  <a:lnTo>
                    <a:pt x="3642" y="6887"/>
                  </a:lnTo>
                  <a:lnTo>
                    <a:pt x="3629" y="6874"/>
                  </a:lnTo>
                  <a:lnTo>
                    <a:pt x="3616" y="6861"/>
                  </a:lnTo>
                  <a:lnTo>
                    <a:pt x="3616" y="6848"/>
                  </a:lnTo>
                  <a:lnTo>
                    <a:pt x="3511" y="6783"/>
                  </a:lnTo>
                  <a:lnTo>
                    <a:pt x="3353" y="6730"/>
                  </a:lnTo>
                  <a:lnTo>
                    <a:pt x="3196" y="6625"/>
                  </a:lnTo>
                  <a:lnTo>
                    <a:pt x="3169" y="6559"/>
                  </a:lnTo>
                  <a:lnTo>
                    <a:pt x="3103" y="6519"/>
                  </a:lnTo>
                  <a:lnTo>
                    <a:pt x="3143" y="6257"/>
                  </a:lnTo>
                  <a:lnTo>
                    <a:pt x="3235" y="5993"/>
                  </a:lnTo>
                  <a:lnTo>
                    <a:pt x="3326" y="5731"/>
                  </a:lnTo>
                  <a:lnTo>
                    <a:pt x="3445" y="5468"/>
                  </a:lnTo>
                  <a:lnTo>
                    <a:pt x="3537" y="5218"/>
                  </a:lnTo>
                  <a:lnTo>
                    <a:pt x="3603" y="4955"/>
                  </a:lnTo>
                  <a:lnTo>
                    <a:pt x="3629" y="4693"/>
                  </a:lnTo>
                  <a:lnTo>
                    <a:pt x="3603" y="4442"/>
                  </a:lnTo>
                  <a:lnTo>
                    <a:pt x="2906" y="4482"/>
                  </a:lnTo>
                  <a:lnTo>
                    <a:pt x="2893" y="4482"/>
                  </a:lnTo>
                  <a:lnTo>
                    <a:pt x="2893" y="4469"/>
                  </a:lnTo>
                  <a:lnTo>
                    <a:pt x="2879" y="4455"/>
                  </a:lnTo>
                  <a:lnTo>
                    <a:pt x="2866" y="4442"/>
                  </a:lnTo>
                  <a:lnTo>
                    <a:pt x="2853" y="4442"/>
                  </a:lnTo>
                  <a:lnTo>
                    <a:pt x="2840" y="4442"/>
                  </a:lnTo>
                  <a:lnTo>
                    <a:pt x="2039" y="4587"/>
                  </a:lnTo>
                  <a:lnTo>
                    <a:pt x="2039" y="4574"/>
                  </a:lnTo>
                  <a:lnTo>
                    <a:pt x="2051" y="4561"/>
                  </a:lnTo>
                  <a:lnTo>
                    <a:pt x="2117" y="4482"/>
                  </a:lnTo>
                  <a:lnTo>
                    <a:pt x="2103" y="4376"/>
                  </a:lnTo>
                  <a:lnTo>
                    <a:pt x="2130" y="4259"/>
                  </a:lnTo>
                  <a:lnTo>
                    <a:pt x="2169" y="4140"/>
                  </a:lnTo>
                  <a:lnTo>
                    <a:pt x="2222" y="4035"/>
                  </a:lnTo>
                  <a:lnTo>
                    <a:pt x="2275" y="3930"/>
                  </a:lnTo>
                  <a:lnTo>
                    <a:pt x="2327" y="3811"/>
                  </a:lnTo>
                  <a:lnTo>
                    <a:pt x="2367" y="3694"/>
                  </a:lnTo>
                  <a:lnTo>
                    <a:pt x="2380" y="3575"/>
                  </a:lnTo>
                  <a:lnTo>
                    <a:pt x="2406" y="3509"/>
                  </a:lnTo>
                  <a:lnTo>
                    <a:pt x="2406" y="3443"/>
                  </a:lnTo>
                  <a:lnTo>
                    <a:pt x="2406" y="3377"/>
                  </a:lnTo>
                  <a:lnTo>
                    <a:pt x="2406" y="3325"/>
                  </a:lnTo>
                  <a:lnTo>
                    <a:pt x="2393" y="3260"/>
                  </a:lnTo>
                  <a:lnTo>
                    <a:pt x="2393" y="3194"/>
                  </a:lnTo>
                  <a:lnTo>
                    <a:pt x="2380" y="3128"/>
                  </a:lnTo>
                  <a:lnTo>
                    <a:pt x="2380" y="3062"/>
                  </a:lnTo>
                  <a:lnTo>
                    <a:pt x="2367" y="3062"/>
                  </a:lnTo>
                  <a:lnTo>
                    <a:pt x="2367" y="3049"/>
                  </a:lnTo>
                  <a:lnTo>
                    <a:pt x="2354" y="3049"/>
                  </a:lnTo>
                  <a:lnTo>
                    <a:pt x="2354" y="3036"/>
                  </a:lnTo>
                  <a:lnTo>
                    <a:pt x="2354" y="3023"/>
                  </a:lnTo>
                  <a:lnTo>
                    <a:pt x="2354" y="3010"/>
                  </a:lnTo>
                  <a:lnTo>
                    <a:pt x="2354" y="2997"/>
                  </a:lnTo>
                  <a:lnTo>
                    <a:pt x="2367" y="2997"/>
                  </a:lnTo>
                  <a:lnTo>
                    <a:pt x="2367" y="2983"/>
                  </a:lnTo>
                  <a:lnTo>
                    <a:pt x="2380" y="2970"/>
                  </a:lnTo>
                  <a:lnTo>
                    <a:pt x="2393" y="2970"/>
                  </a:lnTo>
                  <a:lnTo>
                    <a:pt x="2406" y="2957"/>
                  </a:lnTo>
                  <a:lnTo>
                    <a:pt x="2419" y="2957"/>
                  </a:lnTo>
                  <a:lnTo>
                    <a:pt x="2419" y="2944"/>
                  </a:lnTo>
                  <a:lnTo>
                    <a:pt x="2551" y="2825"/>
                  </a:lnTo>
                  <a:lnTo>
                    <a:pt x="2591" y="2747"/>
                  </a:lnTo>
                  <a:lnTo>
                    <a:pt x="2591" y="2760"/>
                  </a:lnTo>
                  <a:lnTo>
                    <a:pt x="2604" y="2760"/>
                  </a:lnTo>
                  <a:lnTo>
                    <a:pt x="2617" y="2760"/>
                  </a:lnTo>
                  <a:lnTo>
                    <a:pt x="2630" y="2760"/>
                  </a:lnTo>
                  <a:lnTo>
                    <a:pt x="2642" y="2760"/>
                  </a:lnTo>
                  <a:lnTo>
                    <a:pt x="2657" y="2760"/>
                  </a:lnTo>
                  <a:lnTo>
                    <a:pt x="2670" y="2537"/>
                  </a:lnTo>
                  <a:lnTo>
                    <a:pt x="2735" y="2510"/>
                  </a:lnTo>
                  <a:lnTo>
                    <a:pt x="2740" y="2500"/>
                  </a:lnTo>
                  <a:lnTo>
                    <a:pt x="2745" y="2491"/>
                  </a:lnTo>
                  <a:lnTo>
                    <a:pt x="2749" y="2481"/>
                  </a:lnTo>
                  <a:lnTo>
                    <a:pt x="2755" y="2471"/>
                  </a:lnTo>
                  <a:lnTo>
                    <a:pt x="2759" y="2461"/>
                  </a:lnTo>
                  <a:lnTo>
                    <a:pt x="2765" y="2451"/>
                  </a:lnTo>
                  <a:lnTo>
                    <a:pt x="2770" y="2441"/>
                  </a:lnTo>
                  <a:lnTo>
                    <a:pt x="2774" y="2431"/>
                  </a:lnTo>
                  <a:lnTo>
                    <a:pt x="2787" y="2431"/>
                  </a:lnTo>
                  <a:lnTo>
                    <a:pt x="2800" y="2431"/>
                  </a:lnTo>
                  <a:lnTo>
                    <a:pt x="2815" y="2415"/>
                  </a:lnTo>
                  <a:lnTo>
                    <a:pt x="2829" y="2397"/>
                  </a:lnTo>
                  <a:lnTo>
                    <a:pt x="2842" y="2377"/>
                  </a:lnTo>
                  <a:lnTo>
                    <a:pt x="2855" y="2356"/>
                  </a:lnTo>
                  <a:lnTo>
                    <a:pt x="2867" y="2334"/>
                  </a:lnTo>
                  <a:lnTo>
                    <a:pt x="2879" y="2310"/>
                  </a:lnTo>
                  <a:lnTo>
                    <a:pt x="2890" y="2285"/>
                  </a:lnTo>
                  <a:lnTo>
                    <a:pt x="2899" y="2258"/>
                  </a:lnTo>
                  <a:lnTo>
                    <a:pt x="2907" y="2232"/>
                  </a:lnTo>
                  <a:lnTo>
                    <a:pt x="2914" y="2204"/>
                  </a:lnTo>
                  <a:lnTo>
                    <a:pt x="2918" y="2176"/>
                  </a:lnTo>
                  <a:lnTo>
                    <a:pt x="2921" y="2147"/>
                  </a:lnTo>
                  <a:lnTo>
                    <a:pt x="2923" y="2118"/>
                  </a:lnTo>
                  <a:lnTo>
                    <a:pt x="2923" y="2088"/>
                  </a:lnTo>
                  <a:lnTo>
                    <a:pt x="2920" y="2058"/>
                  </a:lnTo>
                  <a:lnTo>
                    <a:pt x="2916" y="2027"/>
                  </a:lnTo>
                  <a:lnTo>
                    <a:pt x="2908" y="1997"/>
                  </a:lnTo>
                  <a:lnTo>
                    <a:pt x="2899" y="1968"/>
                  </a:lnTo>
                  <a:lnTo>
                    <a:pt x="2887" y="1938"/>
                  </a:lnTo>
                  <a:lnTo>
                    <a:pt x="2872" y="1908"/>
                  </a:lnTo>
                  <a:lnTo>
                    <a:pt x="2853" y="1879"/>
                  </a:lnTo>
                  <a:lnTo>
                    <a:pt x="2833" y="1850"/>
                  </a:lnTo>
                  <a:lnTo>
                    <a:pt x="2808" y="1822"/>
                  </a:lnTo>
                  <a:lnTo>
                    <a:pt x="2781" y="1795"/>
                  </a:lnTo>
                  <a:lnTo>
                    <a:pt x="2749" y="1769"/>
                  </a:lnTo>
                  <a:lnTo>
                    <a:pt x="2715" y="1744"/>
                  </a:lnTo>
                  <a:lnTo>
                    <a:pt x="2676" y="1719"/>
                  </a:lnTo>
                  <a:lnTo>
                    <a:pt x="2634" y="1697"/>
                  </a:lnTo>
                  <a:lnTo>
                    <a:pt x="2587" y="1675"/>
                  </a:lnTo>
                  <a:lnTo>
                    <a:pt x="2537" y="1656"/>
                  </a:lnTo>
                  <a:lnTo>
                    <a:pt x="2482" y="1637"/>
                  </a:lnTo>
                  <a:lnTo>
                    <a:pt x="2422" y="1620"/>
                  </a:lnTo>
                  <a:lnTo>
                    <a:pt x="2642" y="1366"/>
                  </a:lnTo>
                  <a:lnTo>
                    <a:pt x="2682" y="1314"/>
                  </a:lnTo>
                  <a:lnTo>
                    <a:pt x="2721" y="1262"/>
                  </a:lnTo>
                  <a:lnTo>
                    <a:pt x="2761" y="1209"/>
                  </a:lnTo>
                  <a:lnTo>
                    <a:pt x="2800" y="1157"/>
                  </a:lnTo>
                  <a:lnTo>
                    <a:pt x="2853" y="1117"/>
                  </a:lnTo>
                  <a:lnTo>
                    <a:pt x="2879" y="1051"/>
                  </a:lnTo>
                  <a:lnTo>
                    <a:pt x="2919" y="999"/>
                  </a:lnTo>
                  <a:lnTo>
                    <a:pt x="2945" y="959"/>
                  </a:lnTo>
                  <a:lnTo>
                    <a:pt x="2972" y="919"/>
                  </a:lnTo>
                  <a:lnTo>
                    <a:pt x="2998" y="880"/>
                  </a:lnTo>
                  <a:lnTo>
                    <a:pt x="3024" y="840"/>
                  </a:lnTo>
                  <a:lnTo>
                    <a:pt x="3051" y="801"/>
                  </a:lnTo>
                  <a:lnTo>
                    <a:pt x="3077" y="776"/>
                  </a:lnTo>
                  <a:lnTo>
                    <a:pt x="3103" y="736"/>
                  </a:lnTo>
                  <a:lnTo>
                    <a:pt x="3143" y="697"/>
                  </a:lnTo>
                  <a:lnTo>
                    <a:pt x="3143" y="683"/>
                  </a:lnTo>
                  <a:lnTo>
                    <a:pt x="3143" y="670"/>
                  </a:lnTo>
                  <a:lnTo>
                    <a:pt x="3156" y="657"/>
                  </a:lnTo>
                  <a:lnTo>
                    <a:pt x="3156" y="644"/>
                  </a:lnTo>
                  <a:lnTo>
                    <a:pt x="3156" y="631"/>
                  </a:lnTo>
                  <a:lnTo>
                    <a:pt x="3169" y="618"/>
                  </a:lnTo>
                  <a:lnTo>
                    <a:pt x="3169" y="604"/>
                  </a:lnTo>
                  <a:lnTo>
                    <a:pt x="3182" y="591"/>
                  </a:lnTo>
                  <a:lnTo>
                    <a:pt x="3484" y="525"/>
                  </a:lnTo>
                  <a:lnTo>
                    <a:pt x="3537" y="301"/>
                  </a:lnTo>
                  <a:lnTo>
                    <a:pt x="3550" y="301"/>
                  </a:lnTo>
                  <a:lnTo>
                    <a:pt x="3563" y="301"/>
                  </a:lnTo>
                  <a:lnTo>
                    <a:pt x="3577" y="288"/>
                  </a:lnTo>
                  <a:lnTo>
                    <a:pt x="3590" y="288"/>
                  </a:lnTo>
                  <a:lnTo>
                    <a:pt x="3590" y="276"/>
                  </a:lnTo>
                  <a:lnTo>
                    <a:pt x="3603" y="276"/>
                  </a:lnTo>
                  <a:lnTo>
                    <a:pt x="3603" y="263"/>
                  </a:lnTo>
                  <a:lnTo>
                    <a:pt x="3537" y="197"/>
                  </a:lnTo>
                  <a:lnTo>
                    <a:pt x="3550" y="52"/>
                  </a:lnTo>
                  <a:lnTo>
                    <a:pt x="3537" y="26"/>
                  </a:lnTo>
                  <a:lnTo>
                    <a:pt x="3524" y="13"/>
                  </a:lnTo>
                  <a:lnTo>
                    <a:pt x="3498" y="13"/>
                  </a:lnTo>
                  <a:lnTo>
                    <a:pt x="3471" y="13"/>
                  </a:lnTo>
                  <a:lnTo>
                    <a:pt x="3445" y="13"/>
                  </a:lnTo>
                  <a:lnTo>
                    <a:pt x="3418" y="13"/>
                  </a:lnTo>
                  <a:lnTo>
                    <a:pt x="3392" y="13"/>
                  </a:lnTo>
                  <a:lnTo>
                    <a:pt x="3366" y="0"/>
                  </a:lnTo>
                  <a:lnTo>
                    <a:pt x="3353" y="0"/>
                  </a:lnTo>
                  <a:lnTo>
                    <a:pt x="3326" y="13"/>
                  </a:lnTo>
                  <a:lnTo>
                    <a:pt x="3301" y="13"/>
                  </a:lnTo>
                  <a:lnTo>
                    <a:pt x="3288" y="13"/>
                  </a:lnTo>
                  <a:lnTo>
                    <a:pt x="3275" y="13"/>
                  </a:lnTo>
                  <a:lnTo>
                    <a:pt x="3248" y="26"/>
                  </a:lnTo>
                  <a:lnTo>
                    <a:pt x="3235" y="26"/>
                  </a:lnTo>
                  <a:lnTo>
                    <a:pt x="3222" y="39"/>
                  </a:lnTo>
                  <a:lnTo>
                    <a:pt x="3196" y="144"/>
                  </a:lnTo>
                  <a:lnTo>
                    <a:pt x="3156" y="263"/>
                  </a:lnTo>
                  <a:lnTo>
                    <a:pt x="3117" y="354"/>
                  </a:lnTo>
                  <a:lnTo>
                    <a:pt x="3064" y="460"/>
                  </a:lnTo>
                  <a:lnTo>
                    <a:pt x="2998" y="539"/>
                  </a:lnTo>
                  <a:lnTo>
                    <a:pt x="2919" y="618"/>
                  </a:lnTo>
                  <a:lnTo>
                    <a:pt x="2840" y="683"/>
                  </a:lnTo>
                  <a:lnTo>
                    <a:pt x="2735" y="736"/>
                  </a:lnTo>
                  <a:lnTo>
                    <a:pt x="2708" y="736"/>
                  </a:lnTo>
                  <a:lnTo>
                    <a:pt x="2682" y="749"/>
                  </a:lnTo>
                  <a:lnTo>
                    <a:pt x="2657" y="762"/>
                  </a:lnTo>
                  <a:lnTo>
                    <a:pt x="2630" y="776"/>
                  </a:lnTo>
                  <a:lnTo>
                    <a:pt x="2604" y="789"/>
                  </a:lnTo>
                  <a:lnTo>
                    <a:pt x="2578" y="814"/>
                  </a:lnTo>
                  <a:lnTo>
                    <a:pt x="2551" y="827"/>
                  </a:lnTo>
                  <a:lnTo>
                    <a:pt x="2525" y="840"/>
                  </a:lnTo>
                  <a:lnTo>
                    <a:pt x="2485" y="867"/>
                  </a:lnTo>
                  <a:lnTo>
                    <a:pt x="2446" y="906"/>
                  </a:lnTo>
                  <a:lnTo>
                    <a:pt x="2406" y="959"/>
                  </a:lnTo>
                  <a:lnTo>
                    <a:pt x="2367" y="999"/>
                  </a:lnTo>
                  <a:lnTo>
                    <a:pt x="2340" y="1051"/>
                  </a:lnTo>
                  <a:lnTo>
                    <a:pt x="2301" y="1104"/>
                  </a:lnTo>
                  <a:lnTo>
                    <a:pt x="2275" y="1157"/>
                  </a:lnTo>
                  <a:lnTo>
                    <a:pt x="2248" y="1209"/>
                  </a:lnTo>
                  <a:lnTo>
                    <a:pt x="2196" y="1209"/>
                  </a:lnTo>
                  <a:lnTo>
                    <a:pt x="2063" y="1356"/>
                  </a:lnTo>
                  <a:lnTo>
                    <a:pt x="1955" y="1461"/>
                  </a:lnTo>
                  <a:lnTo>
                    <a:pt x="1857" y="1557"/>
                  </a:lnTo>
                  <a:lnTo>
                    <a:pt x="1765" y="1644"/>
                  </a:lnTo>
                  <a:lnTo>
                    <a:pt x="1683" y="1723"/>
                  </a:lnTo>
                  <a:lnTo>
                    <a:pt x="1538" y="1856"/>
                  </a:lnTo>
                  <a:lnTo>
                    <a:pt x="1422" y="1961"/>
                  </a:lnTo>
                  <a:lnTo>
                    <a:pt x="1372" y="2007"/>
                  </a:lnTo>
                  <a:lnTo>
                    <a:pt x="1328" y="2048"/>
                  </a:lnTo>
                  <a:lnTo>
                    <a:pt x="1288" y="2085"/>
                  </a:lnTo>
                  <a:lnTo>
                    <a:pt x="1254" y="2118"/>
                  </a:lnTo>
                  <a:lnTo>
                    <a:pt x="1224" y="2148"/>
                  </a:lnTo>
                  <a:lnTo>
                    <a:pt x="1197" y="2177"/>
                  </a:lnTo>
                  <a:lnTo>
                    <a:pt x="1174" y="2205"/>
                  </a:lnTo>
                  <a:lnTo>
                    <a:pt x="1155" y="2232"/>
                  </a:lnTo>
                  <a:lnTo>
                    <a:pt x="1137" y="2259"/>
                  </a:lnTo>
                  <a:lnTo>
                    <a:pt x="1123" y="2288"/>
                  </a:lnTo>
                  <a:lnTo>
                    <a:pt x="1110" y="2318"/>
                  </a:lnTo>
                  <a:lnTo>
                    <a:pt x="1098" y="2349"/>
                  </a:lnTo>
                  <a:lnTo>
                    <a:pt x="1089" y="2384"/>
                  </a:lnTo>
                  <a:lnTo>
                    <a:pt x="1079" y="2421"/>
                  </a:lnTo>
                  <a:lnTo>
                    <a:pt x="1069" y="2465"/>
                  </a:lnTo>
                  <a:lnTo>
                    <a:pt x="1061" y="2511"/>
                  </a:lnTo>
                  <a:lnTo>
                    <a:pt x="1039" y="2622"/>
                  </a:lnTo>
                  <a:lnTo>
                    <a:pt x="1013" y="2761"/>
                  </a:lnTo>
                  <a:lnTo>
                    <a:pt x="998" y="2842"/>
                  </a:lnTo>
                  <a:lnTo>
                    <a:pt x="980" y="2932"/>
                  </a:lnTo>
                  <a:lnTo>
                    <a:pt x="958" y="3032"/>
                  </a:lnTo>
                  <a:lnTo>
                    <a:pt x="933" y="3141"/>
                  </a:lnTo>
                  <a:lnTo>
                    <a:pt x="815" y="3260"/>
                  </a:lnTo>
                  <a:lnTo>
                    <a:pt x="684" y="3364"/>
                  </a:lnTo>
                  <a:lnTo>
                    <a:pt x="539" y="3470"/>
                  </a:lnTo>
                  <a:lnTo>
                    <a:pt x="394" y="3588"/>
                  </a:lnTo>
                  <a:lnTo>
                    <a:pt x="262" y="3707"/>
                  </a:lnTo>
                  <a:lnTo>
                    <a:pt x="144" y="3837"/>
                  </a:lnTo>
                  <a:lnTo>
                    <a:pt x="66" y="3996"/>
                  </a:lnTo>
                  <a:lnTo>
                    <a:pt x="26" y="4180"/>
                  </a:lnTo>
                  <a:lnTo>
                    <a:pt x="26" y="4193"/>
                  </a:lnTo>
                  <a:lnTo>
                    <a:pt x="26" y="4219"/>
                  </a:lnTo>
                  <a:lnTo>
                    <a:pt x="13" y="4233"/>
                  </a:lnTo>
                  <a:lnTo>
                    <a:pt x="13" y="4246"/>
                  </a:lnTo>
                  <a:lnTo>
                    <a:pt x="13" y="4259"/>
                  </a:lnTo>
                  <a:lnTo>
                    <a:pt x="0" y="4284"/>
                  </a:lnTo>
                  <a:lnTo>
                    <a:pt x="0" y="4297"/>
                  </a:lnTo>
                  <a:lnTo>
                    <a:pt x="0" y="4311"/>
                  </a:lnTo>
                  <a:lnTo>
                    <a:pt x="0" y="4324"/>
                  </a:lnTo>
                  <a:lnTo>
                    <a:pt x="13" y="4324"/>
                  </a:lnTo>
                  <a:lnTo>
                    <a:pt x="13" y="4337"/>
                  </a:lnTo>
                  <a:lnTo>
                    <a:pt x="53" y="4337"/>
                  </a:lnTo>
                  <a:lnTo>
                    <a:pt x="91" y="4350"/>
                  </a:lnTo>
                  <a:lnTo>
                    <a:pt x="131" y="4363"/>
                  </a:lnTo>
                  <a:lnTo>
                    <a:pt x="170" y="4376"/>
                  </a:lnTo>
                  <a:lnTo>
                    <a:pt x="210" y="4376"/>
                  </a:lnTo>
                  <a:lnTo>
                    <a:pt x="249" y="4376"/>
                  </a:lnTo>
                  <a:lnTo>
                    <a:pt x="289" y="4363"/>
                  </a:lnTo>
                  <a:lnTo>
                    <a:pt x="328" y="4350"/>
                  </a:lnTo>
                  <a:lnTo>
                    <a:pt x="328" y="4337"/>
                  </a:lnTo>
                  <a:lnTo>
                    <a:pt x="328" y="4324"/>
                  </a:lnTo>
                  <a:lnTo>
                    <a:pt x="328" y="4311"/>
                  </a:lnTo>
                  <a:lnTo>
                    <a:pt x="341" y="4246"/>
                  </a:lnTo>
                  <a:lnTo>
                    <a:pt x="368" y="4180"/>
                  </a:lnTo>
                  <a:lnTo>
                    <a:pt x="394" y="4114"/>
                  </a:lnTo>
                  <a:lnTo>
                    <a:pt x="434" y="4061"/>
                  </a:lnTo>
                  <a:lnTo>
                    <a:pt x="486" y="4009"/>
                  </a:lnTo>
                  <a:lnTo>
                    <a:pt x="539" y="3956"/>
                  </a:lnTo>
                  <a:lnTo>
                    <a:pt x="579" y="3903"/>
                  </a:lnTo>
                  <a:lnTo>
                    <a:pt x="631" y="3851"/>
                  </a:lnTo>
                  <a:lnTo>
                    <a:pt x="658" y="3837"/>
                  </a:lnTo>
                  <a:lnTo>
                    <a:pt x="684" y="3824"/>
                  </a:lnTo>
                  <a:lnTo>
                    <a:pt x="709" y="3811"/>
                  </a:lnTo>
                  <a:lnTo>
                    <a:pt x="737" y="3798"/>
                  </a:lnTo>
                  <a:lnTo>
                    <a:pt x="762" y="3786"/>
                  </a:lnTo>
                  <a:lnTo>
                    <a:pt x="775" y="3773"/>
                  </a:lnTo>
                  <a:lnTo>
                    <a:pt x="801" y="3746"/>
                  </a:lnTo>
                  <a:lnTo>
                    <a:pt x="828" y="3733"/>
                  </a:lnTo>
                  <a:lnTo>
                    <a:pt x="815" y="3877"/>
                  </a:lnTo>
                  <a:lnTo>
                    <a:pt x="788" y="4035"/>
                  </a:lnTo>
                  <a:lnTo>
                    <a:pt x="749" y="4193"/>
                  </a:lnTo>
                  <a:lnTo>
                    <a:pt x="709" y="4350"/>
                  </a:lnTo>
                  <a:lnTo>
                    <a:pt x="684" y="4508"/>
                  </a:lnTo>
                  <a:lnTo>
                    <a:pt x="658" y="4653"/>
                  </a:lnTo>
                  <a:lnTo>
                    <a:pt x="658" y="4810"/>
                  </a:lnTo>
                  <a:lnTo>
                    <a:pt x="684" y="4968"/>
                  </a:lnTo>
                  <a:lnTo>
                    <a:pt x="749" y="4995"/>
                  </a:lnTo>
                  <a:lnTo>
                    <a:pt x="722" y="5113"/>
                  </a:lnTo>
                  <a:lnTo>
                    <a:pt x="697" y="5245"/>
                  </a:lnTo>
                  <a:lnTo>
                    <a:pt x="658" y="5362"/>
                  </a:lnTo>
                  <a:lnTo>
                    <a:pt x="631" y="5494"/>
                  </a:lnTo>
                  <a:lnTo>
                    <a:pt x="618" y="5613"/>
                  </a:lnTo>
                  <a:lnTo>
                    <a:pt x="618" y="5744"/>
                  </a:lnTo>
                  <a:lnTo>
                    <a:pt x="644" y="5862"/>
                  </a:lnTo>
                  <a:lnTo>
                    <a:pt x="722" y="5993"/>
                  </a:lnTo>
                  <a:lnTo>
                    <a:pt x="737" y="6059"/>
                  </a:lnTo>
                  <a:lnTo>
                    <a:pt x="737" y="6112"/>
                  </a:lnTo>
                  <a:lnTo>
                    <a:pt x="749" y="6178"/>
                  </a:lnTo>
                  <a:lnTo>
                    <a:pt x="762" y="6244"/>
                  </a:lnTo>
                  <a:lnTo>
                    <a:pt x="775" y="6295"/>
                  </a:lnTo>
                  <a:lnTo>
                    <a:pt x="788" y="6348"/>
                  </a:lnTo>
                  <a:lnTo>
                    <a:pt x="815" y="6401"/>
                  </a:lnTo>
                  <a:lnTo>
                    <a:pt x="841" y="6453"/>
                  </a:lnTo>
                  <a:lnTo>
                    <a:pt x="867" y="6546"/>
                  </a:lnTo>
                  <a:lnTo>
                    <a:pt x="894" y="6638"/>
                  </a:lnTo>
                  <a:lnTo>
                    <a:pt x="920" y="6730"/>
                  </a:lnTo>
                  <a:lnTo>
                    <a:pt x="946" y="6808"/>
                  </a:lnTo>
                  <a:lnTo>
                    <a:pt x="973" y="6900"/>
                  </a:lnTo>
                  <a:lnTo>
                    <a:pt x="986" y="6992"/>
                  </a:lnTo>
                  <a:lnTo>
                    <a:pt x="986" y="7085"/>
                  </a:lnTo>
                  <a:lnTo>
                    <a:pt x="986" y="7177"/>
                  </a:lnTo>
                  <a:lnTo>
                    <a:pt x="986" y="7190"/>
                  </a:lnTo>
                  <a:lnTo>
                    <a:pt x="986" y="7203"/>
                  </a:lnTo>
                  <a:lnTo>
                    <a:pt x="999" y="7203"/>
                  </a:lnTo>
                  <a:lnTo>
                    <a:pt x="1012" y="7216"/>
                  </a:lnTo>
                  <a:lnTo>
                    <a:pt x="1144" y="7203"/>
                  </a:lnTo>
                  <a:lnTo>
                    <a:pt x="1183" y="7243"/>
                  </a:lnTo>
                  <a:lnTo>
                    <a:pt x="1210" y="7281"/>
                  </a:lnTo>
                  <a:lnTo>
                    <a:pt x="1223" y="7334"/>
                  </a:lnTo>
                  <a:lnTo>
                    <a:pt x="1249" y="7387"/>
                  </a:lnTo>
                  <a:lnTo>
                    <a:pt x="1249" y="7452"/>
                  </a:lnTo>
                  <a:lnTo>
                    <a:pt x="1262" y="7505"/>
                  </a:lnTo>
                  <a:lnTo>
                    <a:pt x="1262" y="7571"/>
                  </a:lnTo>
                  <a:lnTo>
                    <a:pt x="1262" y="7624"/>
                  </a:lnTo>
                  <a:lnTo>
                    <a:pt x="1262" y="7637"/>
                  </a:lnTo>
                  <a:lnTo>
                    <a:pt x="1249" y="7650"/>
                  </a:lnTo>
                  <a:lnTo>
                    <a:pt x="1249" y="7663"/>
                  </a:lnTo>
                  <a:lnTo>
                    <a:pt x="1236" y="7676"/>
                  </a:lnTo>
                  <a:lnTo>
                    <a:pt x="1236" y="7690"/>
                  </a:lnTo>
                  <a:lnTo>
                    <a:pt x="1223" y="7690"/>
                  </a:lnTo>
                  <a:lnTo>
                    <a:pt x="1065" y="7860"/>
                  </a:lnTo>
                  <a:lnTo>
                    <a:pt x="946" y="8057"/>
                  </a:lnTo>
                  <a:lnTo>
                    <a:pt x="854" y="8268"/>
                  </a:lnTo>
                  <a:lnTo>
                    <a:pt x="775" y="8491"/>
                  </a:lnTo>
                  <a:lnTo>
                    <a:pt x="684" y="8702"/>
                  </a:lnTo>
                  <a:lnTo>
                    <a:pt x="579" y="8911"/>
                  </a:lnTo>
                  <a:lnTo>
                    <a:pt x="434" y="9096"/>
                  </a:lnTo>
                  <a:lnTo>
                    <a:pt x="249" y="9254"/>
                  </a:lnTo>
                  <a:lnTo>
                    <a:pt x="236" y="9279"/>
                  </a:lnTo>
                  <a:lnTo>
                    <a:pt x="223" y="9306"/>
                  </a:lnTo>
                  <a:lnTo>
                    <a:pt x="210" y="9319"/>
                  </a:lnTo>
                  <a:lnTo>
                    <a:pt x="197" y="9345"/>
                  </a:lnTo>
                  <a:lnTo>
                    <a:pt x="170" y="9358"/>
                  </a:lnTo>
                  <a:lnTo>
                    <a:pt x="157" y="9385"/>
                  </a:lnTo>
                  <a:lnTo>
                    <a:pt x="131" y="9398"/>
                  </a:lnTo>
                  <a:lnTo>
                    <a:pt x="118" y="9411"/>
                  </a:lnTo>
                  <a:lnTo>
                    <a:pt x="91" y="9437"/>
                  </a:lnTo>
                  <a:lnTo>
                    <a:pt x="78" y="9477"/>
                  </a:lnTo>
                  <a:lnTo>
                    <a:pt x="66" y="9516"/>
                  </a:lnTo>
                  <a:lnTo>
                    <a:pt x="66" y="9569"/>
                  </a:lnTo>
                  <a:lnTo>
                    <a:pt x="66" y="9609"/>
                  </a:lnTo>
                  <a:lnTo>
                    <a:pt x="78" y="9648"/>
                  </a:lnTo>
                  <a:lnTo>
                    <a:pt x="104" y="9688"/>
                  </a:lnTo>
                  <a:lnTo>
                    <a:pt x="118" y="9727"/>
                  </a:lnTo>
                  <a:lnTo>
                    <a:pt x="197" y="9780"/>
                  </a:lnTo>
                  <a:lnTo>
                    <a:pt x="262" y="9805"/>
                  </a:lnTo>
                  <a:lnTo>
                    <a:pt x="355" y="9845"/>
                  </a:lnTo>
                  <a:lnTo>
                    <a:pt x="434" y="9871"/>
                  </a:lnTo>
                  <a:lnTo>
                    <a:pt x="526" y="9897"/>
                  </a:lnTo>
                  <a:lnTo>
                    <a:pt x="605" y="9924"/>
                  </a:lnTo>
                  <a:lnTo>
                    <a:pt x="697" y="9950"/>
                  </a:lnTo>
                  <a:lnTo>
                    <a:pt x="775" y="9989"/>
                  </a:lnTo>
                  <a:lnTo>
                    <a:pt x="828" y="9989"/>
                  </a:lnTo>
                  <a:lnTo>
                    <a:pt x="880" y="9989"/>
                  </a:lnTo>
                  <a:lnTo>
                    <a:pt x="946" y="9976"/>
                  </a:lnTo>
                  <a:lnTo>
                    <a:pt x="999" y="9976"/>
                  </a:lnTo>
                  <a:lnTo>
                    <a:pt x="1052" y="9963"/>
                  </a:lnTo>
                  <a:lnTo>
                    <a:pt x="1104" y="9950"/>
                  </a:lnTo>
                  <a:lnTo>
                    <a:pt x="1144" y="9924"/>
                  </a:lnTo>
                  <a:lnTo>
                    <a:pt x="1197" y="9897"/>
                  </a:lnTo>
                  <a:lnTo>
                    <a:pt x="1091" y="9674"/>
                  </a:lnTo>
                  <a:lnTo>
                    <a:pt x="946" y="9674"/>
                  </a:lnTo>
                  <a:lnTo>
                    <a:pt x="933" y="9661"/>
                  </a:lnTo>
                  <a:lnTo>
                    <a:pt x="920" y="9648"/>
                  </a:lnTo>
                  <a:lnTo>
                    <a:pt x="907" y="9635"/>
                  </a:lnTo>
                  <a:lnTo>
                    <a:pt x="894" y="9609"/>
                  </a:lnTo>
                  <a:lnTo>
                    <a:pt x="894" y="9582"/>
                  </a:lnTo>
                  <a:lnTo>
                    <a:pt x="880" y="9569"/>
                  </a:lnTo>
                  <a:lnTo>
                    <a:pt x="880" y="9543"/>
                  </a:lnTo>
                  <a:lnTo>
                    <a:pt x="880" y="9516"/>
                  </a:lnTo>
                  <a:lnTo>
                    <a:pt x="867" y="9490"/>
                  </a:lnTo>
                  <a:lnTo>
                    <a:pt x="854" y="9477"/>
                  </a:lnTo>
                  <a:lnTo>
                    <a:pt x="841" y="9477"/>
                  </a:lnTo>
                  <a:lnTo>
                    <a:pt x="815" y="9464"/>
                  </a:lnTo>
                  <a:lnTo>
                    <a:pt x="801" y="9450"/>
                  </a:lnTo>
                  <a:lnTo>
                    <a:pt x="775" y="9437"/>
                  </a:lnTo>
                  <a:lnTo>
                    <a:pt x="762" y="9411"/>
                  </a:lnTo>
                  <a:lnTo>
                    <a:pt x="749" y="9398"/>
                  </a:lnTo>
                  <a:lnTo>
                    <a:pt x="854" y="9175"/>
                  </a:lnTo>
                  <a:lnTo>
                    <a:pt x="986" y="8977"/>
                  </a:lnTo>
                  <a:lnTo>
                    <a:pt x="1118" y="8793"/>
                  </a:lnTo>
                  <a:lnTo>
                    <a:pt x="1262" y="8610"/>
                  </a:lnTo>
                  <a:lnTo>
                    <a:pt x="1419" y="8425"/>
                  </a:lnTo>
                  <a:lnTo>
                    <a:pt x="1564" y="8242"/>
                  </a:lnTo>
                  <a:lnTo>
                    <a:pt x="1709" y="8057"/>
                  </a:lnTo>
                  <a:lnTo>
                    <a:pt x="1828" y="7860"/>
                  </a:lnTo>
                  <a:lnTo>
                    <a:pt x="1867" y="7820"/>
                  </a:lnTo>
                  <a:lnTo>
                    <a:pt x="1894" y="7782"/>
                  </a:lnTo>
                  <a:lnTo>
                    <a:pt x="1907" y="7742"/>
                  </a:lnTo>
                  <a:lnTo>
                    <a:pt x="1920" y="7703"/>
                  </a:lnTo>
                  <a:lnTo>
                    <a:pt x="1907" y="7663"/>
                  </a:lnTo>
                  <a:lnTo>
                    <a:pt x="1907" y="7611"/>
                  </a:lnTo>
                  <a:lnTo>
                    <a:pt x="1907" y="7571"/>
                  </a:lnTo>
                  <a:lnTo>
                    <a:pt x="1907" y="7532"/>
                  </a:lnTo>
                  <a:lnTo>
                    <a:pt x="1920" y="7373"/>
                  </a:lnTo>
                  <a:lnTo>
                    <a:pt x="1920" y="7230"/>
                  </a:lnTo>
                  <a:lnTo>
                    <a:pt x="1933" y="7085"/>
                  </a:lnTo>
                  <a:lnTo>
                    <a:pt x="1933" y="6927"/>
                  </a:lnTo>
                  <a:lnTo>
                    <a:pt x="1946" y="6783"/>
                  </a:lnTo>
                  <a:lnTo>
                    <a:pt x="1946" y="6638"/>
                  </a:lnTo>
                  <a:lnTo>
                    <a:pt x="1933" y="6493"/>
                  </a:lnTo>
                  <a:lnTo>
                    <a:pt x="1933" y="6335"/>
                  </a:lnTo>
                  <a:lnTo>
                    <a:pt x="1933" y="6309"/>
                  </a:lnTo>
                  <a:lnTo>
                    <a:pt x="1933" y="6270"/>
                  </a:lnTo>
                  <a:lnTo>
                    <a:pt x="1933" y="6231"/>
                  </a:lnTo>
                  <a:lnTo>
                    <a:pt x="1933" y="6204"/>
                  </a:lnTo>
                  <a:lnTo>
                    <a:pt x="1933" y="6165"/>
                  </a:lnTo>
                  <a:lnTo>
                    <a:pt x="1933" y="6138"/>
                  </a:lnTo>
                  <a:lnTo>
                    <a:pt x="1920" y="6099"/>
                  </a:lnTo>
                  <a:lnTo>
                    <a:pt x="1920" y="6073"/>
                  </a:lnTo>
                  <a:lnTo>
                    <a:pt x="1946" y="5941"/>
                  </a:lnTo>
                  <a:lnTo>
                    <a:pt x="2024" y="5875"/>
                  </a:lnTo>
                  <a:lnTo>
                    <a:pt x="2090" y="5822"/>
                  </a:lnTo>
                  <a:lnTo>
                    <a:pt x="2169" y="5771"/>
                  </a:lnTo>
                  <a:lnTo>
                    <a:pt x="2248" y="5718"/>
                  </a:lnTo>
                  <a:lnTo>
                    <a:pt x="2327" y="5665"/>
                  </a:lnTo>
                  <a:lnTo>
                    <a:pt x="2419" y="5639"/>
                  </a:lnTo>
                  <a:lnTo>
                    <a:pt x="2512" y="5613"/>
                  </a:lnTo>
                  <a:lnTo>
                    <a:pt x="2617" y="5586"/>
                  </a:lnTo>
                  <a:lnTo>
                    <a:pt x="2630" y="5586"/>
                  </a:lnTo>
                  <a:lnTo>
                    <a:pt x="2630" y="5573"/>
                  </a:lnTo>
                  <a:lnTo>
                    <a:pt x="2630" y="5560"/>
                  </a:lnTo>
                  <a:lnTo>
                    <a:pt x="2695" y="5468"/>
                  </a:lnTo>
                  <a:lnTo>
                    <a:pt x="2695" y="5441"/>
                  </a:lnTo>
                  <a:lnTo>
                    <a:pt x="2708" y="5415"/>
                  </a:lnTo>
                  <a:lnTo>
                    <a:pt x="2735" y="5389"/>
                  </a:lnTo>
                  <a:lnTo>
                    <a:pt x="2748" y="5375"/>
                  </a:lnTo>
                  <a:lnTo>
                    <a:pt x="2774" y="5349"/>
                  </a:lnTo>
                  <a:lnTo>
                    <a:pt x="2800" y="5336"/>
                  </a:lnTo>
                  <a:lnTo>
                    <a:pt x="2827" y="5323"/>
                  </a:lnTo>
                  <a:lnTo>
                    <a:pt x="2840" y="5310"/>
                  </a:lnTo>
                  <a:lnTo>
                    <a:pt x="2853" y="5310"/>
                  </a:lnTo>
                  <a:lnTo>
                    <a:pt x="2866" y="5310"/>
                  </a:lnTo>
                  <a:lnTo>
                    <a:pt x="2866" y="5296"/>
                  </a:lnTo>
                  <a:lnTo>
                    <a:pt x="2879" y="5296"/>
                  </a:lnTo>
                  <a:lnTo>
                    <a:pt x="2840" y="5389"/>
                  </a:lnTo>
                  <a:lnTo>
                    <a:pt x="2814" y="5481"/>
                  </a:lnTo>
                  <a:lnTo>
                    <a:pt x="2800" y="5586"/>
                  </a:lnTo>
                  <a:lnTo>
                    <a:pt x="2800" y="5692"/>
                  </a:lnTo>
                  <a:lnTo>
                    <a:pt x="2787" y="5784"/>
                  </a:lnTo>
                  <a:lnTo>
                    <a:pt x="2800" y="5888"/>
                  </a:lnTo>
                  <a:lnTo>
                    <a:pt x="2800" y="5993"/>
                  </a:lnTo>
                  <a:lnTo>
                    <a:pt x="2800" y="6099"/>
                  </a:lnTo>
                  <a:lnTo>
                    <a:pt x="2787" y="6231"/>
                  </a:lnTo>
                  <a:lnTo>
                    <a:pt x="2761" y="6335"/>
                  </a:lnTo>
                  <a:lnTo>
                    <a:pt x="2735" y="6453"/>
                  </a:lnTo>
                  <a:lnTo>
                    <a:pt x="2695" y="6559"/>
                  </a:lnTo>
                  <a:lnTo>
                    <a:pt x="2670" y="6664"/>
                  </a:lnTo>
                  <a:lnTo>
                    <a:pt x="2630" y="6756"/>
                  </a:lnTo>
                  <a:lnTo>
                    <a:pt x="2604" y="6874"/>
                  </a:lnTo>
                  <a:lnTo>
                    <a:pt x="2578" y="6979"/>
                  </a:lnTo>
                  <a:lnTo>
                    <a:pt x="2564" y="6992"/>
                  </a:lnTo>
                  <a:lnTo>
                    <a:pt x="2564" y="7006"/>
                  </a:lnTo>
                  <a:lnTo>
                    <a:pt x="2564" y="7019"/>
                  </a:lnTo>
                  <a:lnTo>
                    <a:pt x="2551" y="7032"/>
                  </a:lnTo>
                  <a:lnTo>
                    <a:pt x="2551" y="7045"/>
                  </a:lnTo>
                  <a:lnTo>
                    <a:pt x="2551" y="7058"/>
                  </a:lnTo>
                  <a:lnTo>
                    <a:pt x="2538" y="7085"/>
                  </a:lnTo>
                  <a:lnTo>
                    <a:pt x="2525" y="7098"/>
                  </a:lnTo>
                  <a:lnTo>
                    <a:pt x="2538" y="7111"/>
                  </a:lnTo>
                  <a:lnTo>
                    <a:pt x="2538" y="7124"/>
                  </a:lnTo>
                  <a:lnTo>
                    <a:pt x="2538" y="7137"/>
                  </a:lnTo>
                  <a:lnTo>
                    <a:pt x="2551" y="7151"/>
                  </a:lnTo>
                  <a:lnTo>
                    <a:pt x="2564" y="7151"/>
                  </a:lnTo>
                  <a:lnTo>
                    <a:pt x="2591" y="7164"/>
                  </a:lnTo>
                  <a:lnTo>
                    <a:pt x="2604" y="7164"/>
                  </a:lnTo>
                  <a:lnTo>
                    <a:pt x="2630" y="7164"/>
                  </a:lnTo>
                  <a:lnTo>
                    <a:pt x="2657" y="7164"/>
                  </a:lnTo>
                  <a:lnTo>
                    <a:pt x="2682" y="7164"/>
                  </a:lnTo>
                  <a:lnTo>
                    <a:pt x="2695" y="7164"/>
                  </a:lnTo>
                  <a:lnTo>
                    <a:pt x="2721" y="7164"/>
                  </a:lnTo>
                  <a:lnTo>
                    <a:pt x="2853" y="7177"/>
                  </a:lnTo>
                  <a:lnTo>
                    <a:pt x="2985" y="7190"/>
                  </a:lnTo>
                  <a:lnTo>
                    <a:pt x="3117" y="7177"/>
                  </a:lnTo>
                  <a:lnTo>
                    <a:pt x="3248" y="7177"/>
                  </a:lnTo>
                  <a:lnTo>
                    <a:pt x="3379" y="7164"/>
                  </a:lnTo>
                  <a:lnTo>
                    <a:pt x="3498" y="7151"/>
                  </a:lnTo>
                  <a:lnTo>
                    <a:pt x="3629" y="7137"/>
                  </a:lnTo>
                  <a:lnTo>
                    <a:pt x="3761" y="7124"/>
                  </a:lnTo>
                  <a:lnTo>
                    <a:pt x="3774" y="7124"/>
                  </a:lnTo>
                  <a:lnTo>
                    <a:pt x="3787" y="7124"/>
                  </a:lnTo>
                  <a:lnTo>
                    <a:pt x="3800" y="7111"/>
                  </a:lnTo>
                  <a:lnTo>
                    <a:pt x="3814" y="7111"/>
                  </a:lnTo>
                  <a:lnTo>
                    <a:pt x="381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7360" y="4529520"/>
              <a:ext cx="392760" cy="184320"/>
            </a:xfrm>
            <a:custGeom>
              <a:avLst/>
              <a:gdLst/>
              <a:ahLst/>
              <a:rect l="l" t="t" r="r" b="b"/>
              <a:pathLst>
                <a:path w="908" h="434">
                  <a:moveTo>
                    <a:pt x="908" y="395"/>
                  </a:moveTo>
                  <a:lnTo>
                    <a:pt x="671" y="355"/>
                  </a:lnTo>
                  <a:lnTo>
                    <a:pt x="671" y="329"/>
                  </a:lnTo>
                  <a:lnTo>
                    <a:pt x="671" y="302"/>
                  </a:lnTo>
                  <a:lnTo>
                    <a:pt x="671" y="276"/>
                  </a:lnTo>
                  <a:lnTo>
                    <a:pt x="684" y="263"/>
                  </a:lnTo>
                  <a:lnTo>
                    <a:pt x="697" y="236"/>
                  </a:lnTo>
                  <a:lnTo>
                    <a:pt x="710" y="223"/>
                  </a:lnTo>
                  <a:lnTo>
                    <a:pt x="723" y="197"/>
                  </a:lnTo>
                  <a:lnTo>
                    <a:pt x="737" y="171"/>
                  </a:lnTo>
                  <a:lnTo>
                    <a:pt x="723" y="171"/>
                  </a:lnTo>
                  <a:lnTo>
                    <a:pt x="710" y="184"/>
                  </a:lnTo>
                  <a:lnTo>
                    <a:pt x="697" y="184"/>
                  </a:lnTo>
                  <a:lnTo>
                    <a:pt x="684" y="197"/>
                  </a:lnTo>
                  <a:lnTo>
                    <a:pt x="671" y="210"/>
                  </a:lnTo>
                  <a:lnTo>
                    <a:pt x="658" y="223"/>
                  </a:lnTo>
                  <a:lnTo>
                    <a:pt x="644" y="236"/>
                  </a:lnTo>
                  <a:lnTo>
                    <a:pt x="631" y="250"/>
                  </a:lnTo>
                  <a:lnTo>
                    <a:pt x="618" y="276"/>
                  </a:lnTo>
                  <a:lnTo>
                    <a:pt x="606" y="302"/>
                  </a:lnTo>
                  <a:lnTo>
                    <a:pt x="593" y="329"/>
                  </a:lnTo>
                  <a:lnTo>
                    <a:pt x="580" y="342"/>
                  </a:lnTo>
                  <a:lnTo>
                    <a:pt x="566" y="368"/>
                  </a:lnTo>
                  <a:lnTo>
                    <a:pt x="540" y="381"/>
                  </a:lnTo>
                  <a:lnTo>
                    <a:pt x="514" y="395"/>
                  </a:lnTo>
                  <a:lnTo>
                    <a:pt x="487" y="395"/>
                  </a:lnTo>
                  <a:lnTo>
                    <a:pt x="461" y="408"/>
                  </a:lnTo>
                  <a:lnTo>
                    <a:pt x="448" y="408"/>
                  </a:lnTo>
                  <a:lnTo>
                    <a:pt x="435" y="408"/>
                  </a:lnTo>
                  <a:lnTo>
                    <a:pt x="422" y="421"/>
                  </a:lnTo>
                  <a:lnTo>
                    <a:pt x="408" y="421"/>
                  </a:lnTo>
                  <a:lnTo>
                    <a:pt x="395" y="421"/>
                  </a:lnTo>
                  <a:lnTo>
                    <a:pt x="382" y="421"/>
                  </a:lnTo>
                  <a:lnTo>
                    <a:pt x="369" y="421"/>
                  </a:lnTo>
                  <a:lnTo>
                    <a:pt x="356" y="421"/>
                  </a:lnTo>
                  <a:lnTo>
                    <a:pt x="343" y="408"/>
                  </a:lnTo>
                  <a:lnTo>
                    <a:pt x="329" y="408"/>
                  </a:lnTo>
                  <a:lnTo>
                    <a:pt x="316" y="395"/>
                  </a:lnTo>
                  <a:lnTo>
                    <a:pt x="303" y="381"/>
                  </a:lnTo>
                  <a:lnTo>
                    <a:pt x="303" y="368"/>
                  </a:lnTo>
                  <a:lnTo>
                    <a:pt x="290" y="355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5" y="0"/>
                  </a:lnTo>
                  <a:lnTo>
                    <a:pt x="382" y="14"/>
                  </a:lnTo>
                  <a:lnTo>
                    <a:pt x="356" y="27"/>
                  </a:lnTo>
                  <a:lnTo>
                    <a:pt x="329" y="40"/>
                  </a:lnTo>
                  <a:lnTo>
                    <a:pt x="316" y="66"/>
                  </a:lnTo>
                  <a:lnTo>
                    <a:pt x="303" y="93"/>
                  </a:lnTo>
                  <a:lnTo>
                    <a:pt x="277" y="106"/>
                  </a:lnTo>
                  <a:lnTo>
                    <a:pt x="263" y="131"/>
                  </a:lnTo>
                  <a:lnTo>
                    <a:pt x="263" y="157"/>
                  </a:lnTo>
                  <a:lnTo>
                    <a:pt x="250" y="171"/>
                  </a:lnTo>
                  <a:lnTo>
                    <a:pt x="250" y="197"/>
                  </a:lnTo>
                  <a:lnTo>
                    <a:pt x="250" y="223"/>
                  </a:lnTo>
                  <a:lnTo>
                    <a:pt x="250" y="236"/>
                  </a:lnTo>
                  <a:lnTo>
                    <a:pt x="250" y="263"/>
                  </a:lnTo>
                  <a:lnTo>
                    <a:pt x="250" y="289"/>
                  </a:lnTo>
                  <a:lnTo>
                    <a:pt x="0" y="395"/>
                  </a:lnTo>
                  <a:lnTo>
                    <a:pt x="66" y="408"/>
                  </a:lnTo>
                  <a:lnTo>
                    <a:pt x="145" y="421"/>
                  </a:lnTo>
                  <a:lnTo>
                    <a:pt x="224" y="421"/>
                  </a:lnTo>
                  <a:lnTo>
                    <a:pt x="303" y="421"/>
                  </a:lnTo>
                  <a:lnTo>
                    <a:pt x="382" y="421"/>
                  </a:lnTo>
                  <a:lnTo>
                    <a:pt x="461" y="421"/>
                  </a:lnTo>
                  <a:lnTo>
                    <a:pt x="540" y="434"/>
                  </a:lnTo>
                  <a:lnTo>
                    <a:pt x="618" y="434"/>
                  </a:lnTo>
                  <a:lnTo>
                    <a:pt x="658" y="434"/>
                  </a:lnTo>
                  <a:lnTo>
                    <a:pt x="697" y="421"/>
                  </a:lnTo>
                  <a:lnTo>
                    <a:pt x="737" y="421"/>
                  </a:lnTo>
                  <a:lnTo>
                    <a:pt x="789" y="408"/>
                  </a:lnTo>
                  <a:lnTo>
                    <a:pt x="816" y="408"/>
                  </a:lnTo>
                  <a:lnTo>
                    <a:pt x="855" y="408"/>
                  </a:lnTo>
                  <a:lnTo>
                    <a:pt x="882" y="395"/>
                  </a:lnTo>
                  <a:lnTo>
                    <a:pt x="908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0160" y="4636800"/>
              <a:ext cx="45000" cy="104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2" y="13"/>
                  </a:moveTo>
                  <a:lnTo>
                    <a:pt x="79" y="13"/>
                  </a:lnTo>
                  <a:lnTo>
                    <a:pt x="66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26"/>
                  </a:lnTo>
                  <a:lnTo>
                    <a:pt x="26" y="26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79" y="26"/>
                  </a:lnTo>
                  <a:lnTo>
                    <a:pt x="92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50080" y="3602880"/>
              <a:ext cx="410040" cy="1033560"/>
            </a:xfrm>
            <a:custGeom>
              <a:avLst/>
              <a:gdLst/>
              <a:ahLst/>
              <a:rect l="l" t="t" r="r" b="b"/>
              <a:pathLst>
                <a:path w="946" h="2419">
                  <a:moveTo>
                    <a:pt x="946" y="224"/>
                  </a:moveTo>
                  <a:lnTo>
                    <a:pt x="893" y="13"/>
                  </a:lnTo>
                  <a:lnTo>
                    <a:pt x="814" y="13"/>
                  </a:lnTo>
                  <a:lnTo>
                    <a:pt x="735" y="0"/>
                  </a:lnTo>
                  <a:lnTo>
                    <a:pt x="644" y="0"/>
                  </a:lnTo>
                  <a:lnTo>
                    <a:pt x="565" y="13"/>
                  </a:lnTo>
                  <a:lnTo>
                    <a:pt x="473" y="27"/>
                  </a:lnTo>
                  <a:lnTo>
                    <a:pt x="394" y="40"/>
                  </a:lnTo>
                  <a:lnTo>
                    <a:pt x="315" y="66"/>
                  </a:lnTo>
                  <a:lnTo>
                    <a:pt x="249" y="106"/>
                  </a:lnTo>
                  <a:lnTo>
                    <a:pt x="104" y="526"/>
                  </a:lnTo>
                  <a:lnTo>
                    <a:pt x="486" y="315"/>
                  </a:lnTo>
                  <a:lnTo>
                    <a:pt x="499" y="315"/>
                  </a:lnTo>
                  <a:lnTo>
                    <a:pt x="512" y="328"/>
                  </a:lnTo>
                  <a:lnTo>
                    <a:pt x="525" y="328"/>
                  </a:lnTo>
                  <a:lnTo>
                    <a:pt x="525" y="342"/>
                  </a:lnTo>
                  <a:lnTo>
                    <a:pt x="539" y="355"/>
                  </a:lnTo>
                  <a:lnTo>
                    <a:pt x="539" y="368"/>
                  </a:lnTo>
                  <a:lnTo>
                    <a:pt x="394" y="605"/>
                  </a:lnTo>
                  <a:lnTo>
                    <a:pt x="328" y="750"/>
                  </a:lnTo>
                  <a:lnTo>
                    <a:pt x="275" y="894"/>
                  </a:lnTo>
                  <a:lnTo>
                    <a:pt x="236" y="1052"/>
                  </a:lnTo>
                  <a:lnTo>
                    <a:pt x="222" y="1210"/>
                  </a:lnTo>
                  <a:lnTo>
                    <a:pt x="209" y="1367"/>
                  </a:lnTo>
                  <a:lnTo>
                    <a:pt x="196" y="1538"/>
                  </a:lnTo>
                  <a:lnTo>
                    <a:pt x="170" y="1696"/>
                  </a:lnTo>
                  <a:lnTo>
                    <a:pt x="157" y="1866"/>
                  </a:lnTo>
                  <a:lnTo>
                    <a:pt x="222" y="1644"/>
                  </a:lnTo>
                  <a:lnTo>
                    <a:pt x="236" y="1644"/>
                  </a:lnTo>
                  <a:lnTo>
                    <a:pt x="249" y="1644"/>
                  </a:lnTo>
                  <a:lnTo>
                    <a:pt x="262" y="1644"/>
                  </a:lnTo>
                  <a:lnTo>
                    <a:pt x="275" y="1657"/>
                  </a:lnTo>
                  <a:lnTo>
                    <a:pt x="288" y="1657"/>
                  </a:lnTo>
                  <a:lnTo>
                    <a:pt x="209" y="2077"/>
                  </a:lnTo>
                  <a:lnTo>
                    <a:pt x="209" y="2090"/>
                  </a:lnTo>
                  <a:lnTo>
                    <a:pt x="222" y="2090"/>
                  </a:lnTo>
                  <a:lnTo>
                    <a:pt x="236" y="2104"/>
                  </a:lnTo>
                  <a:lnTo>
                    <a:pt x="249" y="2104"/>
                  </a:lnTo>
                  <a:lnTo>
                    <a:pt x="249" y="2117"/>
                  </a:lnTo>
                  <a:lnTo>
                    <a:pt x="262" y="2117"/>
                  </a:lnTo>
                  <a:lnTo>
                    <a:pt x="262" y="2130"/>
                  </a:lnTo>
                  <a:lnTo>
                    <a:pt x="262" y="2143"/>
                  </a:lnTo>
                  <a:lnTo>
                    <a:pt x="262" y="2156"/>
                  </a:lnTo>
                  <a:lnTo>
                    <a:pt x="249" y="2169"/>
                  </a:lnTo>
                  <a:lnTo>
                    <a:pt x="249" y="2183"/>
                  </a:lnTo>
                  <a:lnTo>
                    <a:pt x="236" y="2196"/>
                  </a:lnTo>
                  <a:lnTo>
                    <a:pt x="222" y="2196"/>
                  </a:lnTo>
                  <a:lnTo>
                    <a:pt x="209" y="2196"/>
                  </a:lnTo>
                  <a:lnTo>
                    <a:pt x="209" y="2209"/>
                  </a:lnTo>
                  <a:lnTo>
                    <a:pt x="183" y="2196"/>
                  </a:lnTo>
                  <a:lnTo>
                    <a:pt x="170" y="2196"/>
                  </a:lnTo>
                  <a:lnTo>
                    <a:pt x="157" y="2183"/>
                  </a:lnTo>
                  <a:lnTo>
                    <a:pt x="143" y="2156"/>
                  </a:lnTo>
                  <a:lnTo>
                    <a:pt x="130" y="2143"/>
                  </a:lnTo>
                  <a:lnTo>
                    <a:pt x="130" y="2130"/>
                  </a:lnTo>
                  <a:lnTo>
                    <a:pt x="117" y="2104"/>
                  </a:lnTo>
                  <a:lnTo>
                    <a:pt x="117" y="2077"/>
                  </a:lnTo>
                  <a:lnTo>
                    <a:pt x="0" y="2419"/>
                  </a:lnTo>
                  <a:lnTo>
                    <a:pt x="13" y="2419"/>
                  </a:lnTo>
                  <a:lnTo>
                    <a:pt x="38" y="2419"/>
                  </a:lnTo>
                  <a:lnTo>
                    <a:pt x="51" y="2419"/>
                  </a:lnTo>
                  <a:lnTo>
                    <a:pt x="78" y="2419"/>
                  </a:lnTo>
                  <a:lnTo>
                    <a:pt x="104" y="2419"/>
                  </a:lnTo>
                  <a:lnTo>
                    <a:pt x="130" y="2419"/>
                  </a:lnTo>
                  <a:lnTo>
                    <a:pt x="143" y="2419"/>
                  </a:lnTo>
                  <a:lnTo>
                    <a:pt x="170" y="2419"/>
                  </a:lnTo>
                  <a:lnTo>
                    <a:pt x="183" y="2379"/>
                  </a:lnTo>
                  <a:lnTo>
                    <a:pt x="209" y="2340"/>
                  </a:lnTo>
                  <a:lnTo>
                    <a:pt x="222" y="2287"/>
                  </a:lnTo>
                  <a:lnTo>
                    <a:pt x="249" y="2248"/>
                  </a:lnTo>
                  <a:lnTo>
                    <a:pt x="275" y="2196"/>
                  </a:lnTo>
                  <a:lnTo>
                    <a:pt x="301" y="2156"/>
                  </a:lnTo>
                  <a:lnTo>
                    <a:pt x="341" y="2130"/>
                  </a:lnTo>
                  <a:lnTo>
                    <a:pt x="381" y="2104"/>
                  </a:lnTo>
                  <a:lnTo>
                    <a:pt x="381" y="2090"/>
                  </a:lnTo>
                  <a:lnTo>
                    <a:pt x="367" y="2090"/>
                  </a:lnTo>
                  <a:lnTo>
                    <a:pt x="367" y="2077"/>
                  </a:lnTo>
                  <a:lnTo>
                    <a:pt x="354" y="2077"/>
                  </a:lnTo>
                  <a:lnTo>
                    <a:pt x="354" y="2064"/>
                  </a:lnTo>
                  <a:lnTo>
                    <a:pt x="354" y="2051"/>
                  </a:lnTo>
                  <a:lnTo>
                    <a:pt x="341" y="2038"/>
                  </a:lnTo>
                  <a:lnTo>
                    <a:pt x="354" y="2038"/>
                  </a:lnTo>
                  <a:lnTo>
                    <a:pt x="301" y="1985"/>
                  </a:lnTo>
                  <a:lnTo>
                    <a:pt x="328" y="1919"/>
                  </a:lnTo>
                  <a:lnTo>
                    <a:pt x="341" y="1853"/>
                  </a:lnTo>
                  <a:lnTo>
                    <a:pt x="354" y="1801"/>
                  </a:lnTo>
                  <a:lnTo>
                    <a:pt x="367" y="1736"/>
                  </a:lnTo>
                  <a:lnTo>
                    <a:pt x="381" y="1670"/>
                  </a:lnTo>
                  <a:lnTo>
                    <a:pt x="394" y="1604"/>
                  </a:lnTo>
                  <a:lnTo>
                    <a:pt x="394" y="1538"/>
                  </a:lnTo>
                  <a:lnTo>
                    <a:pt x="381" y="1472"/>
                  </a:lnTo>
                  <a:lnTo>
                    <a:pt x="381" y="1459"/>
                  </a:lnTo>
                  <a:lnTo>
                    <a:pt x="381" y="1446"/>
                  </a:lnTo>
                  <a:lnTo>
                    <a:pt x="381" y="1433"/>
                  </a:lnTo>
                  <a:lnTo>
                    <a:pt x="381" y="1420"/>
                  </a:lnTo>
                  <a:lnTo>
                    <a:pt x="381" y="1406"/>
                  </a:lnTo>
                  <a:lnTo>
                    <a:pt x="367" y="1393"/>
                  </a:lnTo>
                  <a:lnTo>
                    <a:pt x="354" y="1380"/>
                  </a:lnTo>
                  <a:lnTo>
                    <a:pt x="341" y="1367"/>
                  </a:lnTo>
                  <a:lnTo>
                    <a:pt x="328" y="1354"/>
                  </a:lnTo>
                  <a:lnTo>
                    <a:pt x="315" y="1341"/>
                  </a:lnTo>
                  <a:lnTo>
                    <a:pt x="301" y="1327"/>
                  </a:lnTo>
                  <a:lnTo>
                    <a:pt x="341" y="1288"/>
                  </a:lnTo>
                  <a:lnTo>
                    <a:pt x="381" y="1263"/>
                  </a:lnTo>
                  <a:lnTo>
                    <a:pt x="407" y="1223"/>
                  </a:lnTo>
                  <a:lnTo>
                    <a:pt x="446" y="1184"/>
                  </a:lnTo>
                  <a:lnTo>
                    <a:pt x="486" y="1144"/>
                  </a:lnTo>
                  <a:lnTo>
                    <a:pt x="499" y="1105"/>
                  </a:lnTo>
                  <a:lnTo>
                    <a:pt x="525" y="1052"/>
                  </a:lnTo>
                  <a:lnTo>
                    <a:pt x="525" y="986"/>
                  </a:lnTo>
                  <a:lnTo>
                    <a:pt x="565" y="920"/>
                  </a:lnTo>
                  <a:lnTo>
                    <a:pt x="591" y="841"/>
                  </a:lnTo>
                  <a:lnTo>
                    <a:pt x="618" y="775"/>
                  </a:lnTo>
                  <a:lnTo>
                    <a:pt x="644" y="697"/>
                  </a:lnTo>
                  <a:lnTo>
                    <a:pt x="682" y="631"/>
                  </a:lnTo>
                  <a:lnTo>
                    <a:pt x="709" y="552"/>
                  </a:lnTo>
                  <a:lnTo>
                    <a:pt x="735" y="487"/>
                  </a:lnTo>
                  <a:lnTo>
                    <a:pt x="775" y="421"/>
                  </a:lnTo>
                  <a:lnTo>
                    <a:pt x="788" y="407"/>
                  </a:lnTo>
                  <a:lnTo>
                    <a:pt x="801" y="407"/>
                  </a:lnTo>
                  <a:lnTo>
                    <a:pt x="814" y="407"/>
                  </a:lnTo>
                  <a:lnTo>
                    <a:pt x="827" y="407"/>
                  </a:lnTo>
                  <a:lnTo>
                    <a:pt x="827" y="394"/>
                  </a:lnTo>
                  <a:lnTo>
                    <a:pt x="841" y="394"/>
                  </a:lnTo>
                  <a:lnTo>
                    <a:pt x="841" y="381"/>
                  </a:lnTo>
                  <a:lnTo>
                    <a:pt x="854" y="381"/>
                  </a:lnTo>
                  <a:lnTo>
                    <a:pt x="854" y="368"/>
                  </a:lnTo>
                  <a:lnTo>
                    <a:pt x="867" y="355"/>
                  </a:lnTo>
                  <a:lnTo>
                    <a:pt x="880" y="355"/>
                  </a:lnTo>
                  <a:lnTo>
                    <a:pt x="893" y="342"/>
                  </a:lnTo>
                  <a:lnTo>
                    <a:pt x="906" y="342"/>
                  </a:lnTo>
                  <a:lnTo>
                    <a:pt x="946" y="2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9160" y="4563720"/>
              <a:ext cx="79560" cy="6660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184" y="52"/>
                  </a:moveTo>
                  <a:lnTo>
                    <a:pt x="118" y="0"/>
                  </a:lnTo>
                  <a:lnTo>
                    <a:pt x="92" y="14"/>
                  </a:lnTo>
                  <a:lnTo>
                    <a:pt x="65" y="14"/>
                  </a:lnTo>
                  <a:lnTo>
                    <a:pt x="52" y="39"/>
                  </a:lnTo>
                  <a:lnTo>
                    <a:pt x="39" y="52"/>
                  </a:lnTo>
                  <a:lnTo>
                    <a:pt x="26" y="78"/>
                  </a:lnTo>
                  <a:lnTo>
                    <a:pt x="26" y="105"/>
                  </a:lnTo>
                  <a:lnTo>
                    <a:pt x="13" y="131"/>
                  </a:lnTo>
                  <a:lnTo>
                    <a:pt x="0" y="157"/>
                  </a:lnTo>
                  <a:lnTo>
                    <a:pt x="105" y="157"/>
                  </a:lnTo>
                  <a:lnTo>
                    <a:pt x="105" y="144"/>
                  </a:lnTo>
                  <a:lnTo>
                    <a:pt x="118" y="131"/>
                  </a:lnTo>
                  <a:lnTo>
                    <a:pt x="131" y="118"/>
                  </a:lnTo>
                  <a:lnTo>
                    <a:pt x="144" y="118"/>
                  </a:lnTo>
                  <a:lnTo>
                    <a:pt x="158" y="105"/>
                  </a:lnTo>
                  <a:lnTo>
                    <a:pt x="158" y="92"/>
                  </a:lnTo>
                  <a:lnTo>
                    <a:pt x="171" y="65"/>
                  </a:lnTo>
                  <a:lnTo>
                    <a:pt x="184" y="5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1000" y="4782240"/>
              <a:ext cx="10440" cy="3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78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6" y="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1080" y="1743120"/>
              <a:ext cx="990360" cy="1471680"/>
            </a:xfrm>
            <a:custGeom>
              <a:avLst/>
              <a:gdLst/>
              <a:ahLst/>
              <a:rect l="l" t="t" r="r" b="b"/>
              <a:pathLst>
                <a:path w="2288" h="3443">
                  <a:moveTo>
                    <a:pt x="2288" y="92"/>
                  </a:moveTo>
                  <a:lnTo>
                    <a:pt x="2288" y="0"/>
                  </a:lnTo>
                  <a:lnTo>
                    <a:pt x="2262" y="92"/>
                  </a:lnTo>
                  <a:lnTo>
                    <a:pt x="2223" y="183"/>
                  </a:lnTo>
                  <a:lnTo>
                    <a:pt x="2170" y="275"/>
                  </a:lnTo>
                  <a:lnTo>
                    <a:pt x="2130" y="354"/>
                  </a:lnTo>
                  <a:lnTo>
                    <a:pt x="2065" y="433"/>
                  </a:lnTo>
                  <a:lnTo>
                    <a:pt x="1999" y="512"/>
                  </a:lnTo>
                  <a:lnTo>
                    <a:pt x="1920" y="578"/>
                  </a:lnTo>
                  <a:lnTo>
                    <a:pt x="1827" y="618"/>
                  </a:lnTo>
                  <a:lnTo>
                    <a:pt x="1788" y="643"/>
                  </a:lnTo>
                  <a:lnTo>
                    <a:pt x="1748" y="656"/>
                  </a:lnTo>
                  <a:lnTo>
                    <a:pt x="1722" y="669"/>
                  </a:lnTo>
                  <a:lnTo>
                    <a:pt x="1684" y="682"/>
                  </a:lnTo>
                  <a:lnTo>
                    <a:pt x="1657" y="709"/>
                  </a:lnTo>
                  <a:lnTo>
                    <a:pt x="1631" y="722"/>
                  </a:lnTo>
                  <a:lnTo>
                    <a:pt x="1605" y="735"/>
                  </a:lnTo>
                  <a:lnTo>
                    <a:pt x="1578" y="761"/>
                  </a:lnTo>
                  <a:lnTo>
                    <a:pt x="1539" y="788"/>
                  </a:lnTo>
                  <a:lnTo>
                    <a:pt x="1499" y="827"/>
                  </a:lnTo>
                  <a:lnTo>
                    <a:pt x="1460" y="867"/>
                  </a:lnTo>
                  <a:lnTo>
                    <a:pt x="1433" y="906"/>
                  </a:lnTo>
                  <a:lnTo>
                    <a:pt x="1407" y="959"/>
                  </a:lnTo>
                  <a:lnTo>
                    <a:pt x="1381" y="999"/>
                  </a:lnTo>
                  <a:lnTo>
                    <a:pt x="1354" y="1038"/>
                  </a:lnTo>
                  <a:lnTo>
                    <a:pt x="1341" y="1091"/>
                  </a:lnTo>
                  <a:lnTo>
                    <a:pt x="815" y="1617"/>
                  </a:lnTo>
                  <a:lnTo>
                    <a:pt x="802" y="1630"/>
                  </a:lnTo>
                  <a:lnTo>
                    <a:pt x="776" y="1642"/>
                  </a:lnTo>
                  <a:lnTo>
                    <a:pt x="749" y="1655"/>
                  </a:lnTo>
                  <a:lnTo>
                    <a:pt x="736" y="1668"/>
                  </a:lnTo>
                  <a:lnTo>
                    <a:pt x="723" y="1695"/>
                  </a:lnTo>
                  <a:lnTo>
                    <a:pt x="710" y="1708"/>
                  </a:lnTo>
                  <a:lnTo>
                    <a:pt x="697" y="1734"/>
                  </a:lnTo>
                  <a:lnTo>
                    <a:pt x="670" y="1747"/>
                  </a:lnTo>
                  <a:lnTo>
                    <a:pt x="591" y="1787"/>
                  </a:lnTo>
                  <a:lnTo>
                    <a:pt x="526" y="1840"/>
                  </a:lnTo>
                  <a:lnTo>
                    <a:pt x="460" y="1879"/>
                  </a:lnTo>
                  <a:lnTo>
                    <a:pt x="407" y="1945"/>
                  </a:lnTo>
                  <a:lnTo>
                    <a:pt x="355" y="2011"/>
                  </a:lnTo>
                  <a:lnTo>
                    <a:pt x="316" y="2077"/>
                  </a:lnTo>
                  <a:lnTo>
                    <a:pt x="276" y="2141"/>
                  </a:lnTo>
                  <a:lnTo>
                    <a:pt x="250" y="2220"/>
                  </a:lnTo>
                  <a:lnTo>
                    <a:pt x="250" y="2247"/>
                  </a:lnTo>
                  <a:lnTo>
                    <a:pt x="237" y="2273"/>
                  </a:lnTo>
                  <a:lnTo>
                    <a:pt x="237" y="2286"/>
                  </a:lnTo>
                  <a:lnTo>
                    <a:pt x="237" y="2313"/>
                  </a:lnTo>
                  <a:lnTo>
                    <a:pt x="237" y="2326"/>
                  </a:lnTo>
                  <a:lnTo>
                    <a:pt x="237" y="2339"/>
                  </a:lnTo>
                  <a:lnTo>
                    <a:pt x="237" y="2365"/>
                  </a:lnTo>
                  <a:lnTo>
                    <a:pt x="237" y="2379"/>
                  </a:lnTo>
                  <a:lnTo>
                    <a:pt x="197" y="2444"/>
                  </a:lnTo>
                  <a:lnTo>
                    <a:pt x="171" y="2510"/>
                  </a:lnTo>
                  <a:lnTo>
                    <a:pt x="131" y="2589"/>
                  </a:lnTo>
                  <a:lnTo>
                    <a:pt x="105" y="2667"/>
                  </a:lnTo>
                  <a:lnTo>
                    <a:pt x="79" y="2733"/>
                  </a:lnTo>
                  <a:lnTo>
                    <a:pt x="52" y="2825"/>
                  </a:lnTo>
                  <a:lnTo>
                    <a:pt x="39" y="2904"/>
                  </a:lnTo>
                  <a:lnTo>
                    <a:pt x="26" y="2983"/>
                  </a:lnTo>
                  <a:lnTo>
                    <a:pt x="26" y="3036"/>
                  </a:lnTo>
                  <a:lnTo>
                    <a:pt x="13" y="3089"/>
                  </a:lnTo>
                  <a:lnTo>
                    <a:pt x="13" y="3140"/>
                  </a:lnTo>
                  <a:lnTo>
                    <a:pt x="13" y="3193"/>
                  </a:lnTo>
                  <a:lnTo>
                    <a:pt x="0" y="3246"/>
                  </a:lnTo>
                  <a:lnTo>
                    <a:pt x="0" y="3298"/>
                  </a:lnTo>
                  <a:lnTo>
                    <a:pt x="0" y="3351"/>
                  </a:lnTo>
                  <a:lnTo>
                    <a:pt x="0" y="3404"/>
                  </a:lnTo>
                  <a:lnTo>
                    <a:pt x="39" y="3430"/>
                  </a:lnTo>
                  <a:lnTo>
                    <a:pt x="92" y="3430"/>
                  </a:lnTo>
                  <a:lnTo>
                    <a:pt x="145" y="3443"/>
                  </a:lnTo>
                  <a:lnTo>
                    <a:pt x="197" y="3430"/>
                  </a:lnTo>
                  <a:lnTo>
                    <a:pt x="250" y="3430"/>
                  </a:lnTo>
                  <a:lnTo>
                    <a:pt x="303" y="3417"/>
                  </a:lnTo>
                  <a:lnTo>
                    <a:pt x="355" y="3391"/>
                  </a:lnTo>
                  <a:lnTo>
                    <a:pt x="395" y="3364"/>
                  </a:lnTo>
                  <a:lnTo>
                    <a:pt x="486" y="3259"/>
                  </a:lnTo>
                  <a:lnTo>
                    <a:pt x="565" y="3140"/>
                  </a:lnTo>
                  <a:lnTo>
                    <a:pt x="618" y="3010"/>
                  </a:lnTo>
                  <a:lnTo>
                    <a:pt x="670" y="2891"/>
                  </a:lnTo>
                  <a:lnTo>
                    <a:pt x="697" y="2746"/>
                  </a:lnTo>
                  <a:lnTo>
                    <a:pt x="723" y="2616"/>
                  </a:lnTo>
                  <a:lnTo>
                    <a:pt x="736" y="2484"/>
                  </a:lnTo>
                  <a:lnTo>
                    <a:pt x="736" y="2352"/>
                  </a:lnTo>
                  <a:lnTo>
                    <a:pt x="710" y="2418"/>
                  </a:lnTo>
                  <a:lnTo>
                    <a:pt x="684" y="2484"/>
                  </a:lnTo>
                  <a:lnTo>
                    <a:pt x="657" y="2563"/>
                  </a:lnTo>
                  <a:lnTo>
                    <a:pt x="631" y="2641"/>
                  </a:lnTo>
                  <a:lnTo>
                    <a:pt x="605" y="2707"/>
                  </a:lnTo>
                  <a:lnTo>
                    <a:pt x="565" y="2773"/>
                  </a:lnTo>
                  <a:lnTo>
                    <a:pt x="526" y="2839"/>
                  </a:lnTo>
                  <a:lnTo>
                    <a:pt x="460" y="2891"/>
                  </a:lnTo>
                  <a:lnTo>
                    <a:pt x="460" y="2904"/>
                  </a:lnTo>
                  <a:lnTo>
                    <a:pt x="446" y="2918"/>
                  </a:lnTo>
                  <a:lnTo>
                    <a:pt x="433" y="2931"/>
                  </a:lnTo>
                  <a:lnTo>
                    <a:pt x="433" y="2944"/>
                  </a:lnTo>
                  <a:lnTo>
                    <a:pt x="420" y="2970"/>
                  </a:lnTo>
                  <a:lnTo>
                    <a:pt x="395" y="2983"/>
                  </a:lnTo>
                  <a:lnTo>
                    <a:pt x="382" y="2997"/>
                  </a:lnTo>
                  <a:lnTo>
                    <a:pt x="368" y="2997"/>
                  </a:lnTo>
                  <a:lnTo>
                    <a:pt x="355" y="2997"/>
                  </a:lnTo>
                  <a:lnTo>
                    <a:pt x="342" y="2997"/>
                  </a:lnTo>
                  <a:lnTo>
                    <a:pt x="342" y="2983"/>
                  </a:lnTo>
                  <a:lnTo>
                    <a:pt x="329" y="2983"/>
                  </a:lnTo>
                  <a:lnTo>
                    <a:pt x="329" y="2970"/>
                  </a:lnTo>
                  <a:lnTo>
                    <a:pt x="329" y="2957"/>
                  </a:lnTo>
                  <a:lnTo>
                    <a:pt x="329" y="2944"/>
                  </a:lnTo>
                  <a:lnTo>
                    <a:pt x="342" y="2931"/>
                  </a:lnTo>
                  <a:lnTo>
                    <a:pt x="342" y="2918"/>
                  </a:lnTo>
                  <a:lnTo>
                    <a:pt x="355" y="2904"/>
                  </a:lnTo>
                  <a:lnTo>
                    <a:pt x="355" y="2891"/>
                  </a:lnTo>
                  <a:lnTo>
                    <a:pt x="368" y="2865"/>
                  </a:lnTo>
                  <a:lnTo>
                    <a:pt x="368" y="2839"/>
                  </a:lnTo>
                  <a:lnTo>
                    <a:pt x="382" y="2786"/>
                  </a:lnTo>
                  <a:lnTo>
                    <a:pt x="382" y="2746"/>
                  </a:lnTo>
                  <a:lnTo>
                    <a:pt x="395" y="2694"/>
                  </a:lnTo>
                  <a:lnTo>
                    <a:pt x="395" y="2654"/>
                  </a:lnTo>
                  <a:lnTo>
                    <a:pt x="407" y="2602"/>
                  </a:lnTo>
                  <a:lnTo>
                    <a:pt x="420" y="2550"/>
                  </a:lnTo>
                  <a:lnTo>
                    <a:pt x="433" y="2510"/>
                  </a:lnTo>
                  <a:lnTo>
                    <a:pt x="446" y="2458"/>
                  </a:lnTo>
                  <a:lnTo>
                    <a:pt x="460" y="2405"/>
                  </a:lnTo>
                  <a:lnTo>
                    <a:pt x="460" y="2352"/>
                  </a:lnTo>
                  <a:lnTo>
                    <a:pt x="473" y="2313"/>
                  </a:lnTo>
                  <a:lnTo>
                    <a:pt x="473" y="2260"/>
                  </a:lnTo>
                  <a:lnTo>
                    <a:pt x="473" y="2220"/>
                  </a:lnTo>
                  <a:lnTo>
                    <a:pt x="460" y="2181"/>
                  </a:lnTo>
                  <a:lnTo>
                    <a:pt x="433" y="2141"/>
                  </a:lnTo>
                  <a:lnTo>
                    <a:pt x="499" y="2063"/>
                  </a:lnTo>
                  <a:lnTo>
                    <a:pt x="565" y="1984"/>
                  </a:lnTo>
                  <a:lnTo>
                    <a:pt x="644" y="1919"/>
                  </a:lnTo>
                  <a:lnTo>
                    <a:pt x="710" y="1840"/>
                  </a:lnTo>
                  <a:lnTo>
                    <a:pt x="776" y="1760"/>
                  </a:lnTo>
                  <a:lnTo>
                    <a:pt x="842" y="1681"/>
                  </a:lnTo>
                  <a:lnTo>
                    <a:pt x="894" y="1603"/>
                  </a:lnTo>
                  <a:lnTo>
                    <a:pt x="934" y="1524"/>
                  </a:lnTo>
                  <a:lnTo>
                    <a:pt x="947" y="1524"/>
                  </a:lnTo>
                  <a:lnTo>
                    <a:pt x="947" y="1511"/>
                  </a:lnTo>
                  <a:lnTo>
                    <a:pt x="960" y="1511"/>
                  </a:lnTo>
                  <a:lnTo>
                    <a:pt x="960" y="1498"/>
                  </a:lnTo>
                  <a:lnTo>
                    <a:pt x="973" y="1498"/>
                  </a:lnTo>
                  <a:lnTo>
                    <a:pt x="973" y="1485"/>
                  </a:lnTo>
                  <a:lnTo>
                    <a:pt x="987" y="1485"/>
                  </a:lnTo>
                  <a:lnTo>
                    <a:pt x="1000" y="1485"/>
                  </a:lnTo>
                  <a:lnTo>
                    <a:pt x="1000" y="1498"/>
                  </a:lnTo>
                  <a:lnTo>
                    <a:pt x="1013" y="1498"/>
                  </a:lnTo>
                  <a:lnTo>
                    <a:pt x="1026" y="1511"/>
                  </a:lnTo>
                  <a:lnTo>
                    <a:pt x="1026" y="1538"/>
                  </a:lnTo>
                  <a:lnTo>
                    <a:pt x="1026" y="1564"/>
                  </a:lnTo>
                  <a:lnTo>
                    <a:pt x="1013" y="1577"/>
                  </a:lnTo>
                  <a:lnTo>
                    <a:pt x="1000" y="1603"/>
                  </a:lnTo>
                  <a:lnTo>
                    <a:pt x="987" y="1630"/>
                  </a:lnTo>
                  <a:lnTo>
                    <a:pt x="973" y="1642"/>
                  </a:lnTo>
                  <a:lnTo>
                    <a:pt x="960" y="1668"/>
                  </a:lnTo>
                  <a:lnTo>
                    <a:pt x="1000" y="1655"/>
                  </a:lnTo>
                  <a:lnTo>
                    <a:pt x="1038" y="1642"/>
                  </a:lnTo>
                  <a:lnTo>
                    <a:pt x="1078" y="1617"/>
                  </a:lnTo>
                  <a:lnTo>
                    <a:pt x="1117" y="1577"/>
                  </a:lnTo>
                  <a:lnTo>
                    <a:pt x="1144" y="1551"/>
                  </a:lnTo>
                  <a:lnTo>
                    <a:pt x="1183" y="1511"/>
                  </a:lnTo>
                  <a:lnTo>
                    <a:pt x="1209" y="1472"/>
                  </a:lnTo>
                  <a:lnTo>
                    <a:pt x="1236" y="1432"/>
                  </a:lnTo>
                  <a:lnTo>
                    <a:pt x="1249" y="1406"/>
                  </a:lnTo>
                  <a:lnTo>
                    <a:pt x="1262" y="1380"/>
                  </a:lnTo>
                  <a:lnTo>
                    <a:pt x="1275" y="1366"/>
                  </a:lnTo>
                  <a:lnTo>
                    <a:pt x="1288" y="1340"/>
                  </a:lnTo>
                  <a:lnTo>
                    <a:pt x="1302" y="1314"/>
                  </a:lnTo>
                  <a:lnTo>
                    <a:pt x="1315" y="1301"/>
                  </a:lnTo>
                  <a:lnTo>
                    <a:pt x="1328" y="1287"/>
                  </a:lnTo>
                  <a:lnTo>
                    <a:pt x="1341" y="1261"/>
                  </a:lnTo>
                  <a:lnTo>
                    <a:pt x="1354" y="1248"/>
                  </a:lnTo>
                  <a:lnTo>
                    <a:pt x="1354" y="1235"/>
                  </a:lnTo>
                  <a:lnTo>
                    <a:pt x="1354" y="1221"/>
                  </a:lnTo>
                  <a:lnTo>
                    <a:pt x="1341" y="1221"/>
                  </a:lnTo>
                  <a:lnTo>
                    <a:pt x="1341" y="1208"/>
                  </a:lnTo>
                  <a:lnTo>
                    <a:pt x="1539" y="946"/>
                  </a:lnTo>
                  <a:lnTo>
                    <a:pt x="1618" y="972"/>
                  </a:lnTo>
                  <a:lnTo>
                    <a:pt x="1735" y="867"/>
                  </a:lnTo>
                  <a:lnTo>
                    <a:pt x="1801" y="814"/>
                  </a:lnTo>
                  <a:lnTo>
                    <a:pt x="1854" y="761"/>
                  </a:lnTo>
                  <a:lnTo>
                    <a:pt x="1906" y="682"/>
                  </a:lnTo>
                  <a:lnTo>
                    <a:pt x="1959" y="618"/>
                  </a:lnTo>
                  <a:lnTo>
                    <a:pt x="2012" y="539"/>
                  </a:lnTo>
                  <a:lnTo>
                    <a:pt x="2065" y="473"/>
                  </a:lnTo>
                  <a:lnTo>
                    <a:pt x="2130" y="394"/>
                  </a:lnTo>
                  <a:lnTo>
                    <a:pt x="2209" y="328"/>
                  </a:lnTo>
                  <a:lnTo>
                    <a:pt x="2223" y="302"/>
                  </a:lnTo>
                  <a:lnTo>
                    <a:pt x="2236" y="275"/>
                  </a:lnTo>
                  <a:lnTo>
                    <a:pt x="2249" y="249"/>
                  </a:lnTo>
                  <a:lnTo>
                    <a:pt x="2262" y="209"/>
                  </a:lnTo>
                  <a:lnTo>
                    <a:pt x="2262" y="183"/>
                  </a:lnTo>
                  <a:lnTo>
                    <a:pt x="2275" y="143"/>
                  </a:lnTo>
                  <a:lnTo>
                    <a:pt x="2288" y="118"/>
                  </a:lnTo>
                  <a:lnTo>
                    <a:pt x="2288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06600" y="3614760"/>
              <a:ext cx="905040" cy="1015560"/>
            </a:xfrm>
            <a:custGeom>
              <a:avLst/>
              <a:gdLst/>
              <a:ahLst/>
              <a:rect l="l" t="t" r="r" b="b"/>
              <a:pathLst>
                <a:path w="2091" h="2378">
                  <a:moveTo>
                    <a:pt x="2091" y="0"/>
                  </a:moveTo>
                  <a:lnTo>
                    <a:pt x="1986" y="0"/>
                  </a:lnTo>
                  <a:lnTo>
                    <a:pt x="1882" y="13"/>
                  </a:lnTo>
                  <a:lnTo>
                    <a:pt x="1790" y="39"/>
                  </a:lnTo>
                  <a:lnTo>
                    <a:pt x="1697" y="79"/>
                  </a:lnTo>
                  <a:lnTo>
                    <a:pt x="1605" y="118"/>
                  </a:lnTo>
                  <a:lnTo>
                    <a:pt x="1526" y="171"/>
                  </a:lnTo>
                  <a:lnTo>
                    <a:pt x="1460" y="237"/>
                  </a:lnTo>
                  <a:lnTo>
                    <a:pt x="1394" y="301"/>
                  </a:lnTo>
                  <a:lnTo>
                    <a:pt x="1355" y="354"/>
                  </a:lnTo>
                  <a:lnTo>
                    <a:pt x="1315" y="394"/>
                  </a:lnTo>
                  <a:lnTo>
                    <a:pt x="1290" y="446"/>
                  </a:lnTo>
                  <a:lnTo>
                    <a:pt x="1264" y="486"/>
                  </a:lnTo>
                  <a:lnTo>
                    <a:pt x="1237" y="525"/>
                  </a:lnTo>
                  <a:lnTo>
                    <a:pt x="1198" y="565"/>
                  </a:lnTo>
                  <a:lnTo>
                    <a:pt x="1158" y="604"/>
                  </a:lnTo>
                  <a:lnTo>
                    <a:pt x="1119" y="644"/>
                  </a:lnTo>
                  <a:lnTo>
                    <a:pt x="1106" y="644"/>
                  </a:lnTo>
                  <a:lnTo>
                    <a:pt x="1092" y="631"/>
                  </a:lnTo>
                  <a:lnTo>
                    <a:pt x="1079" y="631"/>
                  </a:lnTo>
                  <a:lnTo>
                    <a:pt x="1066" y="618"/>
                  </a:lnTo>
                  <a:lnTo>
                    <a:pt x="1066" y="604"/>
                  </a:lnTo>
                  <a:lnTo>
                    <a:pt x="1264" y="237"/>
                  </a:lnTo>
                  <a:lnTo>
                    <a:pt x="1251" y="250"/>
                  </a:lnTo>
                  <a:lnTo>
                    <a:pt x="1237" y="250"/>
                  </a:lnTo>
                  <a:lnTo>
                    <a:pt x="1224" y="262"/>
                  </a:lnTo>
                  <a:lnTo>
                    <a:pt x="1211" y="262"/>
                  </a:lnTo>
                  <a:lnTo>
                    <a:pt x="1198" y="275"/>
                  </a:lnTo>
                  <a:lnTo>
                    <a:pt x="1198" y="288"/>
                  </a:lnTo>
                  <a:lnTo>
                    <a:pt x="1185" y="301"/>
                  </a:lnTo>
                  <a:lnTo>
                    <a:pt x="1171" y="315"/>
                  </a:lnTo>
                  <a:lnTo>
                    <a:pt x="697" y="380"/>
                  </a:lnTo>
                  <a:lnTo>
                    <a:pt x="684" y="380"/>
                  </a:lnTo>
                  <a:lnTo>
                    <a:pt x="671" y="394"/>
                  </a:lnTo>
                  <a:lnTo>
                    <a:pt x="659" y="407"/>
                  </a:lnTo>
                  <a:lnTo>
                    <a:pt x="185" y="473"/>
                  </a:lnTo>
                  <a:lnTo>
                    <a:pt x="185" y="486"/>
                  </a:lnTo>
                  <a:lnTo>
                    <a:pt x="185" y="499"/>
                  </a:lnTo>
                  <a:lnTo>
                    <a:pt x="198" y="512"/>
                  </a:lnTo>
                  <a:lnTo>
                    <a:pt x="198" y="525"/>
                  </a:lnTo>
                  <a:lnTo>
                    <a:pt x="198" y="539"/>
                  </a:lnTo>
                  <a:lnTo>
                    <a:pt x="185" y="539"/>
                  </a:lnTo>
                  <a:lnTo>
                    <a:pt x="185" y="552"/>
                  </a:lnTo>
                  <a:lnTo>
                    <a:pt x="171" y="552"/>
                  </a:lnTo>
                  <a:lnTo>
                    <a:pt x="79" y="683"/>
                  </a:lnTo>
                  <a:lnTo>
                    <a:pt x="28" y="827"/>
                  </a:lnTo>
                  <a:lnTo>
                    <a:pt x="0" y="972"/>
                  </a:lnTo>
                  <a:lnTo>
                    <a:pt x="13" y="1130"/>
                  </a:lnTo>
                  <a:lnTo>
                    <a:pt x="28" y="1300"/>
                  </a:lnTo>
                  <a:lnTo>
                    <a:pt x="66" y="1458"/>
                  </a:lnTo>
                  <a:lnTo>
                    <a:pt x="106" y="1617"/>
                  </a:lnTo>
                  <a:lnTo>
                    <a:pt x="132" y="1774"/>
                  </a:lnTo>
                  <a:lnTo>
                    <a:pt x="132" y="1787"/>
                  </a:lnTo>
                  <a:lnTo>
                    <a:pt x="132" y="1800"/>
                  </a:lnTo>
                  <a:lnTo>
                    <a:pt x="145" y="1800"/>
                  </a:lnTo>
                  <a:lnTo>
                    <a:pt x="145" y="1813"/>
                  </a:lnTo>
                  <a:lnTo>
                    <a:pt x="158" y="1813"/>
                  </a:lnTo>
                  <a:lnTo>
                    <a:pt x="171" y="1813"/>
                  </a:lnTo>
                  <a:lnTo>
                    <a:pt x="185" y="1826"/>
                  </a:lnTo>
                  <a:lnTo>
                    <a:pt x="316" y="2378"/>
                  </a:lnTo>
                  <a:lnTo>
                    <a:pt x="382" y="2378"/>
                  </a:lnTo>
                  <a:lnTo>
                    <a:pt x="448" y="2365"/>
                  </a:lnTo>
                  <a:lnTo>
                    <a:pt x="514" y="2352"/>
                  </a:lnTo>
                  <a:lnTo>
                    <a:pt x="567" y="2326"/>
                  </a:lnTo>
                  <a:lnTo>
                    <a:pt x="632" y="2299"/>
                  </a:lnTo>
                  <a:lnTo>
                    <a:pt x="697" y="2260"/>
                  </a:lnTo>
                  <a:lnTo>
                    <a:pt x="750" y="2235"/>
                  </a:lnTo>
                  <a:lnTo>
                    <a:pt x="803" y="2195"/>
                  </a:lnTo>
                  <a:lnTo>
                    <a:pt x="816" y="2182"/>
                  </a:lnTo>
                  <a:lnTo>
                    <a:pt x="816" y="2169"/>
                  </a:lnTo>
                  <a:lnTo>
                    <a:pt x="816" y="2156"/>
                  </a:lnTo>
                  <a:lnTo>
                    <a:pt x="869" y="2037"/>
                  </a:lnTo>
                  <a:lnTo>
                    <a:pt x="855" y="2037"/>
                  </a:lnTo>
                  <a:lnTo>
                    <a:pt x="842" y="2037"/>
                  </a:lnTo>
                  <a:lnTo>
                    <a:pt x="829" y="2050"/>
                  </a:lnTo>
                  <a:lnTo>
                    <a:pt x="829" y="2077"/>
                  </a:lnTo>
                  <a:lnTo>
                    <a:pt x="816" y="2090"/>
                  </a:lnTo>
                  <a:lnTo>
                    <a:pt x="816" y="2103"/>
                  </a:lnTo>
                  <a:lnTo>
                    <a:pt x="803" y="2116"/>
                  </a:lnTo>
                  <a:lnTo>
                    <a:pt x="790" y="2116"/>
                  </a:lnTo>
                  <a:lnTo>
                    <a:pt x="776" y="2116"/>
                  </a:lnTo>
                  <a:lnTo>
                    <a:pt x="776" y="2129"/>
                  </a:lnTo>
                  <a:lnTo>
                    <a:pt x="763" y="2129"/>
                  </a:lnTo>
                  <a:lnTo>
                    <a:pt x="750" y="2129"/>
                  </a:lnTo>
                  <a:lnTo>
                    <a:pt x="750" y="2116"/>
                  </a:lnTo>
                  <a:lnTo>
                    <a:pt x="737" y="2116"/>
                  </a:lnTo>
                  <a:lnTo>
                    <a:pt x="724" y="2116"/>
                  </a:lnTo>
                  <a:lnTo>
                    <a:pt x="908" y="1038"/>
                  </a:lnTo>
                  <a:lnTo>
                    <a:pt x="908" y="1025"/>
                  </a:lnTo>
                  <a:lnTo>
                    <a:pt x="921" y="1025"/>
                  </a:lnTo>
                  <a:lnTo>
                    <a:pt x="921" y="1012"/>
                  </a:lnTo>
                  <a:lnTo>
                    <a:pt x="934" y="1012"/>
                  </a:lnTo>
                  <a:lnTo>
                    <a:pt x="934" y="999"/>
                  </a:lnTo>
                  <a:lnTo>
                    <a:pt x="948" y="999"/>
                  </a:lnTo>
                  <a:lnTo>
                    <a:pt x="961" y="999"/>
                  </a:lnTo>
                  <a:lnTo>
                    <a:pt x="974" y="999"/>
                  </a:lnTo>
                  <a:lnTo>
                    <a:pt x="987" y="999"/>
                  </a:lnTo>
                  <a:lnTo>
                    <a:pt x="987" y="1012"/>
                  </a:lnTo>
                  <a:lnTo>
                    <a:pt x="1000" y="1012"/>
                  </a:lnTo>
                  <a:lnTo>
                    <a:pt x="1000" y="1025"/>
                  </a:lnTo>
                  <a:lnTo>
                    <a:pt x="1027" y="1274"/>
                  </a:lnTo>
                  <a:lnTo>
                    <a:pt x="1185" y="867"/>
                  </a:lnTo>
                  <a:lnTo>
                    <a:pt x="1185" y="854"/>
                  </a:lnTo>
                  <a:lnTo>
                    <a:pt x="1198" y="854"/>
                  </a:lnTo>
                  <a:lnTo>
                    <a:pt x="1198" y="840"/>
                  </a:lnTo>
                  <a:lnTo>
                    <a:pt x="1211" y="840"/>
                  </a:lnTo>
                  <a:lnTo>
                    <a:pt x="1224" y="840"/>
                  </a:lnTo>
                  <a:lnTo>
                    <a:pt x="1237" y="840"/>
                  </a:lnTo>
                  <a:lnTo>
                    <a:pt x="1251" y="840"/>
                  </a:lnTo>
                  <a:lnTo>
                    <a:pt x="1264" y="854"/>
                  </a:lnTo>
                  <a:lnTo>
                    <a:pt x="1277" y="867"/>
                  </a:lnTo>
                  <a:lnTo>
                    <a:pt x="1277" y="880"/>
                  </a:lnTo>
                  <a:lnTo>
                    <a:pt x="1264" y="880"/>
                  </a:lnTo>
                  <a:lnTo>
                    <a:pt x="1264" y="893"/>
                  </a:lnTo>
                  <a:lnTo>
                    <a:pt x="1264" y="906"/>
                  </a:lnTo>
                  <a:lnTo>
                    <a:pt x="1264" y="919"/>
                  </a:lnTo>
                  <a:lnTo>
                    <a:pt x="1290" y="999"/>
                  </a:lnTo>
                  <a:lnTo>
                    <a:pt x="1750" y="710"/>
                  </a:lnTo>
                  <a:lnTo>
                    <a:pt x="1869" y="644"/>
                  </a:lnTo>
                  <a:lnTo>
                    <a:pt x="1869" y="631"/>
                  </a:lnTo>
                  <a:lnTo>
                    <a:pt x="1869" y="618"/>
                  </a:lnTo>
                  <a:lnTo>
                    <a:pt x="1882" y="604"/>
                  </a:lnTo>
                  <a:lnTo>
                    <a:pt x="1882" y="591"/>
                  </a:lnTo>
                  <a:lnTo>
                    <a:pt x="1895" y="578"/>
                  </a:lnTo>
                  <a:lnTo>
                    <a:pt x="1908" y="578"/>
                  </a:lnTo>
                  <a:lnTo>
                    <a:pt x="1921" y="578"/>
                  </a:lnTo>
                  <a:lnTo>
                    <a:pt x="1921" y="565"/>
                  </a:lnTo>
                  <a:lnTo>
                    <a:pt x="1933" y="565"/>
                  </a:lnTo>
                  <a:lnTo>
                    <a:pt x="1948" y="565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43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1040" y="2568600"/>
              <a:ext cx="266400" cy="353880"/>
            </a:xfrm>
            <a:custGeom>
              <a:avLst/>
              <a:gdLst/>
              <a:ahLst/>
              <a:rect l="l" t="t" r="r" b="b"/>
              <a:pathLst>
                <a:path w="618" h="827">
                  <a:moveTo>
                    <a:pt x="618" y="118"/>
                  </a:moveTo>
                  <a:lnTo>
                    <a:pt x="605" y="52"/>
                  </a:lnTo>
                  <a:lnTo>
                    <a:pt x="579" y="26"/>
                  </a:lnTo>
                  <a:lnTo>
                    <a:pt x="554" y="13"/>
                  </a:lnTo>
                  <a:lnTo>
                    <a:pt x="514" y="0"/>
                  </a:lnTo>
                  <a:lnTo>
                    <a:pt x="475" y="0"/>
                  </a:lnTo>
                  <a:lnTo>
                    <a:pt x="448" y="0"/>
                  </a:lnTo>
                  <a:lnTo>
                    <a:pt x="409" y="0"/>
                  </a:lnTo>
                  <a:lnTo>
                    <a:pt x="369" y="13"/>
                  </a:lnTo>
                  <a:lnTo>
                    <a:pt x="343" y="26"/>
                  </a:lnTo>
                  <a:lnTo>
                    <a:pt x="316" y="52"/>
                  </a:lnTo>
                  <a:lnTo>
                    <a:pt x="290" y="66"/>
                  </a:lnTo>
                  <a:lnTo>
                    <a:pt x="264" y="79"/>
                  </a:lnTo>
                  <a:lnTo>
                    <a:pt x="237" y="92"/>
                  </a:lnTo>
                  <a:lnTo>
                    <a:pt x="211" y="105"/>
                  </a:lnTo>
                  <a:lnTo>
                    <a:pt x="185" y="118"/>
                  </a:lnTo>
                  <a:lnTo>
                    <a:pt x="158" y="145"/>
                  </a:lnTo>
                  <a:lnTo>
                    <a:pt x="145" y="158"/>
                  </a:lnTo>
                  <a:lnTo>
                    <a:pt x="145" y="184"/>
                  </a:lnTo>
                  <a:lnTo>
                    <a:pt x="145" y="196"/>
                  </a:lnTo>
                  <a:lnTo>
                    <a:pt x="145" y="209"/>
                  </a:lnTo>
                  <a:lnTo>
                    <a:pt x="145" y="236"/>
                  </a:lnTo>
                  <a:lnTo>
                    <a:pt x="145" y="249"/>
                  </a:lnTo>
                  <a:lnTo>
                    <a:pt x="132" y="275"/>
                  </a:lnTo>
                  <a:lnTo>
                    <a:pt x="119" y="288"/>
                  </a:lnTo>
                  <a:lnTo>
                    <a:pt x="106" y="302"/>
                  </a:lnTo>
                  <a:lnTo>
                    <a:pt x="93" y="302"/>
                  </a:lnTo>
                  <a:lnTo>
                    <a:pt x="79" y="302"/>
                  </a:lnTo>
                  <a:lnTo>
                    <a:pt x="66" y="288"/>
                  </a:lnTo>
                  <a:lnTo>
                    <a:pt x="53" y="275"/>
                  </a:lnTo>
                  <a:lnTo>
                    <a:pt x="40" y="262"/>
                  </a:lnTo>
                  <a:lnTo>
                    <a:pt x="27" y="262"/>
                  </a:lnTo>
                  <a:lnTo>
                    <a:pt x="14" y="262"/>
                  </a:lnTo>
                  <a:lnTo>
                    <a:pt x="14" y="275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14" y="315"/>
                  </a:lnTo>
                  <a:lnTo>
                    <a:pt x="14" y="328"/>
                  </a:lnTo>
                  <a:lnTo>
                    <a:pt x="0" y="328"/>
                  </a:lnTo>
                  <a:lnTo>
                    <a:pt x="79" y="420"/>
                  </a:lnTo>
                  <a:lnTo>
                    <a:pt x="93" y="420"/>
                  </a:lnTo>
                  <a:lnTo>
                    <a:pt x="106" y="420"/>
                  </a:lnTo>
                  <a:lnTo>
                    <a:pt x="106" y="433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19" y="499"/>
                  </a:lnTo>
                  <a:lnTo>
                    <a:pt x="106" y="512"/>
                  </a:lnTo>
                  <a:lnTo>
                    <a:pt x="106" y="526"/>
                  </a:lnTo>
                  <a:lnTo>
                    <a:pt x="93" y="539"/>
                  </a:lnTo>
                  <a:lnTo>
                    <a:pt x="185" y="788"/>
                  </a:lnTo>
                  <a:lnTo>
                    <a:pt x="198" y="788"/>
                  </a:lnTo>
                  <a:lnTo>
                    <a:pt x="211" y="801"/>
                  </a:lnTo>
                  <a:lnTo>
                    <a:pt x="224" y="814"/>
                  </a:lnTo>
                  <a:lnTo>
                    <a:pt x="237" y="827"/>
                  </a:lnTo>
                  <a:lnTo>
                    <a:pt x="251" y="827"/>
                  </a:lnTo>
                  <a:lnTo>
                    <a:pt x="264" y="827"/>
                  </a:lnTo>
                  <a:lnTo>
                    <a:pt x="277" y="827"/>
                  </a:lnTo>
                  <a:lnTo>
                    <a:pt x="290" y="827"/>
                  </a:lnTo>
                  <a:lnTo>
                    <a:pt x="303" y="814"/>
                  </a:lnTo>
                  <a:lnTo>
                    <a:pt x="316" y="801"/>
                  </a:lnTo>
                  <a:lnTo>
                    <a:pt x="330" y="788"/>
                  </a:lnTo>
                  <a:lnTo>
                    <a:pt x="343" y="762"/>
                  </a:lnTo>
                  <a:lnTo>
                    <a:pt x="356" y="762"/>
                  </a:lnTo>
                  <a:lnTo>
                    <a:pt x="356" y="748"/>
                  </a:lnTo>
                  <a:lnTo>
                    <a:pt x="356" y="735"/>
                  </a:lnTo>
                  <a:lnTo>
                    <a:pt x="356" y="709"/>
                  </a:lnTo>
                  <a:lnTo>
                    <a:pt x="343" y="697"/>
                  </a:lnTo>
                  <a:lnTo>
                    <a:pt x="316" y="670"/>
                  </a:lnTo>
                  <a:lnTo>
                    <a:pt x="303" y="644"/>
                  </a:lnTo>
                  <a:lnTo>
                    <a:pt x="290" y="631"/>
                  </a:lnTo>
                  <a:lnTo>
                    <a:pt x="290" y="618"/>
                  </a:lnTo>
                  <a:lnTo>
                    <a:pt x="303" y="605"/>
                  </a:lnTo>
                  <a:lnTo>
                    <a:pt x="303" y="618"/>
                  </a:lnTo>
                  <a:lnTo>
                    <a:pt x="316" y="618"/>
                  </a:lnTo>
                  <a:lnTo>
                    <a:pt x="330" y="631"/>
                  </a:lnTo>
                  <a:lnTo>
                    <a:pt x="356" y="644"/>
                  </a:lnTo>
                  <a:lnTo>
                    <a:pt x="382" y="657"/>
                  </a:lnTo>
                  <a:lnTo>
                    <a:pt x="396" y="670"/>
                  </a:lnTo>
                  <a:lnTo>
                    <a:pt x="409" y="684"/>
                  </a:lnTo>
                  <a:lnTo>
                    <a:pt x="422" y="684"/>
                  </a:lnTo>
                  <a:lnTo>
                    <a:pt x="448" y="605"/>
                  </a:lnTo>
                  <a:lnTo>
                    <a:pt x="501" y="618"/>
                  </a:lnTo>
                  <a:lnTo>
                    <a:pt x="539" y="460"/>
                  </a:lnTo>
                  <a:lnTo>
                    <a:pt x="356" y="354"/>
                  </a:lnTo>
                  <a:lnTo>
                    <a:pt x="343" y="341"/>
                  </a:lnTo>
                  <a:lnTo>
                    <a:pt x="343" y="328"/>
                  </a:lnTo>
                  <a:lnTo>
                    <a:pt x="343" y="315"/>
                  </a:lnTo>
                  <a:lnTo>
                    <a:pt x="343" y="302"/>
                  </a:lnTo>
                  <a:lnTo>
                    <a:pt x="356" y="302"/>
                  </a:lnTo>
                  <a:lnTo>
                    <a:pt x="356" y="288"/>
                  </a:lnTo>
                  <a:lnTo>
                    <a:pt x="356" y="275"/>
                  </a:lnTo>
                  <a:lnTo>
                    <a:pt x="488" y="262"/>
                  </a:lnTo>
                  <a:lnTo>
                    <a:pt x="501" y="275"/>
                  </a:lnTo>
                  <a:lnTo>
                    <a:pt x="514" y="288"/>
                  </a:lnTo>
                  <a:lnTo>
                    <a:pt x="514" y="302"/>
                  </a:lnTo>
                  <a:lnTo>
                    <a:pt x="527" y="315"/>
                  </a:lnTo>
                  <a:lnTo>
                    <a:pt x="539" y="341"/>
                  </a:lnTo>
                  <a:lnTo>
                    <a:pt x="539" y="354"/>
                  </a:lnTo>
                  <a:lnTo>
                    <a:pt x="554" y="368"/>
                  </a:lnTo>
                  <a:lnTo>
                    <a:pt x="567" y="394"/>
                  </a:lnTo>
                  <a:lnTo>
                    <a:pt x="618" y="11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5560" y="2445480"/>
              <a:ext cx="27360" cy="1044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5" y="0"/>
                  </a:moveTo>
                  <a:lnTo>
                    <a:pt x="0" y="2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18840" y="2782440"/>
              <a:ext cx="659520" cy="1000080"/>
            </a:xfrm>
            <a:custGeom>
              <a:avLst/>
              <a:gdLst/>
              <a:ahLst/>
              <a:rect l="l" t="t" r="r" b="b"/>
              <a:pathLst>
                <a:path w="1524" h="2340">
                  <a:moveTo>
                    <a:pt x="1524" y="696"/>
                  </a:moveTo>
                  <a:lnTo>
                    <a:pt x="1524" y="684"/>
                  </a:lnTo>
                  <a:lnTo>
                    <a:pt x="1498" y="736"/>
                  </a:lnTo>
                  <a:lnTo>
                    <a:pt x="1472" y="788"/>
                  </a:lnTo>
                  <a:lnTo>
                    <a:pt x="1445" y="841"/>
                  </a:lnTo>
                  <a:lnTo>
                    <a:pt x="1419" y="881"/>
                  </a:lnTo>
                  <a:lnTo>
                    <a:pt x="1393" y="933"/>
                  </a:lnTo>
                  <a:lnTo>
                    <a:pt x="1353" y="973"/>
                  </a:lnTo>
                  <a:lnTo>
                    <a:pt x="1302" y="1012"/>
                  </a:lnTo>
                  <a:lnTo>
                    <a:pt x="1249" y="1039"/>
                  </a:lnTo>
                  <a:lnTo>
                    <a:pt x="1236" y="1039"/>
                  </a:lnTo>
                  <a:lnTo>
                    <a:pt x="1223" y="1039"/>
                  </a:lnTo>
                  <a:lnTo>
                    <a:pt x="1209" y="1039"/>
                  </a:lnTo>
                  <a:lnTo>
                    <a:pt x="1196" y="1039"/>
                  </a:lnTo>
                  <a:lnTo>
                    <a:pt x="1157" y="907"/>
                  </a:lnTo>
                  <a:lnTo>
                    <a:pt x="1143" y="788"/>
                  </a:lnTo>
                  <a:lnTo>
                    <a:pt x="1130" y="658"/>
                  </a:lnTo>
                  <a:lnTo>
                    <a:pt x="1143" y="526"/>
                  </a:lnTo>
                  <a:lnTo>
                    <a:pt x="1143" y="394"/>
                  </a:lnTo>
                  <a:lnTo>
                    <a:pt x="1130" y="263"/>
                  </a:lnTo>
                  <a:lnTo>
                    <a:pt x="1117" y="132"/>
                  </a:lnTo>
                  <a:lnTo>
                    <a:pt x="1078" y="0"/>
                  </a:lnTo>
                  <a:lnTo>
                    <a:pt x="1064" y="0"/>
                  </a:lnTo>
                  <a:lnTo>
                    <a:pt x="1051" y="0"/>
                  </a:lnTo>
                  <a:lnTo>
                    <a:pt x="1051" y="145"/>
                  </a:lnTo>
                  <a:lnTo>
                    <a:pt x="1038" y="289"/>
                  </a:lnTo>
                  <a:lnTo>
                    <a:pt x="999" y="421"/>
                  </a:lnTo>
                  <a:lnTo>
                    <a:pt x="959" y="552"/>
                  </a:lnTo>
                  <a:lnTo>
                    <a:pt x="906" y="684"/>
                  </a:lnTo>
                  <a:lnTo>
                    <a:pt x="841" y="802"/>
                  </a:lnTo>
                  <a:lnTo>
                    <a:pt x="762" y="920"/>
                  </a:lnTo>
                  <a:lnTo>
                    <a:pt x="669" y="1026"/>
                  </a:lnTo>
                  <a:lnTo>
                    <a:pt x="618" y="1052"/>
                  </a:lnTo>
                  <a:lnTo>
                    <a:pt x="565" y="1065"/>
                  </a:lnTo>
                  <a:lnTo>
                    <a:pt x="499" y="1078"/>
                  </a:lnTo>
                  <a:lnTo>
                    <a:pt x="446" y="1091"/>
                  </a:lnTo>
                  <a:lnTo>
                    <a:pt x="394" y="1091"/>
                  </a:lnTo>
                  <a:lnTo>
                    <a:pt x="341" y="1078"/>
                  </a:lnTo>
                  <a:lnTo>
                    <a:pt x="288" y="1078"/>
                  </a:lnTo>
                  <a:lnTo>
                    <a:pt x="236" y="1065"/>
                  </a:lnTo>
                  <a:lnTo>
                    <a:pt x="183" y="1144"/>
                  </a:lnTo>
                  <a:lnTo>
                    <a:pt x="157" y="1248"/>
                  </a:lnTo>
                  <a:lnTo>
                    <a:pt x="130" y="1341"/>
                  </a:lnTo>
                  <a:lnTo>
                    <a:pt x="104" y="1446"/>
                  </a:lnTo>
                  <a:lnTo>
                    <a:pt x="91" y="1551"/>
                  </a:lnTo>
                  <a:lnTo>
                    <a:pt x="78" y="1657"/>
                  </a:lnTo>
                  <a:lnTo>
                    <a:pt x="51" y="1748"/>
                  </a:lnTo>
                  <a:lnTo>
                    <a:pt x="25" y="1853"/>
                  </a:lnTo>
                  <a:lnTo>
                    <a:pt x="12" y="1906"/>
                  </a:lnTo>
                  <a:lnTo>
                    <a:pt x="12" y="1959"/>
                  </a:lnTo>
                  <a:lnTo>
                    <a:pt x="12" y="2011"/>
                  </a:lnTo>
                  <a:lnTo>
                    <a:pt x="12" y="2077"/>
                  </a:lnTo>
                  <a:lnTo>
                    <a:pt x="12" y="2130"/>
                  </a:lnTo>
                  <a:lnTo>
                    <a:pt x="12" y="2183"/>
                  </a:lnTo>
                  <a:lnTo>
                    <a:pt x="0" y="2234"/>
                  </a:lnTo>
                  <a:lnTo>
                    <a:pt x="0" y="2287"/>
                  </a:lnTo>
                  <a:lnTo>
                    <a:pt x="0" y="2300"/>
                  </a:lnTo>
                  <a:lnTo>
                    <a:pt x="12" y="2300"/>
                  </a:lnTo>
                  <a:lnTo>
                    <a:pt x="25" y="2313"/>
                  </a:lnTo>
                  <a:lnTo>
                    <a:pt x="38" y="2313"/>
                  </a:lnTo>
                  <a:lnTo>
                    <a:pt x="51" y="2326"/>
                  </a:lnTo>
                  <a:lnTo>
                    <a:pt x="64" y="2326"/>
                  </a:lnTo>
                  <a:lnTo>
                    <a:pt x="78" y="2326"/>
                  </a:lnTo>
                  <a:lnTo>
                    <a:pt x="91" y="2340"/>
                  </a:lnTo>
                  <a:lnTo>
                    <a:pt x="143" y="2300"/>
                  </a:lnTo>
                  <a:lnTo>
                    <a:pt x="209" y="2274"/>
                  </a:lnTo>
                  <a:lnTo>
                    <a:pt x="288" y="2261"/>
                  </a:lnTo>
                  <a:lnTo>
                    <a:pt x="354" y="2261"/>
                  </a:lnTo>
                  <a:lnTo>
                    <a:pt x="433" y="2247"/>
                  </a:lnTo>
                  <a:lnTo>
                    <a:pt x="499" y="2247"/>
                  </a:lnTo>
                  <a:lnTo>
                    <a:pt x="578" y="2234"/>
                  </a:lnTo>
                  <a:lnTo>
                    <a:pt x="656" y="2221"/>
                  </a:lnTo>
                  <a:lnTo>
                    <a:pt x="682" y="2221"/>
                  </a:lnTo>
                  <a:lnTo>
                    <a:pt x="709" y="2221"/>
                  </a:lnTo>
                  <a:lnTo>
                    <a:pt x="748" y="2221"/>
                  </a:lnTo>
                  <a:lnTo>
                    <a:pt x="775" y="2208"/>
                  </a:lnTo>
                  <a:lnTo>
                    <a:pt x="801" y="2208"/>
                  </a:lnTo>
                  <a:lnTo>
                    <a:pt x="827" y="2208"/>
                  </a:lnTo>
                  <a:lnTo>
                    <a:pt x="867" y="2208"/>
                  </a:lnTo>
                  <a:lnTo>
                    <a:pt x="893" y="2196"/>
                  </a:lnTo>
                  <a:lnTo>
                    <a:pt x="656" y="1499"/>
                  </a:lnTo>
                  <a:lnTo>
                    <a:pt x="656" y="1486"/>
                  </a:lnTo>
                  <a:lnTo>
                    <a:pt x="669" y="1486"/>
                  </a:lnTo>
                  <a:lnTo>
                    <a:pt x="682" y="1486"/>
                  </a:lnTo>
                  <a:lnTo>
                    <a:pt x="696" y="1472"/>
                  </a:lnTo>
                  <a:lnTo>
                    <a:pt x="709" y="1486"/>
                  </a:lnTo>
                  <a:lnTo>
                    <a:pt x="722" y="1486"/>
                  </a:lnTo>
                  <a:lnTo>
                    <a:pt x="735" y="1486"/>
                  </a:lnTo>
                  <a:lnTo>
                    <a:pt x="735" y="1499"/>
                  </a:lnTo>
                  <a:lnTo>
                    <a:pt x="814" y="1722"/>
                  </a:lnTo>
                  <a:lnTo>
                    <a:pt x="709" y="1039"/>
                  </a:lnTo>
                  <a:lnTo>
                    <a:pt x="722" y="1026"/>
                  </a:lnTo>
                  <a:lnTo>
                    <a:pt x="735" y="1026"/>
                  </a:lnTo>
                  <a:lnTo>
                    <a:pt x="748" y="1026"/>
                  </a:lnTo>
                  <a:lnTo>
                    <a:pt x="762" y="1026"/>
                  </a:lnTo>
                  <a:lnTo>
                    <a:pt x="775" y="1026"/>
                  </a:lnTo>
                  <a:lnTo>
                    <a:pt x="788" y="1039"/>
                  </a:lnTo>
                  <a:lnTo>
                    <a:pt x="972" y="1814"/>
                  </a:lnTo>
                  <a:lnTo>
                    <a:pt x="893" y="920"/>
                  </a:lnTo>
                  <a:lnTo>
                    <a:pt x="906" y="920"/>
                  </a:lnTo>
                  <a:lnTo>
                    <a:pt x="906" y="907"/>
                  </a:lnTo>
                  <a:lnTo>
                    <a:pt x="920" y="907"/>
                  </a:lnTo>
                  <a:lnTo>
                    <a:pt x="933" y="907"/>
                  </a:lnTo>
                  <a:lnTo>
                    <a:pt x="946" y="907"/>
                  </a:lnTo>
                  <a:lnTo>
                    <a:pt x="959" y="907"/>
                  </a:lnTo>
                  <a:lnTo>
                    <a:pt x="972" y="907"/>
                  </a:lnTo>
                  <a:lnTo>
                    <a:pt x="972" y="920"/>
                  </a:lnTo>
                  <a:lnTo>
                    <a:pt x="985" y="920"/>
                  </a:lnTo>
                  <a:lnTo>
                    <a:pt x="999" y="920"/>
                  </a:lnTo>
                  <a:lnTo>
                    <a:pt x="999" y="933"/>
                  </a:lnTo>
                  <a:lnTo>
                    <a:pt x="985" y="1052"/>
                  </a:lnTo>
                  <a:lnTo>
                    <a:pt x="999" y="1157"/>
                  </a:lnTo>
                  <a:lnTo>
                    <a:pt x="1012" y="1275"/>
                  </a:lnTo>
                  <a:lnTo>
                    <a:pt x="1038" y="1393"/>
                  </a:lnTo>
                  <a:lnTo>
                    <a:pt x="1064" y="1499"/>
                  </a:lnTo>
                  <a:lnTo>
                    <a:pt x="1091" y="1617"/>
                  </a:lnTo>
                  <a:lnTo>
                    <a:pt x="1117" y="1735"/>
                  </a:lnTo>
                  <a:lnTo>
                    <a:pt x="1130" y="1853"/>
                  </a:lnTo>
                  <a:lnTo>
                    <a:pt x="1183" y="1748"/>
                  </a:lnTo>
                  <a:lnTo>
                    <a:pt x="1236" y="1630"/>
                  </a:lnTo>
                  <a:lnTo>
                    <a:pt x="1287" y="1512"/>
                  </a:lnTo>
                  <a:lnTo>
                    <a:pt x="1340" y="1380"/>
                  </a:lnTo>
                  <a:lnTo>
                    <a:pt x="1380" y="1235"/>
                  </a:lnTo>
                  <a:lnTo>
                    <a:pt x="1432" y="1105"/>
                  </a:lnTo>
                  <a:lnTo>
                    <a:pt x="1472" y="960"/>
                  </a:lnTo>
                  <a:lnTo>
                    <a:pt x="1511" y="828"/>
                  </a:lnTo>
                  <a:lnTo>
                    <a:pt x="1511" y="815"/>
                  </a:lnTo>
                  <a:lnTo>
                    <a:pt x="1511" y="788"/>
                  </a:lnTo>
                  <a:lnTo>
                    <a:pt x="1511" y="775"/>
                  </a:lnTo>
                  <a:lnTo>
                    <a:pt x="1511" y="749"/>
                  </a:lnTo>
                  <a:lnTo>
                    <a:pt x="1511" y="736"/>
                  </a:lnTo>
                  <a:lnTo>
                    <a:pt x="1511" y="723"/>
                  </a:lnTo>
                  <a:lnTo>
                    <a:pt x="1524" y="709"/>
                  </a:lnTo>
                  <a:lnTo>
                    <a:pt x="1524" y="69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53800" y="2944800"/>
              <a:ext cx="96840" cy="235440"/>
            </a:xfrm>
            <a:custGeom>
              <a:avLst/>
              <a:gdLst/>
              <a:ahLst/>
              <a:rect l="l" t="t" r="r" b="b"/>
              <a:pathLst>
                <a:path w="223" h="552">
                  <a:moveTo>
                    <a:pt x="223" y="171"/>
                  </a:moveTo>
                  <a:lnTo>
                    <a:pt x="223" y="158"/>
                  </a:lnTo>
                  <a:lnTo>
                    <a:pt x="223" y="145"/>
                  </a:lnTo>
                  <a:lnTo>
                    <a:pt x="223" y="132"/>
                  </a:lnTo>
                  <a:lnTo>
                    <a:pt x="223" y="119"/>
                  </a:lnTo>
                  <a:lnTo>
                    <a:pt x="223" y="106"/>
                  </a:lnTo>
                  <a:lnTo>
                    <a:pt x="209" y="106"/>
                  </a:lnTo>
                  <a:lnTo>
                    <a:pt x="196" y="106"/>
                  </a:lnTo>
                  <a:lnTo>
                    <a:pt x="183" y="106"/>
                  </a:lnTo>
                  <a:lnTo>
                    <a:pt x="183" y="92"/>
                  </a:lnTo>
                  <a:lnTo>
                    <a:pt x="170" y="92"/>
                  </a:lnTo>
                  <a:lnTo>
                    <a:pt x="157" y="92"/>
                  </a:lnTo>
                  <a:lnTo>
                    <a:pt x="157" y="79"/>
                  </a:lnTo>
                  <a:lnTo>
                    <a:pt x="157" y="66"/>
                  </a:lnTo>
                  <a:lnTo>
                    <a:pt x="157" y="53"/>
                  </a:lnTo>
                  <a:lnTo>
                    <a:pt x="157" y="40"/>
                  </a:lnTo>
                  <a:lnTo>
                    <a:pt x="144" y="27"/>
                  </a:lnTo>
                  <a:lnTo>
                    <a:pt x="144" y="13"/>
                  </a:lnTo>
                  <a:lnTo>
                    <a:pt x="130" y="13"/>
                  </a:lnTo>
                  <a:lnTo>
                    <a:pt x="117" y="27"/>
                  </a:lnTo>
                  <a:lnTo>
                    <a:pt x="104" y="40"/>
                  </a:lnTo>
                  <a:lnTo>
                    <a:pt x="91" y="40"/>
                  </a:lnTo>
                  <a:lnTo>
                    <a:pt x="13" y="0"/>
                  </a:lnTo>
                  <a:lnTo>
                    <a:pt x="0" y="53"/>
                  </a:lnTo>
                  <a:lnTo>
                    <a:pt x="0" y="119"/>
                  </a:lnTo>
                  <a:lnTo>
                    <a:pt x="0" y="185"/>
                  </a:lnTo>
                  <a:lnTo>
                    <a:pt x="0" y="250"/>
                  </a:lnTo>
                  <a:lnTo>
                    <a:pt x="0" y="315"/>
                  </a:lnTo>
                  <a:lnTo>
                    <a:pt x="0" y="381"/>
                  </a:lnTo>
                  <a:lnTo>
                    <a:pt x="0" y="447"/>
                  </a:lnTo>
                  <a:lnTo>
                    <a:pt x="0" y="513"/>
                  </a:lnTo>
                  <a:lnTo>
                    <a:pt x="0" y="526"/>
                  </a:lnTo>
                  <a:lnTo>
                    <a:pt x="0" y="539"/>
                  </a:lnTo>
                  <a:lnTo>
                    <a:pt x="0" y="552"/>
                  </a:lnTo>
                  <a:lnTo>
                    <a:pt x="26" y="539"/>
                  </a:lnTo>
                  <a:lnTo>
                    <a:pt x="51" y="526"/>
                  </a:lnTo>
                  <a:lnTo>
                    <a:pt x="78" y="500"/>
                  </a:lnTo>
                  <a:lnTo>
                    <a:pt x="104" y="473"/>
                  </a:lnTo>
                  <a:lnTo>
                    <a:pt x="117" y="447"/>
                  </a:lnTo>
                  <a:lnTo>
                    <a:pt x="130" y="421"/>
                  </a:lnTo>
                  <a:lnTo>
                    <a:pt x="144" y="394"/>
                  </a:lnTo>
                  <a:lnTo>
                    <a:pt x="170" y="355"/>
                  </a:lnTo>
                  <a:lnTo>
                    <a:pt x="170" y="328"/>
                  </a:lnTo>
                  <a:lnTo>
                    <a:pt x="183" y="303"/>
                  </a:lnTo>
                  <a:lnTo>
                    <a:pt x="183" y="277"/>
                  </a:lnTo>
                  <a:lnTo>
                    <a:pt x="196" y="250"/>
                  </a:lnTo>
                  <a:lnTo>
                    <a:pt x="196" y="237"/>
                  </a:lnTo>
                  <a:lnTo>
                    <a:pt x="209" y="211"/>
                  </a:lnTo>
                  <a:lnTo>
                    <a:pt x="209" y="185"/>
                  </a:lnTo>
                  <a:lnTo>
                    <a:pt x="223" y="17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66040" y="3091680"/>
              <a:ext cx="32400" cy="4932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78" y="39"/>
                  </a:moveTo>
                  <a:lnTo>
                    <a:pt x="78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52" y="13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12" y="26"/>
                  </a:lnTo>
                  <a:lnTo>
                    <a:pt x="12" y="3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12" y="118"/>
                  </a:lnTo>
                  <a:lnTo>
                    <a:pt x="25" y="118"/>
                  </a:lnTo>
                  <a:lnTo>
                    <a:pt x="40" y="118"/>
                  </a:lnTo>
                  <a:lnTo>
                    <a:pt x="40" y="105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1120" y="2737800"/>
              <a:ext cx="57240" cy="167400"/>
            </a:xfrm>
            <a:custGeom>
              <a:avLst/>
              <a:gdLst/>
              <a:ahLst/>
              <a:rect l="l" t="t" r="r" b="b"/>
              <a:pathLst>
                <a:path w="131" h="394">
                  <a:moveTo>
                    <a:pt x="119" y="276"/>
                  </a:moveTo>
                  <a:lnTo>
                    <a:pt x="104" y="290"/>
                  </a:lnTo>
                  <a:lnTo>
                    <a:pt x="91" y="290"/>
                  </a:lnTo>
                  <a:lnTo>
                    <a:pt x="79" y="290"/>
                  </a:lnTo>
                  <a:lnTo>
                    <a:pt x="66" y="263"/>
                  </a:lnTo>
                  <a:lnTo>
                    <a:pt x="66" y="250"/>
                  </a:lnTo>
                  <a:lnTo>
                    <a:pt x="66" y="224"/>
                  </a:lnTo>
                  <a:lnTo>
                    <a:pt x="79" y="211"/>
                  </a:lnTo>
                  <a:lnTo>
                    <a:pt x="79" y="197"/>
                  </a:lnTo>
                  <a:lnTo>
                    <a:pt x="91" y="171"/>
                  </a:lnTo>
                  <a:lnTo>
                    <a:pt x="104" y="158"/>
                  </a:lnTo>
                  <a:lnTo>
                    <a:pt x="119" y="145"/>
                  </a:lnTo>
                  <a:lnTo>
                    <a:pt x="91" y="0"/>
                  </a:lnTo>
                  <a:lnTo>
                    <a:pt x="79" y="13"/>
                  </a:lnTo>
                  <a:lnTo>
                    <a:pt x="66" y="13"/>
                  </a:lnTo>
                  <a:lnTo>
                    <a:pt x="53" y="26"/>
                  </a:lnTo>
                  <a:lnTo>
                    <a:pt x="40" y="26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13" y="66"/>
                  </a:lnTo>
                  <a:lnTo>
                    <a:pt x="0" y="79"/>
                  </a:lnTo>
                  <a:lnTo>
                    <a:pt x="40" y="394"/>
                  </a:lnTo>
                  <a:lnTo>
                    <a:pt x="131" y="290"/>
                  </a:lnTo>
                  <a:lnTo>
                    <a:pt x="119" y="290"/>
                  </a:lnTo>
                  <a:lnTo>
                    <a:pt x="119" y="27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0" y="2658960"/>
              <a:ext cx="29160" cy="172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0"/>
                  </a:moveTo>
                  <a:lnTo>
                    <a:pt x="0" y="4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77400" y="2372040"/>
              <a:ext cx="101880" cy="33840"/>
            </a:xfrm>
            <a:custGeom>
              <a:avLst/>
              <a:gdLst/>
              <a:ahLst/>
              <a:rect l="l" t="t" r="r" b="b"/>
              <a:pathLst>
                <a:path w="237" h="79">
                  <a:moveTo>
                    <a:pt x="224" y="0"/>
                  </a:moveTo>
                  <a:lnTo>
                    <a:pt x="0" y="79"/>
                  </a:lnTo>
                  <a:lnTo>
                    <a:pt x="23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9760" y="4731120"/>
              <a:ext cx="649080" cy="1068120"/>
            </a:xfrm>
            <a:custGeom>
              <a:avLst/>
              <a:gdLst/>
              <a:ahLst/>
              <a:rect l="l" t="t" r="r" b="b"/>
              <a:pathLst>
                <a:path w="1499" h="2497">
                  <a:moveTo>
                    <a:pt x="1499" y="143"/>
                  </a:moveTo>
                  <a:lnTo>
                    <a:pt x="1499" y="130"/>
                  </a:lnTo>
                  <a:lnTo>
                    <a:pt x="1486" y="105"/>
                  </a:lnTo>
                  <a:lnTo>
                    <a:pt x="1486" y="92"/>
                  </a:lnTo>
                  <a:lnTo>
                    <a:pt x="1486" y="79"/>
                  </a:lnTo>
                  <a:lnTo>
                    <a:pt x="1486" y="52"/>
                  </a:lnTo>
                  <a:lnTo>
                    <a:pt x="1486" y="39"/>
                  </a:lnTo>
                  <a:lnTo>
                    <a:pt x="1499" y="26"/>
                  </a:lnTo>
                  <a:lnTo>
                    <a:pt x="1499" y="0"/>
                  </a:lnTo>
                  <a:lnTo>
                    <a:pt x="1486" y="0"/>
                  </a:lnTo>
                  <a:lnTo>
                    <a:pt x="1473" y="0"/>
                  </a:lnTo>
                  <a:lnTo>
                    <a:pt x="1460" y="13"/>
                  </a:lnTo>
                  <a:lnTo>
                    <a:pt x="1446" y="13"/>
                  </a:lnTo>
                  <a:lnTo>
                    <a:pt x="1433" y="13"/>
                  </a:lnTo>
                  <a:lnTo>
                    <a:pt x="1420" y="13"/>
                  </a:lnTo>
                  <a:lnTo>
                    <a:pt x="1407" y="0"/>
                  </a:lnTo>
                  <a:lnTo>
                    <a:pt x="1394" y="0"/>
                  </a:lnTo>
                  <a:lnTo>
                    <a:pt x="1039" y="157"/>
                  </a:lnTo>
                  <a:lnTo>
                    <a:pt x="1039" y="170"/>
                  </a:lnTo>
                  <a:lnTo>
                    <a:pt x="1052" y="170"/>
                  </a:lnTo>
                  <a:lnTo>
                    <a:pt x="1052" y="183"/>
                  </a:lnTo>
                  <a:lnTo>
                    <a:pt x="1052" y="196"/>
                  </a:lnTo>
                  <a:lnTo>
                    <a:pt x="1065" y="209"/>
                  </a:lnTo>
                  <a:lnTo>
                    <a:pt x="1052" y="565"/>
                  </a:lnTo>
                  <a:lnTo>
                    <a:pt x="986" y="643"/>
                  </a:lnTo>
                  <a:lnTo>
                    <a:pt x="907" y="735"/>
                  </a:lnTo>
                  <a:lnTo>
                    <a:pt x="828" y="814"/>
                  </a:lnTo>
                  <a:lnTo>
                    <a:pt x="763" y="906"/>
                  </a:lnTo>
                  <a:lnTo>
                    <a:pt x="697" y="1012"/>
                  </a:lnTo>
                  <a:lnTo>
                    <a:pt x="644" y="1117"/>
                  </a:lnTo>
                  <a:lnTo>
                    <a:pt x="618" y="1235"/>
                  </a:lnTo>
                  <a:lnTo>
                    <a:pt x="591" y="1353"/>
                  </a:lnTo>
                  <a:lnTo>
                    <a:pt x="591" y="1366"/>
                  </a:lnTo>
                  <a:lnTo>
                    <a:pt x="591" y="1380"/>
                  </a:lnTo>
                  <a:lnTo>
                    <a:pt x="604" y="1380"/>
                  </a:lnTo>
                  <a:lnTo>
                    <a:pt x="604" y="1393"/>
                  </a:lnTo>
                  <a:lnTo>
                    <a:pt x="604" y="1406"/>
                  </a:lnTo>
                  <a:lnTo>
                    <a:pt x="552" y="1511"/>
                  </a:lnTo>
                  <a:lnTo>
                    <a:pt x="486" y="1617"/>
                  </a:lnTo>
                  <a:lnTo>
                    <a:pt x="408" y="1721"/>
                  </a:lnTo>
                  <a:lnTo>
                    <a:pt x="329" y="1813"/>
                  </a:lnTo>
                  <a:lnTo>
                    <a:pt x="237" y="1919"/>
                  </a:lnTo>
                  <a:lnTo>
                    <a:pt x="158" y="2011"/>
                  </a:lnTo>
                  <a:lnTo>
                    <a:pt x="92" y="2128"/>
                  </a:lnTo>
                  <a:lnTo>
                    <a:pt x="39" y="2247"/>
                  </a:lnTo>
                  <a:lnTo>
                    <a:pt x="26" y="2260"/>
                  </a:lnTo>
                  <a:lnTo>
                    <a:pt x="13" y="2273"/>
                  </a:lnTo>
                  <a:lnTo>
                    <a:pt x="13" y="2286"/>
                  </a:lnTo>
                  <a:lnTo>
                    <a:pt x="13" y="2299"/>
                  </a:lnTo>
                  <a:lnTo>
                    <a:pt x="0" y="2313"/>
                  </a:lnTo>
                  <a:lnTo>
                    <a:pt x="13" y="2313"/>
                  </a:lnTo>
                  <a:lnTo>
                    <a:pt x="13" y="2326"/>
                  </a:lnTo>
                  <a:lnTo>
                    <a:pt x="26" y="2326"/>
                  </a:lnTo>
                  <a:lnTo>
                    <a:pt x="39" y="2326"/>
                  </a:lnTo>
                  <a:lnTo>
                    <a:pt x="39" y="2339"/>
                  </a:lnTo>
                  <a:lnTo>
                    <a:pt x="52" y="2339"/>
                  </a:lnTo>
                  <a:lnTo>
                    <a:pt x="52" y="2352"/>
                  </a:lnTo>
                  <a:lnTo>
                    <a:pt x="52" y="2365"/>
                  </a:lnTo>
                  <a:lnTo>
                    <a:pt x="26" y="2431"/>
                  </a:lnTo>
                  <a:lnTo>
                    <a:pt x="26" y="2444"/>
                  </a:lnTo>
                  <a:lnTo>
                    <a:pt x="39" y="2458"/>
                  </a:lnTo>
                  <a:lnTo>
                    <a:pt x="39" y="2471"/>
                  </a:lnTo>
                  <a:lnTo>
                    <a:pt x="52" y="2484"/>
                  </a:lnTo>
                  <a:lnTo>
                    <a:pt x="65" y="2484"/>
                  </a:lnTo>
                  <a:lnTo>
                    <a:pt x="79" y="2497"/>
                  </a:lnTo>
                  <a:lnTo>
                    <a:pt x="184" y="2431"/>
                  </a:lnTo>
                  <a:lnTo>
                    <a:pt x="158" y="2405"/>
                  </a:lnTo>
                  <a:lnTo>
                    <a:pt x="145" y="2379"/>
                  </a:lnTo>
                  <a:lnTo>
                    <a:pt x="131" y="2352"/>
                  </a:lnTo>
                  <a:lnTo>
                    <a:pt x="118" y="2313"/>
                  </a:lnTo>
                  <a:lnTo>
                    <a:pt x="118" y="2273"/>
                  </a:lnTo>
                  <a:lnTo>
                    <a:pt x="131" y="2247"/>
                  </a:lnTo>
                  <a:lnTo>
                    <a:pt x="145" y="2207"/>
                  </a:lnTo>
                  <a:lnTo>
                    <a:pt x="171" y="2168"/>
                  </a:lnTo>
                  <a:lnTo>
                    <a:pt x="184" y="2168"/>
                  </a:lnTo>
                  <a:lnTo>
                    <a:pt x="197" y="2168"/>
                  </a:lnTo>
                  <a:lnTo>
                    <a:pt x="210" y="2168"/>
                  </a:lnTo>
                  <a:lnTo>
                    <a:pt x="210" y="2181"/>
                  </a:lnTo>
                  <a:lnTo>
                    <a:pt x="224" y="2181"/>
                  </a:lnTo>
                  <a:lnTo>
                    <a:pt x="237" y="2181"/>
                  </a:lnTo>
                  <a:lnTo>
                    <a:pt x="303" y="2090"/>
                  </a:lnTo>
                  <a:lnTo>
                    <a:pt x="355" y="1984"/>
                  </a:lnTo>
                  <a:lnTo>
                    <a:pt x="408" y="1879"/>
                  </a:lnTo>
                  <a:lnTo>
                    <a:pt x="461" y="1774"/>
                  </a:lnTo>
                  <a:lnTo>
                    <a:pt x="512" y="1668"/>
                  </a:lnTo>
                  <a:lnTo>
                    <a:pt x="565" y="1577"/>
                  </a:lnTo>
                  <a:lnTo>
                    <a:pt x="631" y="1472"/>
                  </a:lnTo>
                  <a:lnTo>
                    <a:pt x="697" y="1393"/>
                  </a:lnTo>
                  <a:lnTo>
                    <a:pt x="736" y="1340"/>
                  </a:lnTo>
                  <a:lnTo>
                    <a:pt x="763" y="1300"/>
                  </a:lnTo>
                  <a:lnTo>
                    <a:pt x="789" y="1248"/>
                  </a:lnTo>
                  <a:lnTo>
                    <a:pt x="815" y="1195"/>
                  </a:lnTo>
                  <a:lnTo>
                    <a:pt x="842" y="1156"/>
                  </a:lnTo>
                  <a:lnTo>
                    <a:pt x="868" y="1117"/>
                  </a:lnTo>
                  <a:lnTo>
                    <a:pt x="894" y="1078"/>
                  </a:lnTo>
                  <a:lnTo>
                    <a:pt x="934" y="1038"/>
                  </a:lnTo>
                  <a:lnTo>
                    <a:pt x="947" y="1038"/>
                  </a:lnTo>
                  <a:lnTo>
                    <a:pt x="960" y="1038"/>
                  </a:lnTo>
                  <a:lnTo>
                    <a:pt x="973" y="1038"/>
                  </a:lnTo>
                  <a:lnTo>
                    <a:pt x="986" y="1051"/>
                  </a:lnTo>
                  <a:lnTo>
                    <a:pt x="1000" y="1064"/>
                  </a:lnTo>
                  <a:lnTo>
                    <a:pt x="1000" y="1078"/>
                  </a:lnTo>
                  <a:lnTo>
                    <a:pt x="868" y="1327"/>
                  </a:lnTo>
                  <a:lnTo>
                    <a:pt x="934" y="1248"/>
                  </a:lnTo>
                  <a:lnTo>
                    <a:pt x="1000" y="1156"/>
                  </a:lnTo>
                  <a:lnTo>
                    <a:pt x="1052" y="1064"/>
                  </a:lnTo>
                  <a:lnTo>
                    <a:pt x="1117" y="959"/>
                  </a:lnTo>
                  <a:lnTo>
                    <a:pt x="1170" y="867"/>
                  </a:lnTo>
                  <a:lnTo>
                    <a:pt x="1236" y="761"/>
                  </a:lnTo>
                  <a:lnTo>
                    <a:pt x="1315" y="682"/>
                  </a:lnTo>
                  <a:lnTo>
                    <a:pt x="1394" y="591"/>
                  </a:lnTo>
                  <a:lnTo>
                    <a:pt x="1407" y="539"/>
                  </a:lnTo>
                  <a:lnTo>
                    <a:pt x="1433" y="486"/>
                  </a:lnTo>
                  <a:lnTo>
                    <a:pt x="1446" y="420"/>
                  </a:lnTo>
                  <a:lnTo>
                    <a:pt x="1460" y="367"/>
                  </a:lnTo>
                  <a:lnTo>
                    <a:pt x="1473" y="315"/>
                  </a:lnTo>
                  <a:lnTo>
                    <a:pt x="1486" y="249"/>
                  </a:lnTo>
                  <a:lnTo>
                    <a:pt x="1486" y="196"/>
                  </a:lnTo>
                  <a:lnTo>
                    <a:pt x="1499" y="14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66080" y="4573800"/>
              <a:ext cx="233280" cy="152280"/>
            </a:xfrm>
            <a:custGeom>
              <a:avLst/>
              <a:gdLst/>
              <a:ahLst/>
              <a:rect l="l" t="t" r="r" b="b"/>
              <a:pathLst>
                <a:path w="539" h="354">
                  <a:moveTo>
                    <a:pt x="539" y="91"/>
                  </a:moveTo>
                  <a:lnTo>
                    <a:pt x="539" y="0"/>
                  </a:lnTo>
                  <a:lnTo>
                    <a:pt x="0" y="223"/>
                  </a:lnTo>
                  <a:lnTo>
                    <a:pt x="13" y="354"/>
                  </a:lnTo>
                  <a:lnTo>
                    <a:pt x="434" y="249"/>
                  </a:lnTo>
                  <a:lnTo>
                    <a:pt x="539" y="104"/>
                  </a:lnTo>
                  <a:lnTo>
                    <a:pt x="53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5680" y="5866200"/>
              <a:ext cx="39600" cy="442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79" y="0"/>
                  </a:moveTo>
                  <a:lnTo>
                    <a:pt x="13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3" y="105"/>
                  </a:lnTo>
                  <a:lnTo>
                    <a:pt x="26" y="105"/>
                  </a:lnTo>
                  <a:lnTo>
                    <a:pt x="26" y="92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39" y="92"/>
                  </a:lnTo>
                  <a:lnTo>
                    <a:pt x="26" y="79"/>
                  </a:lnTo>
                  <a:lnTo>
                    <a:pt x="13" y="66"/>
                  </a:lnTo>
                  <a:lnTo>
                    <a:pt x="26" y="53"/>
                  </a:lnTo>
                  <a:lnTo>
                    <a:pt x="26" y="40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65" y="13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3360" y="2720520"/>
              <a:ext cx="10080" cy="2196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0"/>
                  </a:moveTo>
                  <a:lnTo>
                    <a:pt x="26" y="14"/>
                  </a:lnTo>
                  <a:lnTo>
                    <a:pt x="13" y="14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3880" y="5848920"/>
              <a:ext cx="69480" cy="6156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145" y="0"/>
                  </a:moveTo>
                  <a:lnTo>
                    <a:pt x="131" y="0"/>
                  </a:lnTo>
                  <a:lnTo>
                    <a:pt x="0" y="117"/>
                  </a:lnTo>
                  <a:lnTo>
                    <a:pt x="13" y="130"/>
                  </a:lnTo>
                  <a:lnTo>
                    <a:pt x="26" y="130"/>
                  </a:lnTo>
                  <a:lnTo>
                    <a:pt x="39" y="143"/>
                  </a:lnTo>
                  <a:lnTo>
                    <a:pt x="52" y="143"/>
                  </a:lnTo>
                  <a:lnTo>
                    <a:pt x="66" y="143"/>
                  </a:lnTo>
                  <a:lnTo>
                    <a:pt x="79" y="130"/>
                  </a:lnTo>
                  <a:lnTo>
                    <a:pt x="15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0200" y="3084840"/>
              <a:ext cx="353160" cy="427320"/>
            </a:xfrm>
            <a:custGeom>
              <a:avLst/>
              <a:gdLst/>
              <a:ahLst/>
              <a:rect l="l" t="t" r="r" b="b"/>
              <a:pathLst>
                <a:path w="816" h="999">
                  <a:moveTo>
                    <a:pt x="816" y="0"/>
                  </a:moveTo>
                  <a:lnTo>
                    <a:pt x="803" y="0"/>
                  </a:lnTo>
                  <a:lnTo>
                    <a:pt x="710" y="53"/>
                  </a:lnTo>
                  <a:lnTo>
                    <a:pt x="631" y="119"/>
                  </a:lnTo>
                  <a:lnTo>
                    <a:pt x="540" y="198"/>
                  </a:lnTo>
                  <a:lnTo>
                    <a:pt x="448" y="264"/>
                  </a:lnTo>
                  <a:lnTo>
                    <a:pt x="356" y="343"/>
                  </a:lnTo>
                  <a:lnTo>
                    <a:pt x="264" y="422"/>
                  </a:lnTo>
                  <a:lnTo>
                    <a:pt x="185" y="500"/>
                  </a:lnTo>
                  <a:lnTo>
                    <a:pt x="106" y="579"/>
                  </a:lnTo>
                  <a:lnTo>
                    <a:pt x="79" y="618"/>
                  </a:lnTo>
                  <a:lnTo>
                    <a:pt x="66" y="658"/>
                  </a:lnTo>
                  <a:lnTo>
                    <a:pt x="53" y="711"/>
                  </a:lnTo>
                  <a:lnTo>
                    <a:pt x="40" y="750"/>
                  </a:lnTo>
                  <a:lnTo>
                    <a:pt x="27" y="803"/>
                  </a:lnTo>
                  <a:lnTo>
                    <a:pt x="13" y="856"/>
                  </a:lnTo>
                  <a:lnTo>
                    <a:pt x="0" y="895"/>
                  </a:lnTo>
                  <a:lnTo>
                    <a:pt x="0" y="948"/>
                  </a:lnTo>
                  <a:lnTo>
                    <a:pt x="0" y="961"/>
                  </a:lnTo>
                  <a:lnTo>
                    <a:pt x="0" y="974"/>
                  </a:lnTo>
                  <a:lnTo>
                    <a:pt x="145" y="999"/>
                  </a:lnTo>
                  <a:lnTo>
                    <a:pt x="158" y="986"/>
                  </a:lnTo>
                  <a:lnTo>
                    <a:pt x="171" y="961"/>
                  </a:lnTo>
                  <a:lnTo>
                    <a:pt x="171" y="935"/>
                  </a:lnTo>
                  <a:lnTo>
                    <a:pt x="171" y="908"/>
                  </a:lnTo>
                  <a:lnTo>
                    <a:pt x="171" y="882"/>
                  </a:lnTo>
                  <a:lnTo>
                    <a:pt x="171" y="856"/>
                  </a:lnTo>
                  <a:lnTo>
                    <a:pt x="158" y="829"/>
                  </a:lnTo>
                  <a:lnTo>
                    <a:pt x="158" y="803"/>
                  </a:lnTo>
                  <a:lnTo>
                    <a:pt x="145" y="790"/>
                  </a:lnTo>
                  <a:lnTo>
                    <a:pt x="145" y="777"/>
                  </a:lnTo>
                  <a:lnTo>
                    <a:pt x="145" y="763"/>
                  </a:lnTo>
                  <a:lnTo>
                    <a:pt x="145" y="750"/>
                  </a:lnTo>
                  <a:lnTo>
                    <a:pt x="145" y="737"/>
                  </a:lnTo>
                  <a:lnTo>
                    <a:pt x="145" y="724"/>
                  </a:lnTo>
                  <a:lnTo>
                    <a:pt x="618" y="382"/>
                  </a:lnTo>
                  <a:lnTo>
                    <a:pt x="789" y="303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240" y="5804640"/>
              <a:ext cx="79200" cy="514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171" y="0"/>
                  </a:moveTo>
                  <a:lnTo>
                    <a:pt x="14" y="66"/>
                  </a:lnTo>
                  <a:lnTo>
                    <a:pt x="14" y="79"/>
                  </a:lnTo>
                  <a:lnTo>
                    <a:pt x="0" y="92"/>
                  </a:lnTo>
                  <a:lnTo>
                    <a:pt x="14" y="106"/>
                  </a:lnTo>
                  <a:lnTo>
                    <a:pt x="14" y="119"/>
                  </a:lnTo>
                  <a:lnTo>
                    <a:pt x="27" y="119"/>
                  </a:lnTo>
                  <a:lnTo>
                    <a:pt x="40" y="119"/>
                  </a:lnTo>
                  <a:lnTo>
                    <a:pt x="53" y="119"/>
                  </a:lnTo>
                  <a:lnTo>
                    <a:pt x="65" y="119"/>
                  </a:lnTo>
                  <a:lnTo>
                    <a:pt x="184" y="27"/>
                  </a:lnTo>
                  <a:lnTo>
                    <a:pt x="171" y="27"/>
                  </a:lnTo>
                  <a:lnTo>
                    <a:pt x="171" y="13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54320" y="5754960"/>
              <a:ext cx="169560" cy="116280"/>
            </a:xfrm>
            <a:custGeom>
              <a:avLst/>
              <a:gdLst/>
              <a:ahLst/>
              <a:rect l="l" t="t" r="r" b="b"/>
              <a:pathLst>
                <a:path w="394" h="275">
                  <a:moveTo>
                    <a:pt x="394" y="13"/>
                  </a:moveTo>
                  <a:lnTo>
                    <a:pt x="394" y="0"/>
                  </a:lnTo>
                  <a:lnTo>
                    <a:pt x="342" y="13"/>
                  </a:lnTo>
                  <a:lnTo>
                    <a:pt x="289" y="26"/>
                  </a:lnTo>
                  <a:lnTo>
                    <a:pt x="237" y="52"/>
                  </a:lnTo>
                  <a:lnTo>
                    <a:pt x="197" y="92"/>
                  </a:lnTo>
                  <a:lnTo>
                    <a:pt x="145" y="118"/>
                  </a:lnTo>
                  <a:lnTo>
                    <a:pt x="105" y="158"/>
                  </a:lnTo>
                  <a:lnTo>
                    <a:pt x="52" y="197"/>
                  </a:lnTo>
                  <a:lnTo>
                    <a:pt x="0" y="224"/>
                  </a:lnTo>
                  <a:lnTo>
                    <a:pt x="184" y="275"/>
                  </a:lnTo>
                  <a:lnTo>
                    <a:pt x="184" y="262"/>
                  </a:lnTo>
                  <a:lnTo>
                    <a:pt x="184" y="249"/>
                  </a:lnTo>
                  <a:lnTo>
                    <a:pt x="171" y="249"/>
                  </a:lnTo>
                  <a:lnTo>
                    <a:pt x="171" y="237"/>
                  </a:lnTo>
                  <a:lnTo>
                    <a:pt x="184" y="210"/>
                  </a:lnTo>
                  <a:lnTo>
                    <a:pt x="210" y="171"/>
                  </a:lnTo>
                  <a:lnTo>
                    <a:pt x="224" y="145"/>
                  </a:lnTo>
                  <a:lnTo>
                    <a:pt x="250" y="105"/>
                  </a:lnTo>
                  <a:lnTo>
                    <a:pt x="276" y="92"/>
                  </a:lnTo>
                  <a:lnTo>
                    <a:pt x="316" y="66"/>
                  </a:lnTo>
                  <a:lnTo>
                    <a:pt x="354" y="52"/>
                  </a:lnTo>
                  <a:lnTo>
                    <a:pt x="394" y="39"/>
                  </a:lnTo>
                  <a:lnTo>
                    <a:pt x="394" y="26"/>
                  </a:lnTo>
                  <a:lnTo>
                    <a:pt x="39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7480" y="5737680"/>
              <a:ext cx="62280" cy="9396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45" y="211"/>
                  </a:moveTo>
                  <a:lnTo>
                    <a:pt x="131" y="211"/>
                  </a:lnTo>
                  <a:lnTo>
                    <a:pt x="131" y="198"/>
                  </a:lnTo>
                  <a:lnTo>
                    <a:pt x="118" y="185"/>
                  </a:lnTo>
                  <a:lnTo>
                    <a:pt x="105" y="17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19"/>
                  </a:lnTo>
                  <a:lnTo>
                    <a:pt x="26" y="132"/>
                  </a:lnTo>
                  <a:lnTo>
                    <a:pt x="39" y="158"/>
                  </a:lnTo>
                  <a:lnTo>
                    <a:pt x="52" y="171"/>
                  </a:lnTo>
                  <a:lnTo>
                    <a:pt x="66" y="185"/>
                  </a:lnTo>
                  <a:lnTo>
                    <a:pt x="79" y="198"/>
                  </a:lnTo>
                  <a:lnTo>
                    <a:pt x="92" y="198"/>
                  </a:lnTo>
                  <a:lnTo>
                    <a:pt x="105" y="211"/>
                  </a:lnTo>
                  <a:lnTo>
                    <a:pt x="118" y="211"/>
                  </a:lnTo>
                  <a:lnTo>
                    <a:pt x="131" y="224"/>
                  </a:lnTo>
                  <a:lnTo>
                    <a:pt x="145" y="224"/>
                  </a:lnTo>
                  <a:lnTo>
                    <a:pt x="14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5720" y="768240"/>
            <a:ext cx="860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02444"/>
                </a:solidFill>
                <a:latin typeface="Geometr231 Hv BT"/>
              </a:rPr>
              <a:t>HOW CAN THE CHURCH HELP GIRLS &amp; BO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400" y="1905120"/>
            <a:ext cx="40788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. Give Biblical teach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2. Provide group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3. Involve youth in church lif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4. Talk about relevant iss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5. Foster good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85280" y="1905120"/>
            <a:ext cx="36673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6. Involve par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7. Spot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8. Allow for matu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9. Never criticise yo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0. Role model and instr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797200" y="2225520"/>
            <a:ext cx="3470040" cy="3489120"/>
            <a:chOff x="2797200" y="2225520"/>
            <a:chExt cx="3470040" cy="3489120"/>
          </a:xfrm>
        </p:grpSpPr>
        <p:sp>
          <p:nvSpPr>
            <p:cNvPr id="455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4680" y="5476320"/>
              <a:ext cx="77760" cy="4716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4520" y="5459040"/>
              <a:ext cx="77040" cy="471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480" y="5437080"/>
              <a:ext cx="77040" cy="5256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360" y="5409360"/>
              <a:ext cx="74520" cy="4968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21440" y="5378760"/>
              <a:ext cx="74520" cy="5256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5160" y="5340240"/>
              <a:ext cx="74520" cy="63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3480" y="530388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07200" y="5265000"/>
              <a:ext cx="69120" cy="640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0120" y="5223240"/>
              <a:ext cx="74520" cy="6408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5200" y="517104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8120" y="5126400"/>
              <a:ext cx="74520" cy="6912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21040" y="50738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200" y="5020920"/>
              <a:ext cx="66600" cy="694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2120" y="4962960"/>
              <a:ext cx="69480" cy="770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9640" y="49075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520" y="48434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9920" y="4780080"/>
              <a:ext cx="64080" cy="802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1680" y="471600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14800" y="464652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520" y="457740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73480" y="450828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95440" y="4438440"/>
              <a:ext cx="52560" cy="802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7400" y="4363560"/>
              <a:ext cx="47160" cy="802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6840" y="4288680"/>
              <a:ext cx="44640" cy="802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3760" y="421380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560" y="413352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6080" y="4058640"/>
              <a:ext cx="35640" cy="802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1480" y="397800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1480" y="389772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76080" y="3817800"/>
              <a:ext cx="35640" cy="7956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4560" y="373716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3760" y="366228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6840" y="3587400"/>
              <a:ext cx="44640" cy="7956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7400" y="3507120"/>
              <a:ext cx="47160" cy="8532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5440" y="3432240"/>
              <a:ext cx="52560" cy="8532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73480" y="336240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2520" y="329328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4800" y="322416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1680" y="316008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9920" y="3096360"/>
              <a:ext cx="64080" cy="7452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8520" y="303300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29743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7880" y="2918880"/>
              <a:ext cx="64080" cy="7452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8200" y="2860560"/>
              <a:ext cx="74520" cy="74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21040" y="2807640"/>
              <a:ext cx="69120" cy="752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120" y="2763720"/>
              <a:ext cx="69120" cy="66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5200" y="271080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60120" y="2669400"/>
              <a:ext cx="74520" cy="63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1440" y="2624760"/>
              <a:ext cx="74520" cy="6084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43480" y="258876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5160" y="2555640"/>
              <a:ext cx="74520" cy="550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1440" y="2519640"/>
              <a:ext cx="74520" cy="576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7360" y="2491920"/>
              <a:ext cx="74520" cy="5760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94000" y="2469240"/>
              <a:ext cx="74520" cy="500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4520" y="2444760"/>
              <a:ext cx="77040" cy="5256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4680" y="2427840"/>
              <a:ext cx="77760" cy="446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246840" y="801720"/>
            <a:ext cx="2652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ONE OF ME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10120" y="801720"/>
            <a:ext cx="6320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I AM SPECIAL BECAUSE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 ME WONDERFU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857680" y="2286000"/>
            <a:ext cx="3431520" cy="3454200"/>
            <a:chOff x="2857680" y="2286000"/>
            <a:chExt cx="3431520" cy="3454200"/>
          </a:xfrm>
        </p:grpSpPr>
        <p:sp>
          <p:nvSpPr>
            <p:cNvPr id="524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3200" y="550584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240" y="5488920"/>
              <a:ext cx="75600" cy="4536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24960" y="5465160"/>
              <a:ext cx="79560" cy="5220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2640" y="5436720"/>
              <a:ext cx="74160" cy="5220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6720" y="5407920"/>
              <a:ext cx="74160" cy="5220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19360" y="536940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240" y="533376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9240" y="5295240"/>
              <a:ext cx="68760" cy="6228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525456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6880" y="52020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7640" y="5156640"/>
              <a:ext cx="75960" cy="691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9840" y="510624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95560" y="5055480"/>
              <a:ext cx="69120" cy="67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0920" y="499824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6640" y="494100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26960" y="487872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7640" y="4814280"/>
              <a:ext cx="62280" cy="810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06160" y="475200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41800" y="468468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8800" y="4615200"/>
              <a:ext cx="590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9400" y="4547520"/>
              <a:ext cx="50400" cy="7956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21000" y="4478760"/>
              <a:ext cx="50400" cy="7884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44760" y="4404600"/>
              <a:ext cx="45360" cy="7884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61680" y="43300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8600" y="425592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480" y="4176720"/>
              <a:ext cx="38520" cy="7884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00200" y="41007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07400" y="4021200"/>
              <a:ext cx="26640" cy="795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07400" y="3942000"/>
              <a:ext cx="26640" cy="788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0200" y="38613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0480" y="3781800"/>
              <a:ext cx="38520" cy="7956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8600" y="370764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6334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44760" y="3552840"/>
              <a:ext cx="45360" cy="85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21000" y="3480120"/>
              <a:ext cx="50400" cy="8388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3410640"/>
              <a:ext cx="50400" cy="7884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8800" y="3341520"/>
              <a:ext cx="59040" cy="810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1800" y="327420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6160" y="321192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640" y="3147480"/>
              <a:ext cx="62280" cy="7416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26960" y="308520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86640" y="302796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7760" y="2970360"/>
              <a:ext cx="62280" cy="7596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560" y="2914920"/>
              <a:ext cx="74160" cy="7200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9840" y="286272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97640" y="2817000"/>
              <a:ext cx="69120" cy="6912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6880" y="27648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1080" y="272628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2400" y="2680560"/>
              <a:ext cx="75600" cy="6228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76240" y="2644920"/>
              <a:ext cx="74160" cy="64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19360" y="2611440"/>
              <a:ext cx="74160" cy="5724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6720" y="2577600"/>
              <a:ext cx="74160" cy="572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92640" y="2549160"/>
              <a:ext cx="74160" cy="5724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0360" y="2525400"/>
              <a:ext cx="74160" cy="522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1240" y="2503440"/>
              <a:ext cx="75600" cy="5040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3200" y="248652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9800" y="3260880"/>
              <a:ext cx="39996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6760" y="3260880"/>
              <a:ext cx="39960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343600" y="758880"/>
            <a:ext cx="423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LOVES 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JUST THE WAY I 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41480" y="2216160"/>
            <a:ext cx="3471840" cy="3498840"/>
            <a:chOff x="2841480" y="2216160"/>
            <a:chExt cx="3471840" cy="3498840"/>
          </a:xfrm>
        </p:grpSpPr>
        <p:sp>
          <p:nvSpPr>
            <p:cNvPr id="594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2200" y="5478480"/>
              <a:ext cx="74520" cy="4572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70600" y="5460840"/>
              <a:ext cx="75960" cy="4608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5400" y="5438520"/>
              <a:ext cx="81000" cy="5076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3800" y="5408640"/>
              <a:ext cx="76320" cy="5220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960" y="5379840"/>
              <a:ext cx="74520" cy="5256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2320" y="5340240"/>
              <a:ext cx="74880" cy="6336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89560" y="530532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52920" y="5263920"/>
              <a:ext cx="69840" cy="6516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5480" y="522432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517176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4920" y="5126040"/>
              <a:ext cx="74520" cy="698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7480" y="50734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50227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9280" y="4964040"/>
              <a:ext cx="70200" cy="745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05360" y="49053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45320" y="4843440"/>
              <a:ext cx="69840" cy="745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86360" y="4778280"/>
              <a:ext cx="63720" cy="8100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5960" y="471456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61240" y="4646520"/>
              <a:ext cx="58680" cy="7920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9680" y="4576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50684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1880" y="4438440"/>
              <a:ext cx="52560" cy="7956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66000" y="4362480"/>
              <a:ext cx="45720" cy="80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3280" y="428760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9120" y="421164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1720" y="413064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2880" y="405576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9360" y="3975120"/>
              <a:ext cx="28440" cy="806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29360" y="3894120"/>
              <a:ext cx="28440" cy="8100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22880" y="381312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1720" y="373212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9120" y="365760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3280" y="358128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66000" y="3500280"/>
              <a:ext cx="45720" cy="8748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1880" y="3425760"/>
              <a:ext cx="52560" cy="8568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920" y="335592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9680" y="32860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1240" y="3217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5960" y="315432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360" y="3090600"/>
              <a:ext cx="63720" cy="7488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45320" y="302580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5360" y="29685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4320" y="2911320"/>
              <a:ext cx="65160" cy="745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2852640"/>
              <a:ext cx="74520" cy="745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7480" y="28000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14920" y="2754000"/>
              <a:ext cx="68400" cy="698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62720" y="270180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5480" y="266220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46800" y="2616120"/>
              <a:ext cx="75960" cy="6336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89560" y="258120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2320" y="2546280"/>
              <a:ext cx="74880" cy="5868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8960" y="2511360"/>
              <a:ext cx="74520" cy="5868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3800" y="2482560"/>
              <a:ext cx="76320" cy="590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40440" y="2460600"/>
              <a:ext cx="75960" cy="5076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0600" y="2436840"/>
              <a:ext cx="75960" cy="5220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2419200"/>
              <a:ext cx="74520" cy="4608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952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244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133720" y="2971800"/>
            <a:ext cx="1966680" cy="1981080"/>
            <a:chOff x="2133720" y="2971800"/>
            <a:chExt cx="1966680" cy="1981080"/>
          </a:xfrm>
        </p:grpSpPr>
        <p:sp>
          <p:nvSpPr>
            <p:cNvPr id="663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7720" y="4818960"/>
              <a:ext cx="42120" cy="2556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6240" y="4808880"/>
              <a:ext cx="42840" cy="2592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32960" y="4796280"/>
              <a:ext cx="45720" cy="2844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4779360"/>
              <a:ext cx="43200" cy="2952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8560" y="4763160"/>
              <a:ext cx="42120" cy="2952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4560" y="4740480"/>
              <a:ext cx="42120" cy="3564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76960" y="47210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2960" y="4697280"/>
              <a:ext cx="39240" cy="3672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2840" y="46749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5240" y="46450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04760" y="4619520"/>
              <a:ext cx="42120" cy="392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34640" y="458964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60560" y="4560840"/>
              <a:ext cx="39240" cy="385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86480" y="4527720"/>
              <a:ext cx="39600" cy="421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760" y="449424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5080" y="4459320"/>
              <a:ext cx="39240" cy="421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8480" y="4422600"/>
              <a:ext cx="36000" cy="4572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0800" y="438624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00960" y="4347720"/>
              <a:ext cx="33120" cy="4464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17160" y="43081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34080" y="426888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46680" y="4230000"/>
              <a:ext cx="29520" cy="4500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0360" y="4187160"/>
              <a:ext cx="25560" cy="4536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0080" y="414468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9080" y="410148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86280" y="405576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2400" y="401328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000" y="3967560"/>
              <a:ext cx="15840" cy="453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96000" y="3921840"/>
              <a:ext cx="1584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2400" y="387576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6280" y="383004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79080" y="378792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70080" y="374472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60360" y="3698640"/>
              <a:ext cx="25560" cy="4932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46680" y="3656520"/>
              <a:ext cx="29520" cy="4824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34080" y="361692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17160" y="35773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0960" y="353880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0800" y="350280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8480" y="3466800"/>
              <a:ext cx="36000" cy="4212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5080" y="34300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2760" y="33976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9360" y="3365280"/>
              <a:ext cx="36720" cy="421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60560" y="3332160"/>
              <a:ext cx="42120" cy="421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34640" y="330228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4760" y="3276000"/>
              <a:ext cx="38520" cy="392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5240" y="32464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2840" y="32241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09360" y="3198240"/>
              <a:ext cx="42840" cy="3564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76960" y="31784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44560" y="31586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8560" y="31388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1840" y="3122640"/>
              <a:ext cx="43200" cy="3312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35840" y="3110040"/>
              <a:ext cx="42840" cy="2844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6240" y="3096720"/>
              <a:ext cx="42840" cy="2952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7720" y="3086640"/>
              <a:ext cx="42120" cy="2592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8388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164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18040" y="2971800"/>
            <a:ext cx="1992240" cy="2006640"/>
            <a:chOff x="5018040" y="2971800"/>
            <a:chExt cx="1992240" cy="2006640"/>
          </a:xfrm>
        </p:grpSpPr>
        <p:sp>
          <p:nvSpPr>
            <p:cNvPr id="732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7880" y="484236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97120" y="4832280"/>
              <a:ext cx="43920" cy="262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34200" y="4818600"/>
              <a:ext cx="46080" cy="3024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3440" y="4802040"/>
              <a:ext cx="42840" cy="3024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10520" y="4785120"/>
              <a:ext cx="42840" cy="3024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47240" y="476280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0360" y="474228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719600"/>
              <a:ext cx="39960" cy="3600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6960" y="46962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79360" y="466560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08520" y="4639320"/>
              <a:ext cx="43920" cy="3996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9120" y="46098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65400" y="4580640"/>
              <a:ext cx="39960" cy="3888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2040" y="454716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8320" y="451404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1720" y="447768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480" y="4440600"/>
              <a:ext cx="36000" cy="468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7800" y="44042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8680" y="436500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24160" y="4325040"/>
              <a:ext cx="3420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1800" y="4285440"/>
              <a:ext cx="29160" cy="460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4400" y="4245480"/>
              <a:ext cx="29160" cy="457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8440" y="4202280"/>
              <a:ext cx="26280" cy="4572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78160" y="415908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411588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4720" y="4070160"/>
              <a:ext cx="22320" cy="4572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0480" y="402588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04440" y="3979800"/>
              <a:ext cx="154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04440" y="3933720"/>
              <a:ext cx="1548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00480" y="388692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94720" y="3840840"/>
              <a:ext cx="22320" cy="4608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7880" y="379764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8160" y="375444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68440" y="3707640"/>
              <a:ext cx="26280" cy="49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54400" y="3665520"/>
              <a:ext cx="29160" cy="4860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41800" y="3625200"/>
              <a:ext cx="29160" cy="4572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24160" y="3584880"/>
              <a:ext cx="34200" cy="468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08680" y="354564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7800" y="35096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5480" y="3472200"/>
              <a:ext cx="36000" cy="428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41720" y="343620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8320" y="340272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6000" y="3369240"/>
              <a:ext cx="36000" cy="4392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65400" y="3337200"/>
              <a:ext cx="42840" cy="4176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39120" y="33066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8520" y="3280320"/>
              <a:ext cx="39960" cy="39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9360" y="324972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6960" y="32274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2760" y="3201120"/>
              <a:ext cx="43920" cy="3600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360" y="3180240"/>
              <a:ext cx="42840" cy="37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47240" y="3160800"/>
              <a:ext cx="42840" cy="3312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0520" y="3141000"/>
              <a:ext cx="42840" cy="3312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73440" y="3124440"/>
              <a:ext cx="42840" cy="3312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7440" y="3110760"/>
              <a:ext cx="42840" cy="302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7120" y="3098160"/>
              <a:ext cx="43920" cy="2916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7880" y="308844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7080" y="3538080"/>
              <a:ext cx="23220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8680" y="3538080"/>
              <a:ext cx="23184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463760" y="687240"/>
            <a:ext cx="6340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CA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MO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L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0240" y="4019400"/>
            <a:ext cx="1985760" cy="1997280"/>
            <a:chOff x="3540240" y="4019400"/>
            <a:chExt cx="1985760" cy="1997280"/>
          </a:xfrm>
        </p:grpSpPr>
        <p:sp>
          <p:nvSpPr>
            <p:cNvPr id="802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5040" y="5880240"/>
              <a:ext cx="44640" cy="2700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15000" y="5870520"/>
              <a:ext cx="44280" cy="2700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53160" y="5857920"/>
              <a:ext cx="44280" cy="3024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90960" y="5842080"/>
              <a:ext cx="42840" cy="2844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27680" y="5824440"/>
              <a:ext cx="42840" cy="302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64040" y="5802480"/>
              <a:ext cx="42840" cy="36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7520" y="578160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880" y="5759280"/>
              <a:ext cx="39600" cy="367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64120" y="5735520"/>
              <a:ext cx="42840" cy="3672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95800" y="570564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6040" y="5680080"/>
              <a:ext cx="42840" cy="396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56280" y="56498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83280" y="561960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08480" y="5586480"/>
              <a:ext cx="39960" cy="4428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35480" y="555480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57800" y="551808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1560" y="5481720"/>
              <a:ext cx="36720" cy="460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5320" y="544500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24400" y="54054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40240" y="53658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57880" y="532620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70480" y="5286240"/>
              <a:ext cx="30240" cy="460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3080" y="5243400"/>
              <a:ext cx="27000" cy="460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4240" y="5200560"/>
              <a:ext cx="25560" cy="460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3960" y="515772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10080" y="51116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16560" y="5068800"/>
              <a:ext cx="20520" cy="460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19800" y="502272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9800" y="497664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6560" y="4930920"/>
              <a:ext cx="20520" cy="4572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0080" y="48848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3960" y="484200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4240" y="4799160"/>
              <a:ext cx="25560" cy="4572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3080" y="4753080"/>
              <a:ext cx="27000" cy="4896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0480" y="4710240"/>
              <a:ext cx="30240" cy="4896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880" y="467028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0240" y="46306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4400" y="45910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05320" y="455436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1560" y="4518000"/>
              <a:ext cx="36720" cy="4284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44816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35480" y="444816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11720" y="4416480"/>
              <a:ext cx="36720" cy="4284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3280" y="4383000"/>
              <a:ext cx="42840" cy="42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6280" y="4352760"/>
              <a:ext cx="39600" cy="4320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26040" y="4327560"/>
              <a:ext cx="39600" cy="3816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95800" y="429732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64120" y="4273560"/>
              <a:ext cx="42840" cy="36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0640" y="4248000"/>
              <a:ext cx="42840" cy="349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7520" y="422748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4040" y="4208400"/>
              <a:ext cx="42840" cy="316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27680" y="4187880"/>
              <a:ext cx="42840" cy="3312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90960" y="4172040"/>
              <a:ext cx="42840" cy="3312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4600" y="4159080"/>
              <a:ext cx="42840" cy="2880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15000" y="4145040"/>
              <a:ext cx="44280" cy="3024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5040" y="4135320"/>
              <a:ext cx="44640" cy="255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869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904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908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912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916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917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92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93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547640" y="4869000"/>
            <a:ext cx="6180120" cy="1005840"/>
            <a:chOff x="1547640" y="4869000"/>
            <a:chExt cx="6180120" cy="1005840"/>
          </a:xfrm>
        </p:grpSpPr>
        <p:sp>
          <p:nvSpPr>
            <p:cNvPr id="935" name=""/>
            <p:cNvSpPr/>
            <p:nvPr/>
          </p:nvSpPr>
          <p:spPr>
            <a:xfrm>
              <a:off x="1547640" y="4870440"/>
              <a:ext cx="5946840" cy="94572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0400" y="48690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938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949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965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ing H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1483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669120" y="1812960"/>
            <a:ext cx="1902600" cy="5258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500" spc="-1" strike="noStrike">
                <a:solidFill>
                  <a:srgbClr val="00cc00"/>
                </a:solidFill>
                <a:latin typeface="Kabel Ult BT"/>
              </a:rPr>
              <a:t>?</a:t>
            </a:r>
            <a:endParaRPr b="0" lang="en-US" sz="3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51240" y="844560"/>
            <a:ext cx="4260240" cy="1823400"/>
            <a:chOff x="2451240" y="844560"/>
            <a:chExt cx="4260240" cy="1823400"/>
          </a:xfrm>
        </p:grpSpPr>
        <p:sp>
          <p:nvSpPr>
            <p:cNvPr id="1748" name=""/>
            <p:cNvSpPr/>
            <p:nvPr/>
          </p:nvSpPr>
          <p:spPr>
            <a:xfrm>
              <a:off x="2451240" y="844560"/>
              <a:ext cx="4260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HOW CAN I LI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40720" y="1997280"/>
              <a:ext cx="2678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GET AID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0160" y="1515960"/>
              <a:ext cx="2961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LONG AND NO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8080" y="1752480"/>
            <a:ext cx="739152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Know that everyone has sexual feelings, and they are not e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in them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Understand that single people until old enough to marry,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developing and maturing character and feelings, to be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person God created you to 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Know that it is healthy and clever to not have sex while you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wing up, before getting married. Stay sexually p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Do not be alone with persons of the opposite sex. Sta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ups. Keep a large circle of friends until old enough to 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to look for a 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Plan your “fun” times. Idle time is the devil’s play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1752480"/>
            <a:ext cx="8001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Keep your body and hands to yourself. Practice res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Guard your thoughts... put good things into your mind. Go t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ood places; watch good things; have wholesome friends/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If married, be accountable to your spouse for your sex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Don’t compromise yourself with anyone of the opposite sex 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married. Stay out of temptation’s way... if in doubt DON’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0. Stick to activity that you would only do if your spouse were pres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f1a17"/>
                </a:solidFill>
                <a:latin typeface="Geometr231 Hv BT"/>
              </a:rPr>
              <a:t>BE WISE AS A SERPENT AND HARMLESS AS A DOVE!!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1761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178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3680" y="2743200"/>
            <a:ext cx="7251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For you have been my ho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O Sovereign Lord, my confidence since my you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1a17"/>
                </a:solidFill>
                <a:latin typeface="Times New Roman"/>
              </a:rPr>
              <a:t>Psalm 71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3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4" y="1335"/>
                </a:moveTo>
                <a:lnTo>
                  <a:pt x="1224" y="1335"/>
                </a:lnTo>
                <a:lnTo>
                  <a:pt x="1009" y="629"/>
                </a:lnTo>
                <a:lnTo>
                  <a:pt x="794" y="1335"/>
                </a:lnTo>
                <a:close/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2" y="983"/>
                </a:lnTo>
                <a:lnTo>
                  <a:pt x="628" y="983"/>
                </a:lnTo>
                <a:lnTo>
                  <a:pt x="661" y="980"/>
                </a:lnTo>
                <a:lnTo>
                  <a:pt x="677" y="977"/>
                </a:lnTo>
                <a:lnTo>
                  <a:pt x="692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3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0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7" y="598"/>
                </a:lnTo>
                <a:lnTo>
                  <a:pt x="863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0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3" y="983"/>
                </a:lnTo>
                <a:lnTo>
                  <a:pt x="627" y="983"/>
                </a:lnTo>
                <a:lnTo>
                  <a:pt x="661" y="980"/>
                </a:lnTo>
                <a:lnTo>
                  <a:pt x="677" y="977"/>
                </a:lnTo>
                <a:lnTo>
                  <a:pt x="693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4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1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8" y="598"/>
                </a:lnTo>
                <a:lnTo>
                  <a:pt x="862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1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5" y="1335"/>
                </a:moveTo>
                <a:lnTo>
                  <a:pt x="1225" y="1335"/>
                </a:lnTo>
                <a:lnTo>
                  <a:pt x="1009" y="629"/>
                </a:lnTo>
                <a:lnTo>
                  <a:pt x="795" y="1335"/>
                </a:lnTo>
                <a:close/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5720" y="838080"/>
            <a:ext cx="279360" cy="568440"/>
          </a:xfrm>
          <a:custGeom>
            <a:avLst/>
            <a:gdLst/>
            <a:ahLst/>
            <a:rect l="l" t="t" r="r" b="b"/>
            <a:pathLst>
              <a:path w="1058" h="214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  <a:close/>
                <a:moveTo>
                  <a:pt x="302" y="2146"/>
                </a:moveTo>
                <a:lnTo>
                  <a:pt x="302" y="1610"/>
                </a:lnTo>
                <a:lnTo>
                  <a:pt x="804" y="1610"/>
                </a:lnTo>
                <a:lnTo>
                  <a:pt x="804" y="2146"/>
                </a:lnTo>
                <a:lnTo>
                  <a:pt x="302" y="2146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5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73520" y="973080"/>
            <a:ext cx="936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2" y="524"/>
                </a:lnTo>
                <a:lnTo>
                  <a:pt x="88" y="524"/>
                </a:lnTo>
                <a:lnTo>
                  <a:pt x="121" y="521"/>
                </a:lnTo>
                <a:lnTo>
                  <a:pt x="137" y="518"/>
                </a:lnTo>
                <a:lnTo>
                  <a:pt x="152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3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0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7" y="139"/>
                </a:lnTo>
                <a:lnTo>
                  <a:pt x="323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0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33960" y="973080"/>
            <a:ext cx="918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3" y="524"/>
                </a:lnTo>
                <a:lnTo>
                  <a:pt x="87" y="524"/>
                </a:lnTo>
                <a:lnTo>
                  <a:pt x="121" y="521"/>
                </a:lnTo>
                <a:lnTo>
                  <a:pt x="137" y="518"/>
                </a:lnTo>
                <a:lnTo>
                  <a:pt x="153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4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1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8" y="139"/>
                </a:lnTo>
                <a:lnTo>
                  <a:pt x="322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1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584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4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838080"/>
            <a:ext cx="279360" cy="393840"/>
          </a:xfrm>
          <a:custGeom>
            <a:avLst/>
            <a:gdLst/>
            <a:ahLst/>
            <a:rect l="l" t="t" r="r" b="b"/>
            <a:pathLst>
              <a:path w="1058" h="148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1263600"/>
            <a:ext cx="133200" cy="14292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6920" y="1817640"/>
            <a:ext cx="4458600" cy="4187160"/>
            <a:chOff x="2356920" y="1817640"/>
            <a:chExt cx="4458600" cy="4187160"/>
          </a:xfrm>
        </p:grpSpPr>
        <p:sp>
          <p:nvSpPr>
            <p:cNvPr id="205" name=""/>
            <p:cNvSpPr/>
            <p:nvPr/>
          </p:nvSpPr>
          <p:spPr>
            <a:xfrm>
              <a:off x="2356920" y="5334120"/>
              <a:ext cx="445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1f1a17"/>
                  </a:solidFill>
                  <a:latin typeface="Geometr231 Hv BT"/>
                </a:rPr>
                <a:t>OLD-FASHIONE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3720" y="1817640"/>
              <a:ext cx="2514600" cy="3202200"/>
            </a:xfrm>
            <a:custGeom>
              <a:avLst/>
              <a:gdLst/>
              <a:ahLst/>
              <a:rect l="l" t="t" r="r" b="b"/>
              <a:pathLst>
                <a:path w="9507" h="12101">
                  <a:moveTo>
                    <a:pt x="1335" y="12101"/>
                  </a:moveTo>
                  <a:lnTo>
                    <a:pt x="2989" y="11957"/>
                  </a:lnTo>
                  <a:lnTo>
                    <a:pt x="3021" y="11957"/>
                  </a:lnTo>
                  <a:lnTo>
                    <a:pt x="3036" y="11941"/>
                  </a:lnTo>
                  <a:lnTo>
                    <a:pt x="3053" y="11925"/>
                  </a:lnTo>
                  <a:lnTo>
                    <a:pt x="3068" y="11909"/>
                  </a:lnTo>
                  <a:lnTo>
                    <a:pt x="3068" y="11894"/>
                  </a:lnTo>
                  <a:lnTo>
                    <a:pt x="3085" y="11894"/>
                  </a:lnTo>
                  <a:lnTo>
                    <a:pt x="3116" y="11877"/>
                  </a:lnTo>
                  <a:lnTo>
                    <a:pt x="3132" y="11877"/>
                  </a:lnTo>
                  <a:lnTo>
                    <a:pt x="3132" y="11894"/>
                  </a:lnTo>
                  <a:lnTo>
                    <a:pt x="3148" y="11909"/>
                  </a:lnTo>
                  <a:lnTo>
                    <a:pt x="3148" y="11925"/>
                  </a:lnTo>
                  <a:lnTo>
                    <a:pt x="3164" y="11941"/>
                  </a:lnTo>
                  <a:lnTo>
                    <a:pt x="3180" y="11941"/>
                  </a:lnTo>
                  <a:lnTo>
                    <a:pt x="3195" y="11957"/>
                  </a:lnTo>
                  <a:lnTo>
                    <a:pt x="3212" y="11957"/>
                  </a:lnTo>
                  <a:lnTo>
                    <a:pt x="3227" y="11957"/>
                  </a:lnTo>
                  <a:lnTo>
                    <a:pt x="3244" y="11957"/>
                  </a:lnTo>
                  <a:lnTo>
                    <a:pt x="3259" y="11957"/>
                  </a:lnTo>
                  <a:lnTo>
                    <a:pt x="3275" y="11957"/>
                  </a:lnTo>
                  <a:lnTo>
                    <a:pt x="3466" y="11798"/>
                  </a:lnTo>
                  <a:lnTo>
                    <a:pt x="3481" y="11798"/>
                  </a:lnTo>
                  <a:lnTo>
                    <a:pt x="3498" y="11814"/>
                  </a:lnTo>
                  <a:lnTo>
                    <a:pt x="3530" y="11814"/>
                  </a:lnTo>
                  <a:lnTo>
                    <a:pt x="3546" y="11830"/>
                  </a:lnTo>
                  <a:lnTo>
                    <a:pt x="3561" y="11845"/>
                  </a:lnTo>
                  <a:lnTo>
                    <a:pt x="3975" y="11798"/>
                  </a:lnTo>
                  <a:lnTo>
                    <a:pt x="4197" y="11718"/>
                  </a:lnTo>
                  <a:lnTo>
                    <a:pt x="4579" y="11957"/>
                  </a:lnTo>
                  <a:lnTo>
                    <a:pt x="4642" y="11957"/>
                  </a:lnTo>
                  <a:lnTo>
                    <a:pt x="4706" y="11957"/>
                  </a:lnTo>
                  <a:lnTo>
                    <a:pt x="4769" y="11941"/>
                  </a:lnTo>
                  <a:lnTo>
                    <a:pt x="4833" y="11925"/>
                  </a:lnTo>
                  <a:lnTo>
                    <a:pt x="4896" y="11894"/>
                  </a:lnTo>
                  <a:lnTo>
                    <a:pt x="4960" y="11862"/>
                  </a:lnTo>
                  <a:lnTo>
                    <a:pt x="5008" y="11830"/>
                  </a:lnTo>
                  <a:lnTo>
                    <a:pt x="5072" y="11798"/>
                  </a:lnTo>
                  <a:lnTo>
                    <a:pt x="5453" y="11894"/>
                  </a:lnTo>
                  <a:lnTo>
                    <a:pt x="5819" y="11765"/>
                  </a:lnTo>
                  <a:lnTo>
                    <a:pt x="6089" y="11798"/>
                  </a:lnTo>
                  <a:lnTo>
                    <a:pt x="6343" y="11750"/>
                  </a:lnTo>
                  <a:lnTo>
                    <a:pt x="6597" y="11670"/>
                  </a:lnTo>
                  <a:lnTo>
                    <a:pt x="6836" y="11575"/>
                  </a:lnTo>
                  <a:lnTo>
                    <a:pt x="7091" y="11464"/>
                  </a:lnTo>
                  <a:lnTo>
                    <a:pt x="7345" y="11399"/>
                  </a:lnTo>
                  <a:lnTo>
                    <a:pt x="7616" y="11368"/>
                  </a:lnTo>
                  <a:lnTo>
                    <a:pt x="7902" y="11416"/>
                  </a:lnTo>
                  <a:lnTo>
                    <a:pt x="7981" y="11352"/>
                  </a:lnTo>
                  <a:lnTo>
                    <a:pt x="8061" y="11304"/>
                  </a:lnTo>
                  <a:lnTo>
                    <a:pt x="8171" y="11272"/>
                  </a:lnTo>
                  <a:lnTo>
                    <a:pt x="8267" y="11240"/>
                  </a:lnTo>
                  <a:lnTo>
                    <a:pt x="8379" y="11225"/>
                  </a:lnTo>
                  <a:lnTo>
                    <a:pt x="8489" y="11225"/>
                  </a:lnTo>
                  <a:lnTo>
                    <a:pt x="8616" y="11225"/>
                  </a:lnTo>
                  <a:lnTo>
                    <a:pt x="8728" y="11225"/>
                  </a:lnTo>
                  <a:lnTo>
                    <a:pt x="9141" y="10891"/>
                  </a:lnTo>
                  <a:lnTo>
                    <a:pt x="9173" y="10891"/>
                  </a:lnTo>
                  <a:lnTo>
                    <a:pt x="9205" y="10891"/>
                  </a:lnTo>
                  <a:lnTo>
                    <a:pt x="9253" y="10891"/>
                  </a:lnTo>
                  <a:lnTo>
                    <a:pt x="9285" y="10874"/>
                  </a:lnTo>
                  <a:lnTo>
                    <a:pt x="9317" y="10858"/>
                  </a:lnTo>
                  <a:lnTo>
                    <a:pt x="9348" y="10843"/>
                  </a:lnTo>
                  <a:lnTo>
                    <a:pt x="9380" y="10826"/>
                  </a:lnTo>
                  <a:lnTo>
                    <a:pt x="9412" y="10811"/>
                  </a:lnTo>
                  <a:lnTo>
                    <a:pt x="9476" y="10667"/>
                  </a:lnTo>
                  <a:lnTo>
                    <a:pt x="9507" y="10524"/>
                  </a:lnTo>
                  <a:lnTo>
                    <a:pt x="9491" y="10365"/>
                  </a:lnTo>
                  <a:lnTo>
                    <a:pt x="9476" y="10206"/>
                  </a:lnTo>
                  <a:lnTo>
                    <a:pt x="9427" y="10047"/>
                  </a:lnTo>
                  <a:lnTo>
                    <a:pt x="9364" y="9887"/>
                  </a:lnTo>
                  <a:lnTo>
                    <a:pt x="9300" y="9743"/>
                  </a:lnTo>
                  <a:lnTo>
                    <a:pt x="9237" y="9601"/>
                  </a:lnTo>
                  <a:lnTo>
                    <a:pt x="9110" y="9409"/>
                  </a:lnTo>
                  <a:lnTo>
                    <a:pt x="8982" y="9218"/>
                  </a:lnTo>
                  <a:lnTo>
                    <a:pt x="8855" y="9043"/>
                  </a:lnTo>
                  <a:lnTo>
                    <a:pt x="8728" y="8884"/>
                  </a:lnTo>
                  <a:lnTo>
                    <a:pt x="8585" y="8709"/>
                  </a:lnTo>
                  <a:lnTo>
                    <a:pt x="8457" y="8534"/>
                  </a:lnTo>
                  <a:lnTo>
                    <a:pt x="8330" y="8359"/>
                  </a:lnTo>
                  <a:lnTo>
                    <a:pt x="8203" y="8168"/>
                  </a:lnTo>
                  <a:lnTo>
                    <a:pt x="8171" y="8136"/>
                  </a:lnTo>
                  <a:lnTo>
                    <a:pt x="8140" y="8104"/>
                  </a:lnTo>
                  <a:lnTo>
                    <a:pt x="8124" y="8072"/>
                  </a:lnTo>
                  <a:lnTo>
                    <a:pt x="8092" y="8040"/>
                  </a:lnTo>
                  <a:lnTo>
                    <a:pt x="8076" y="8024"/>
                  </a:lnTo>
                  <a:lnTo>
                    <a:pt x="8061" y="7992"/>
                  </a:lnTo>
                  <a:lnTo>
                    <a:pt x="8044" y="7977"/>
                  </a:lnTo>
                  <a:lnTo>
                    <a:pt x="8029" y="7929"/>
                  </a:lnTo>
                  <a:lnTo>
                    <a:pt x="8203" y="7514"/>
                  </a:lnTo>
                  <a:lnTo>
                    <a:pt x="8235" y="7117"/>
                  </a:lnTo>
                  <a:lnTo>
                    <a:pt x="8156" y="6735"/>
                  </a:lnTo>
                  <a:lnTo>
                    <a:pt x="8029" y="6353"/>
                  </a:lnTo>
                  <a:lnTo>
                    <a:pt x="7885" y="5987"/>
                  </a:lnTo>
                  <a:lnTo>
                    <a:pt x="7790" y="5604"/>
                  </a:lnTo>
                  <a:lnTo>
                    <a:pt x="7758" y="5206"/>
                  </a:lnTo>
                  <a:lnTo>
                    <a:pt x="7854" y="4792"/>
                  </a:lnTo>
                  <a:lnTo>
                    <a:pt x="7902" y="4331"/>
                  </a:lnTo>
                  <a:lnTo>
                    <a:pt x="7902" y="3869"/>
                  </a:lnTo>
                  <a:lnTo>
                    <a:pt x="7854" y="3407"/>
                  </a:lnTo>
                  <a:lnTo>
                    <a:pt x="7758" y="2962"/>
                  </a:lnTo>
                  <a:lnTo>
                    <a:pt x="7631" y="2531"/>
                  </a:lnTo>
                  <a:lnTo>
                    <a:pt x="7440" y="2118"/>
                  </a:lnTo>
                  <a:lnTo>
                    <a:pt x="7201" y="1751"/>
                  </a:lnTo>
                  <a:lnTo>
                    <a:pt x="6915" y="1433"/>
                  </a:lnTo>
                  <a:lnTo>
                    <a:pt x="6885" y="1417"/>
                  </a:lnTo>
                  <a:lnTo>
                    <a:pt x="6852" y="1385"/>
                  </a:lnTo>
                  <a:lnTo>
                    <a:pt x="6820" y="1370"/>
                  </a:lnTo>
                  <a:lnTo>
                    <a:pt x="6788" y="1338"/>
                  </a:lnTo>
                  <a:lnTo>
                    <a:pt x="6773" y="1306"/>
                  </a:lnTo>
                  <a:lnTo>
                    <a:pt x="6741" y="1274"/>
                  </a:lnTo>
                  <a:lnTo>
                    <a:pt x="6725" y="1258"/>
                  </a:lnTo>
                  <a:lnTo>
                    <a:pt x="6709" y="1226"/>
                  </a:lnTo>
                  <a:lnTo>
                    <a:pt x="6725" y="1178"/>
                  </a:lnTo>
                  <a:lnTo>
                    <a:pt x="6741" y="1131"/>
                  </a:lnTo>
                  <a:lnTo>
                    <a:pt x="6756" y="1067"/>
                  </a:lnTo>
                  <a:lnTo>
                    <a:pt x="6773" y="1019"/>
                  </a:lnTo>
                  <a:lnTo>
                    <a:pt x="6788" y="955"/>
                  </a:lnTo>
                  <a:lnTo>
                    <a:pt x="6788" y="892"/>
                  </a:lnTo>
                  <a:lnTo>
                    <a:pt x="6773" y="828"/>
                  </a:lnTo>
                  <a:lnTo>
                    <a:pt x="6756" y="765"/>
                  </a:lnTo>
                  <a:lnTo>
                    <a:pt x="6709" y="748"/>
                  </a:lnTo>
                  <a:lnTo>
                    <a:pt x="6677" y="716"/>
                  </a:lnTo>
                  <a:lnTo>
                    <a:pt x="6629" y="685"/>
                  </a:lnTo>
                  <a:lnTo>
                    <a:pt x="6582" y="668"/>
                  </a:lnTo>
                  <a:lnTo>
                    <a:pt x="6534" y="636"/>
                  </a:lnTo>
                  <a:lnTo>
                    <a:pt x="6487" y="621"/>
                  </a:lnTo>
                  <a:lnTo>
                    <a:pt x="6423" y="621"/>
                  </a:lnTo>
                  <a:lnTo>
                    <a:pt x="6375" y="621"/>
                  </a:lnTo>
                  <a:lnTo>
                    <a:pt x="6137" y="875"/>
                  </a:lnTo>
                  <a:lnTo>
                    <a:pt x="6105" y="828"/>
                  </a:lnTo>
                  <a:lnTo>
                    <a:pt x="6089" y="765"/>
                  </a:lnTo>
                  <a:lnTo>
                    <a:pt x="6057" y="701"/>
                  </a:lnTo>
                  <a:lnTo>
                    <a:pt x="6042" y="653"/>
                  </a:lnTo>
                  <a:lnTo>
                    <a:pt x="6010" y="589"/>
                  </a:lnTo>
                  <a:lnTo>
                    <a:pt x="5962" y="541"/>
                  </a:lnTo>
                  <a:lnTo>
                    <a:pt x="5915" y="509"/>
                  </a:lnTo>
                  <a:lnTo>
                    <a:pt x="5866" y="494"/>
                  </a:lnTo>
                  <a:lnTo>
                    <a:pt x="5851" y="477"/>
                  </a:lnTo>
                  <a:lnTo>
                    <a:pt x="5819" y="477"/>
                  </a:lnTo>
                  <a:lnTo>
                    <a:pt x="5803" y="462"/>
                  </a:lnTo>
                  <a:lnTo>
                    <a:pt x="5787" y="446"/>
                  </a:lnTo>
                  <a:lnTo>
                    <a:pt x="5771" y="446"/>
                  </a:lnTo>
                  <a:lnTo>
                    <a:pt x="5597" y="541"/>
                  </a:lnTo>
                  <a:lnTo>
                    <a:pt x="5453" y="812"/>
                  </a:lnTo>
                  <a:lnTo>
                    <a:pt x="5438" y="828"/>
                  </a:lnTo>
                  <a:lnTo>
                    <a:pt x="5421" y="828"/>
                  </a:lnTo>
                  <a:lnTo>
                    <a:pt x="5406" y="844"/>
                  </a:lnTo>
                  <a:lnTo>
                    <a:pt x="5390" y="844"/>
                  </a:lnTo>
                  <a:lnTo>
                    <a:pt x="5373" y="844"/>
                  </a:lnTo>
                  <a:lnTo>
                    <a:pt x="5358" y="860"/>
                  </a:lnTo>
                  <a:lnTo>
                    <a:pt x="5326" y="860"/>
                  </a:lnTo>
                  <a:lnTo>
                    <a:pt x="5311" y="875"/>
                  </a:lnTo>
                  <a:lnTo>
                    <a:pt x="5294" y="875"/>
                  </a:lnTo>
                  <a:lnTo>
                    <a:pt x="5294" y="892"/>
                  </a:lnTo>
                  <a:lnTo>
                    <a:pt x="5279" y="892"/>
                  </a:lnTo>
                  <a:lnTo>
                    <a:pt x="5279" y="907"/>
                  </a:lnTo>
                  <a:lnTo>
                    <a:pt x="5262" y="924"/>
                  </a:lnTo>
                  <a:lnTo>
                    <a:pt x="5246" y="940"/>
                  </a:lnTo>
                  <a:lnTo>
                    <a:pt x="5246" y="955"/>
                  </a:lnTo>
                  <a:lnTo>
                    <a:pt x="5214" y="1274"/>
                  </a:lnTo>
                  <a:lnTo>
                    <a:pt x="5199" y="1290"/>
                  </a:lnTo>
                  <a:lnTo>
                    <a:pt x="5184" y="1306"/>
                  </a:lnTo>
                  <a:lnTo>
                    <a:pt x="5167" y="1306"/>
                  </a:lnTo>
                  <a:lnTo>
                    <a:pt x="5135" y="1306"/>
                  </a:lnTo>
                  <a:lnTo>
                    <a:pt x="5119" y="1306"/>
                  </a:lnTo>
                  <a:lnTo>
                    <a:pt x="5087" y="1290"/>
                  </a:lnTo>
                  <a:lnTo>
                    <a:pt x="5055" y="1290"/>
                  </a:lnTo>
                  <a:lnTo>
                    <a:pt x="5025" y="1274"/>
                  </a:lnTo>
                  <a:lnTo>
                    <a:pt x="4992" y="1274"/>
                  </a:lnTo>
                  <a:lnTo>
                    <a:pt x="4960" y="1290"/>
                  </a:lnTo>
                  <a:lnTo>
                    <a:pt x="4928" y="1306"/>
                  </a:lnTo>
                  <a:lnTo>
                    <a:pt x="4896" y="1321"/>
                  </a:lnTo>
                  <a:lnTo>
                    <a:pt x="4865" y="1353"/>
                  </a:lnTo>
                  <a:lnTo>
                    <a:pt x="4833" y="1385"/>
                  </a:lnTo>
                  <a:lnTo>
                    <a:pt x="4817" y="1433"/>
                  </a:lnTo>
                  <a:lnTo>
                    <a:pt x="4817" y="1465"/>
                  </a:lnTo>
                  <a:lnTo>
                    <a:pt x="4801" y="1512"/>
                  </a:lnTo>
                  <a:lnTo>
                    <a:pt x="4801" y="1545"/>
                  </a:lnTo>
                  <a:lnTo>
                    <a:pt x="4817" y="1592"/>
                  </a:lnTo>
                  <a:lnTo>
                    <a:pt x="4833" y="1624"/>
                  </a:lnTo>
                  <a:lnTo>
                    <a:pt x="4849" y="1672"/>
                  </a:lnTo>
                  <a:lnTo>
                    <a:pt x="4881" y="1704"/>
                  </a:lnTo>
                  <a:lnTo>
                    <a:pt x="4913" y="1736"/>
                  </a:lnTo>
                  <a:lnTo>
                    <a:pt x="4928" y="1767"/>
                  </a:lnTo>
                  <a:lnTo>
                    <a:pt x="5008" y="1799"/>
                  </a:lnTo>
                  <a:lnTo>
                    <a:pt x="5087" y="1816"/>
                  </a:lnTo>
                  <a:lnTo>
                    <a:pt x="5184" y="1831"/>
                  </a:lnTo>
                  <a:lnTo>
                    <a:pt x="5262" y="1847"/>
                  </a:lnTo>
                  <a:lnTo>
                    <a:pt x="5326" y="1879"/>
                  </a:lnTo>
                  <a:lnTo>
                    <a:pt x="5406" y="1911"/>
                  </a:lnTo>
                  <a:lnTo>
                    <a:pt x="5453" y="1974"/>
                  </a:lnTo>
                  <a:lnTo>
                    <a:pt x="5500" y="2053"/>
                  </a:lnTo>
                  <a:lnTo>
                    <a:pt x="5549" y="2611"/>
                  </a:lnTo>
                  <a:lnTo>
                    <a:pt x="5549" y="2628"/>
                  </a:lnTo>
                  <a:lnTo>
                    <a:pt x="5533" y="2658"/>
                  </a:lnTo>
                  <a:lnTo>
                    <a:pt x="5533" y="2675"/>
                  </a:lnTo>
                  <a:lnTo>
                    <a:pt x="5533" y="2691"/>
                  </a:lnTo>
                  <a:lnTo>
                    <a:pt x="5517" y="2707"/>
                  </a:lnTo>
                  <a:lnTo>
                    <a:pt x="5517" y="2738"/>
                  </a:lnTo>
                  <a:lnTo>
                    <a:pt x="5500" y="2738"/>
                  </a:lnTo>
                  <a:lnTo>
                    <a:pt x="5500" y="2755"/>
                  </a:lnTo>
                  <a:lnTo>
                    <a:pt x="5470" y="2770"/>
                  </a:lnTo>
                  <a:lnTo>
                    <a:pt x="5453" y="2787"/>
                  </a:lnTo>
                  <a:lnTo>
                    <a:pt x="5421" y="2787"/>
                  </a:lnTo>
                  <a:lnTo>
                    <a:pt x="5390" y="2787"/>
                  </a:lnTo>
                  <a:lnTo>
                    <a:pt x="5358" y="2802"/>
                  </a:lnTo>
                  <a:lnTo>
                    <a:pt x="5326" y="2802"/>
                  </a:lnTo>
                  <a:lnTo>
                    <a:pt x="5294" y="2802"/>
                  </a:lnTo>
                  <a:lnTo>
                    <a:pt x="5262" y="2802"/>
                  </a:lnTo>
                  <a:lnTo>
                    <a:pt x="5231" y="2818"/>
                  </a:lnTo>
                  <a:lnTo>
                    <a:pt x="5199" y="2818"/>
                  </a:lnTo>
                  <a:lnTo>
                    <a:pt x="5184" y="2850"/>
                  </a:lnTo>
                  <a:lnTo>
                    <a:pt x="5152" y="2866"/>
                  </a:lnTo>
                  <a:lnTo>
                    <a:pt x="5119" y="2897"/>
                  </a:lnTo>
                  <a:lnTo>
                    <a:pt x="5104" y="2914"/>
                  </a:lnTo>
                  <a:lnTo>
                    <a:pt x="5087" y="2945"/>
                  </a:lnTo>
                  <a:lnTo>
                    <a:pt x="5072" y="2994"/>
                  </a:lnTo>
                  <a:lnTo>
                    <a:pt x="5087" y="3009"/>
                  </a:lnTo>
                  <a:lnTo>
                    <a:pt x="5087" y="3041"/>
                  </a:lnTo>
                  <a:lnTo>
                    <a:pt x="5104" y="3057"/>
                  </a:lnTo>
                  <a:lnTo>
                    <a:pt x="5119" y="3073"/>
                  </a:lnTo>
                  <a:lnTo>
                    <a:pt x="5135" y="3089"/>
                  </a:lnTo>
                  <a:lnTo>
                    <a:pt x="5152" y="3121"/>
                  </a:lnTo>
                  <a:lnTo>
                    <a:pt x="5152" y="3136"/>
                  </a:lnTo>
                  <a:lnTo>
                    <a:pt x="5152" y="3168"/>
                  </a:lnTo>
                  <a:lnTo>
                    <a:pt x="4579" y="3599"/>
                  </a:lnTo>
                  <a:lnTo>
                    <a:pt x="4595" y="3758"/>
                  </a:lnTo>
                  <a:lnTo>
                    <a:pt x="4610" y="3933"/>
                  </a:lnTo>
                  <a:lnTo>
                    <a:pt x="4627" y="4108"/>
                  </a:lnTo>
                  <a:lnTo>
                    <a:pt x="4642" y="4283"/>
                  </a:lnTo>
                  <a:lnTo>
                    <a:pt x="4659" y="4458"/>
                  </a:lnTo>
                  <a:lnTo>
                    <a:pt x="4674" y="4618"/>
                  </a:lnTo>
                  <a:lnTo>
                    <a:pt x="4706" y="4809"/>
                  </a:lnTo>
                  <a:lnTo>
                    <a:pt x="4769" y="4984"/>
                  </a:lnTo>
                  <a:lnTo>
                    <a:pt x="4817" y="5365"/>
                  </a:lnTo>
                  <a:lnTo>
                    <a:pt x="4865" y="5748"/>
                  </a:lnTo>
                  <a:lnTo>
                    <a:pt x="4881" y="6130"/>
                  </a:lnTo>
                  <a:lnTo>
                    <a:pt x="4865" y="6512"/>
                  </a:lnTo>
                  <a:lnTo>
                    <a:pt x="4817" y="6894"/>
                  </a:lnTo>
                  <a:lnTo>
                    <a:pt x="4738" y="7260"/>
                  </a:lnTo>
                  <a:lnTo>
                    <a:pt x="4595" y="7611"/>
                  </a:lnTo>
                  <a:lnTo>
                    <a:pt x="4404" y="7929"/>
                  </a:lnTo>
                  <a:lnTo>
                    <a:pt x="4277" y="8199"/>
                  </a:lnTo>
                  <a:lnTo>
                    <a:pt x="4150" y="8455"/>
                  </a:lnTo>
                  <a:lnTo>
                    <a:pt x="4038" y="8709"/>
                  </a:lnTo>
                  <a:lnTo>
                    <a:pt x="3911" y="8948"/>
                  </a:lnTo>
                  <a:lnTo>
                    <a:pt x="3784" y="9203"/>
                  </a:lnTo>
                  <a:lnTo>
                    <a:pt x="3657" y="9441"/>
                  </a:lnTo>
                  <a:lnTo>
                    <a:pt x="3513" y="9665"/>
                  </a:lnTo>
                  <a:lnTo>
                    <a:pt x="3371" y="9903"/>
                  </a:lnTo>
                  <a:lnTo>
                    <a:pt x="3244" y="8216"/>
                  </a:lnTo>
                  <a:lnTo>
                    <a:pt x="3896" y="8009"/>
                  </a:lnTo>
                  <a:lnTo>
                    <a:pt x="3896" y="7690"/>
                  </a:lnTo>
                  <a:lnTo>
                    <a:pt x="3864" y="7372"/>
                  </a:lnTo>
                  <a:lnTo>
                    <a:pt x="3832" y="7053"/>
                  </a:lnTo>
                  <a:lnTo>
                    <a:pt x="3800" y="6735"/>
                  </a:lnTo>
                  <a:lnTo>
                    <a:pt x="3752" y="6416"/>
                  </a:lnTo>
                  <a:lnTo>
                    <a:pt x="3720" y="6082"/>
                  </a:lnTo>
                  <a:lnTo>
                    <a:pt x="3689" y="5763"/>
                  </a:lnTo>
                  <a:lnTo>
                    <a:pt x="3689" y="5445"/>
                  </a:lnTo>
                  <a:lnTo>
                    <a:pt x="3657" y="5206"/>
                  </a:lnTo>
                  <a:lnTo>
                    <a:pt x="3640" y="4967"/>
                  </a:lnTo>
                  <a:lnTo>
                    <a:pt x="3640" y="4729"/>
                  </a:lnTo>
                  <a:lnTo>
                    <a:pt x="3640" y="4506"/>
                  </a:lnTo>
                  <a:lnTo>
                    <a:pt x="3657" y="4267"/>
                  </a:lnTo>
                  <a:lnTo>
                    <a:pt x="3657" y="4045"/>
                  </a:lnTo>
                  <a:lnTo>
                    <a:pt x="3657" y="3821"/>
                  </a:lnTo>
                  <a:lnTo>
                    <a:pt x="3640" y="3599"/>
                  </a:lnTo>
                  <a:lnTo>
                    <a:pt x="3657" y="3502"/>
                  </a:lnTo>
                  <a:lnTo>
                    <a:pt x="3673" y="3439"/>
                  </a:lnTo>
                  <a:lnTo>
                    <a:pt x="3673" y="3360"/>
                  </a:lnTo>
                  <a:lnTo>
                    <a:pt x="3673" y="3280"/>
                  </a:lnTo>
                  <a:lnTo>
                    <a:pt x="3657" y="3216"/>
                  </a:lnTo>
                  <a:lnTo>
                    <a:pt x="3657" y="3136"/>
                  </a:lnTo>
                  <a:lnTo>
                    <a:pt x="3640" y="3073"/>
                  </a:lnTo>
                  <a:lnTo>
                    <a:pt x="3625" y="3009"/>
                  </a:lnTo>
                  <a:lnTo>
                    <a:pt x="2830" y="2962"/>
                  </a:lnTo>
                  <a:lnTo>
                    <a:pt x="2814" y="2977"/>
                  </a:lnTo>
                  <a:lnTo>
                    <a:pt x="2799" y="2994"/>
                  </a:lnTo>
                  <a:lnTo>
                    <a:pt x="2782" y="3009"/>
                  </a:lnTo>
                  <a:lnTo>
                    <a:pt x="2767" y="3009"/>
                  </a:lnTo>
                  <a:lnTo>
                    <a:pt x="2767" y="3025"/>
                  </a:lnTo>
                  <a:lnTo>
                    <a:pt x="2750" y="3041"/>
                  </a:lnTo>
                  <a:lnTo>
                    <a:pt x="2735" y="3041"/>
                  </a:lnTo>
                  <a:lnTo>
                    <a:pt x="2719" y="3057"/>
                  </a:lnTo>
                  <a:lnTo>
                    <a:pt x="2481" y="3089"/>
                  </a:lnTo>
                  <a:lnTo>
                    <a:pt x="2464" y="2945"/>
                  </a:lnTo>
                  <a:lnTo>
                    <a:pt x="2449" y="2802"/>
                  </a:lnTo>
                  <a:lnTo>
                    <a:pt x="2449" y="2643"/>
                  </a:lnTo>
                  <a:lnTo>
                    <a:pt x="2449" y="2468"/>
                  </a:lnTo>
                  <a:lnTo>
                    <a:pt x="2433" y="2292"/>
                  </a:lnTo>
                  <a:lnTo>
                    <a:pt x="2433" y="2118"/>
                  </a:lnTo>
                  <a:lnTo>
                    <a:pt x="2417" y="1943"/>
                  </a:lnTo>
                  <a:lnTo>
                    <a:pt x="2401" y="1784"/>
                  </a:lnTo>
                  <a:lnTo>
                    <a:pt x="3036" y="1624"/>
                  </a:lnTo>
                  <a:lnTo>
                    <a:pt x="3036" y="1608"/>
                  </a:lnTo>
                  <a:lnTo>
                    <a:pt x="3053" y="1608"/>
                  </a:lnTo>
                  <a:lnTo>
                    <a:pt x="3053" y="1592"/>
                  </a:lnTo>
                  <a:lnTo>
                    <a:pt x="3068" y="1592"/>
                  </a:lnTo>
                  <a:lnTo>
                    <a:pt x="3085" y="1592"/>
                  </a:lnTo>
                  <a:lnTo>
                    <a:pt x="3068" y="1577"/>
                  </a:lnTo>
                  <a:lnTo>
                    <a:pt x="3068" y="1545"/>
                  </a:lnTo>
                  <a:lnTo>
                    <a:pt x="2481" y="1497"/>
                  </a:lnTo>
                  <a:lnTo>
                    <a:pt x="2433" y="1353"/>
                  </a:lnTo>
                  <a:lnTo>
                    <a:pt x="2401" y="1178"/>
                  </a:lnTo>
                  <a:lnTo>
                    <a:pt x="2385" y="987"/>
                  </a:lnTo>
                  <a:lnTo>
                    <a:pt x="2401" y="796"/>
                  </a:lnTo>
                  <a:lnTo>
                    <a:pt x="2417" y="589"/>
                  </a:lnTo>
                  <a:lnTo>
                    <a:pt x="2449" y="382"/>
                  </a:lnTo>
                  <a:lnTo>
                    <a:pt x="2464" y="191"/>
                  </a:lnTo>
                  <a:lnTo>
                    <a:pt x="2481" y="0"/>
                  </a:lnTo>
                  <a:lnTo>
                    <a:pt x="1384" y="31"/>
                  </a:lnTo>
                  <a:lnTo>
                    <a:pt x="1526" y="1465"/>
                  </a:lnTo>
                  <a:lnTo>
                    <a:pt x="970" y="1545"/>
                  </a:lnTo>
                  <a:lnTo>
                    <a:pt x="954" y="1560"/>
                  </a:lnTo>
                  <a:lnTo>
                    <a:pt x="939" y="1560"/>
                  </a:lnTo>
                  <a:lnTo>
                    <a:pt x="922" y="1577"/>
                  </a:lnTo>
                  <a:lnTo>
                    <a:pt x="907" y="1592"/>
                  </a:lnTo>
                  <a:lnTo>
                    <a:pt x="890" y="1608"/>
                  </a:lnTo>
                  <a:lnTo>
                    <a:pt x="890" y="1640"/>
                  </a:lnTo>
                  <a:lnTo>
                    <a:pt x="890" y="1656"/>
                  </a:lnTo>
                  <a:lnTo>
                    <a:pt x="907" y="1672"/>
                  </a:lnTo>
                  <a:lnTo>
                    <a:pt x="1526" y="1672"/>
                  </a:lnTo>
                  <a:lnTo>
                    <a:pt x="1526" y="2611"/>
                  </a:lnTo>
                  <a:lnTo>
                    <a:pt x="1559" y="3089"/>
                  </a:lnTo>
                  <a:lnTo>
                    <a:pt x="1526" y="3121"/>
                  </a:lnTo>
                  <a:lnTo>
                    <a:pt x="1479" y="3153"/>
                  </a:lnTo>
                  <a:lnTo>
                    <a:pt x="1431" y="3184"/>
                  </a:lnTo>
                  <a:lnTo>
                    <a:pt x="1367" y="3201"/>
                  </a:lnTo>
                  <a:lnTo>
                    <a:pt x="1304" y="3216"/>
                  </a:lnTo>
                  <a:lnTo>
                    <a:pt x="1240" y="3233"/>
                  </a:lnTo>
                  <a:lnTo>
                    <a:pt x="1161" y="3233"/>
                  </a:lnTo>
                  <a:lnTo>
                    <a:pt x="1098" y="3248"/>
                  </a:lnTo>
                  <a:lnTo>
                    <a:pt x="1002" y="3089"/>
                  </a:lnTo>
                  <a:lnTo>
                    <a:pt x="49" y="3201"/>
                  </a:lnTo>
                  <a:lnTo>
                    <a:pt x="17" y="3821"/>
                  </a:lnTo>
                  <a:lnTo>
                    <a:pt x="0" y="4458"/>
                  </a:lnTo>
                  <a:lnTo>
                    <a:pt x="17" y="5079"/>
                  </a:lnTo>
                  <a:lnTo>
                    <a:pt x="32" y="5716"/>
                  </a:lnTo>
                  <a:lnTo>
                    <a:pt x="64" y="6353"/>
                  </a:lnTo>
                  <a:lnTo>
                    <a:pt x="96" y="6989"/>
                  </a:lnTo>
                  <a:lnTo>
                    <a:pt x="144" y="7626"/>
                  </a:lnTo>
                  <a:lnTo>
                    <a:pt x="191" y="8263"/>
                  </a:lnTo>
                  <a:lnTo>
                    <a:pt x="780" y="8263"/>
                  </a:lnTo>
                  <a:lnTo>
                    <a:pt x="1272" y="12084"/>
                  </a:lnTo>
                  <a:lnTo>
                    <a:pt x="1288" y="12084"/>
                  </a:lnTo>
                  <a:lnTo>
                    <a:pt x="1304" y="12084"/>
                  </a:lnTo>
                  <a:lnTo>
                    <a:pt x="1320" y="12084"/>
                  </a:lnTo>
                  <a:lnTo>
                    <a:pt x="1320" y="12101"/>
                  </a:lnTo>
                  <a:lnTo>
                    <a:pt x="1335" y="12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6840" y="2655720"/>
              <a:ext cx="928800" cy="2313000"/>
            </a:xfrm>
            <a:custGeom>
              <a:avLst/>
              <a:gdLst/>
              <a:ahLst/>
              <a:rect l="l" t="t" r="r" b="b"/>
              <a:pathLst>
                <a:path w="3512" h="8741">
                  <a:moveTo>
                    <a:pt x="1446" y="8741"/>
                  </a:moveTo>
                  <a:lnTo>
                    <a:pt x="3131" y="8502"/>
                  </a:lnTo>
                  <a:lnTo>
                    <a:pt x="3147" y="8041"/>
                  </a:lnTo>
                  <a:lnTo>
                    <a:pt x="3116" y="7579"/>
                  </a:lnTo>
                  <a:lnTo>
                    <a:pt x="3052" y="7117"/>
                  </a:lnTo>
                  <a:lnTo>
                    <a:pt x="3004" y="6655"/>
                  </a:lnTo>
                  <a:lnTo>
                    <a:pt x="2940" y="6194"/>
                  </a:lnTo>
                  <a:lnTo>
                    <a:pt x="2908" y="5733"/>
                  </a:lnTo>
                  <a:lnTo>
                    <a:pt x="2908" y="5287"/>
                  </a:lnTo>
                  <a:lnTo>
                    <a:pt x="2957" y="4841"/>
                  </a:lnTo>
                  <a:lnTo>
                    <a:pt x="3512" y="4745"/>
                  </a:lnTo>
                  <a:lnTo>
                    <a:pt x="3385" y="2277"/>
                  </a:lnTo>
                  <a:lnTo>
                    <a:pt x="3385" y="2261"/>
                  </a:lnTo>
                  <a:lnTo>
                    <a:pt x="3370" y="2245"/>
                  </a:lnTo>
                  <a:lnTo>
                    <a:pt x="3370" y="2229"/>
                  </a:lnTo>
                  <a:lnTo>
                    <a:pt x="3353" y="2229"/>
                  </a:lnTo>
                  <a:lnTo>
                    <a:pt x="3338" y="2229"/>
                  </a:lnTo>
                  <a:lnTo>
                    <a:pt x="3338" y="2214"/>
                  </a:lnTo>
                  <a:lnTo>
                    <a:pt x="3323" y="2197"/>
                  </a:lnTo>
                  <a:lnTo>
                    <a:pt x="3323" y="2182"/>
                  </a:lnTo>
                  <a:lnTo>
                    <a:pt x="3323" y="16"/>
                  </a:lnTo>
                  <a:lnTo>
                    <a:pt x="3258" y="0"/>
                  </a:lnTo>
                  <a:lnTo>
                    <a:pt x="3196" y="0"/>
                  </a:lnTo>
                  <a:lnTo>
                    <a:pt x="3131" y="0"/>
                  </a:lnTo>
                  <a:lnTo>
                    <a:pt x="3084" y="16"/>
                  </a:lnTo>
                  <a:lnTo>
                    <a:pt x="3020" y="33"/>
                  </a:lnTo>
                  <a:lnTo>
                    <a:pt x="2957" y="65"/>
                  </a:lnTo>
                  <a:lnTo>
                    <a:pt x="2893" y="96"/>
                  </a:lnTo>
                  <a:lnTo>
                    <a:pt x="2845" y="128"/>
                  </a:lnTo>
                  <a:lnTo>
                    <a:pt x="2018" y="2819"/>
                  </a:lnTo>
                  <a:lnTo>
                    <a:pt x="2003" y="2834"/>
                  </a:lnTo>
                  <a:lnTo>
                    <a:pt x="1987" y="2834"/>
                  </a:lnTo>
                  <a:lnTo>
                    <a:pt x="1971" y="2850"/>
                  </a:lnTo>
                  <a:lnTo>
                    <a:pt x="1955" y="2850"/>
                  </a:lnTo>
                  <a:lnTo>
                    <a:pt x="1940" y="2850"/>
                  </a:lnTo>
                  <a:lnTo>
                    <a:pt x="1923" y="2834"/>
                  </a:lnTo>
                  <a:lnTo>
                    <a:pt x="1908" y="2834"/>
                  </a:lnTo>
                  <a:lnTo>
                    <a:pt x="1876" y="2819"/>
                  </a:lnTo>
                  <a:lnTo>
                    <a:pt x="1781" y="2468"/>
                  </a:lnTo>
                  <a:lnTo>
                    <a:pt x="1669" y="2102"/>
                  </a:lnTo>
                  <a:lnTo>
                    <a:pt x="1525" y="1768"/>
                  </a:lnTo>
                  <a:lnTo>
                    <a:pt x="1398" y="1433"/>
                  </a:lnTo>
                  <a:lnTo>
                    <a:pt x="1239" y="1099"/>
                  </a:lnTo>
                  <a:lnTo>
                    <a:pt x="1097" y="780"/>
                  </a:lnTo>
                  <a:lnTo>
                    <a:pt x="938" y="462"/>
                  </a:lnTo>
                  <a:lnTo>
                    <a:pt x="779" y="144"/>
                  </a:lnTo>
                  <a:lnTo>
                    <a:pt x="143" y="192"/>
                  </a:lnTo>
                  <a:lnTo>
                    <a:pt x="48" y="414"/>
                  </a:lnTo>
                  <a:lnTo>
                    <a:pt x="0" y="638"/>
                  </a:lnTo>
                  <a:lnTo>
                    <a:pt x="0" y="877"/>
                  </a:lnTo>
                  <a:lnTo>
                    <a:pt x="31" y="1131"/>
                  </a:lnTo>
                  <a:lnTo>
                    <a:pt x="63" y="1385"/>
                  </a:lnTo>
                  <a:lnTo>
                    <a:pt x="80" y="1641"/>
                  </a:lnTo>
                  <a:lnTo>
                    <a:pt x="95" y="1895"/>
                  </a:lnTo>
                  <a:lnTo>
                    <a:pt x="63" y="2134"/>
                  </a:lnTo>
                  <a:lnTo>
                    <a:pt x="63" y="2500"/>
                  </a:lnTo>
                  <a:lnTo>
                    <a:pt x="63" y="2850"/>
                  </a:lnTo>
                  <a:lnTo>
                    <a:pt x="80" y="3201"/>
                  </a:lnTo>
                  <a:lnTo>
                    <a:pt x="95" y="3551"/>
                  </a:lnTo>
                  <a:lnTo>
                    <a:pt x="111" y="3901"/>
                  </a:lnTo>
                  <a:lnTo>
                    <a:pt x="143" y="4251"/>
                  </a:lnTo>
                  <a:lnTo>
                    <a:pt x="190" y="4585"/>
                  </a:lnTo>
                  <a:lnTo>
                    <a:pt x="254" y="4936"/>
                  </a:lnTo>
                  <a:lnTo>
                    <a:pt x="604" y="4841"/>
                  </a:lnTo>
                  <a:lnTo>
                    <a:pt x="620" y="4841"/>
                  </a:lnTo>
                  <a:lnTo>
                    <a:pt x="620" y="4856"/>
                  </a:lnTo>
                  <a:lnTo>
                    <a:pt x="620" y="4872"/>
                  </a:lnTo>
                  <a:lnTo>
                    <a:pt x="635" y="4872"/>
                  </a:lnTo>
                  <a:lnTo>
                    <a:pt x="635" y="4889"/>
                  </a:lnTo>
                  <a:lnTo>
                    <a:pt x="683" y="4889"/>
                  </a:lnTo>
                  <a:lnTo>
                    <a:pt x="699" y="4889"/>
                  </a:lnTo>
                  <a:lnTo>
                    <a:pt x="699" y="4856"/>
                  </a:lnTo>
                  <a:lnTo>
                    <a:pt x="699" y="4824"/>
                  </a:lnTo>
                  <a:lnTo>
                    <a:pt x="699" y="4792"/>
                  </a:lnTo>
                  <a:lnTo>
                    <a:pt x="699" y="4761"/>
                  </a:lnTo>
                  <a:lnTo>
                    <a:pt x="715" y="4745"/>
                  </a:lnTo>
                  <a:lnTo>
                    <a:pt x="747" y="4713"/>
                  </a:lnTo>
                  <a:lnTo>
                    <a:pt x="779" y="4713"/>
                  </a:lnTo>
                  <a:lnTo>
                    <a:pt x="794" y="4713"/>
                  </a:lnTo>
                  <a:lnTo>
                    <a:pt x="811" y="4729"/>
                  </a:lnTo>
                  <a:lnTo>
                    <a:pt x="842" y="4745"/>
                  </a:lnTo>
                  <a:lnTo>
                    <a:pt x="842" y="4777"/>
                  </a:lnTo>
                  <a:lnTo>
                    <a:pt x="858" y="4809"/>
                  </a:lnTo>
                  <a:lnTo>
                    <a:pt x="874" y="4841"/>
                  </a:lnTo>
                  <a:lnTo>
                    <a:pt x="874" y="4856"/>
                  </a:lnTo>
                  <a:lnTo>
                    <a:pt x="858" y="4921"/>
                  </a:lnTo>
                  <a:lnTo>
                    <a:pt x="858" y="4984"/>
                  </a:lnTo>
                  <a:lnTo>
                    <a:pt x="874" y="5031"/>
                  </a:lnTo>
                  <a:lnTo>
                    <a:pt x="874" y="5079"/>
                  </a:lnTo>
                  <a:lnTo>
                    <a:pt x="874" y="5128"/>
                  </a:lnTo>
                  <a:lnTo>
                    <a:pt x="874" y="5175"/>
                  </a:lnTo>
                  <a:lnTo>
                    <a:pt x="858" y="5223"/>
                  </a:lnTo>
                  <a:lnTo>
                    <a:pt x="842" y="5270"/>
                  </a:lnTo>
                  <a:lnTo>
                    <a:pt x="906" y="5557"/>
                  </a:lnTo>
                  <a:lnTo>
                    <a:pt x="938" y="5828"/>
                  </a:lnTo>
                  <a:lnTo>
                    <a:pt x="953" y="6114"/>
                  </a:lnTo>
                  <a:lnTo>
                    <a:pt x="970" y="6401"/>
                  </a:lnTo>
                  <a:lnTo>
                    <a:pt x="985" y="6687"/>
                  </a:lnTo>
                  <a:lnTo>
                    <a:pt x="1017" y="6974"/>
                  </a:lnTo>
                  <a:lnTo>
                    <a:pt x="1049" y="7260"/>
                  </a:lnTo>
                  <a:lnTo>
                    <a:pt x="1097" y="7547"/>
                  </a:lnTo>
                  <a:lnTo>
                    <a:pt x="1128" y="7690"/>
                  </a:lnTo>
                  <a:lnTo>
                    <a:pt x="1144" y="7834"/>
                  </a:lnTo>
                  <a:lnTo>
                    <a:pt x="1176" y="7977"/>
                  </a:lnTo>
                  <a:lnTo>
                    <a:pt x="1192" y="8121"/>
                  </a:lnTo>
                  <a:lnTo>
                    <a:pt x="1224" y="8248"/>
                  </a:lnTo>
                  <a:lnTo>
                    <a:pt x="1239" y="8391"/>
                  </a:lnTo>
                  <a:lnTo>
                    <a:pt x="1271" y="8518"/>
                  </a:lnTo>
                  <a:lnTo>
                    <a:pt x="1303" y="8662"/>
                  </a:lnTo>
                  <a:lnTo>
                    <a:pt x="1303" y="8677"/>
                  </a:lnTo>
                  <a:lnTo>
                    <a:pt x="1319" y="8694"/>
                  </a:lnTo>
                  <a:lnTo>
                    <a:pt x="1336" y="8709"/>
                  </a:lnTo>
                  <a:lnTo>
                    <a:pt x="1351" y="8726"/>
                  </a:lnTo>
                  <a:lnTo>
                    <a:pt x="1366" y="8726"/>
                  </a:lnTo>
                  <a:lnTo>
                    <a:pt x="1398" y="8741"/>
                  </a:lnTo>
                  <a:lnTo>
                    <a:pt x="1415" y="8741"/>
                  </a:lnTo>
                  <a:lnTo>
                    <a:pt x="1446" y="87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2579760"/>
              <a:ext cx="1555920" cy="2368440"/>
            </a:xfrm>
            <a:custGeom>
              <a:avLst/>
              <a:gdLst/>
              <a:ahLst/>
              <a:rect l="l" t="t" r="r" b="b"/>
              <a:pathLst>
                <a:path w="5883" h="8948">
                  <a:moveTo>
                    <a:pt x="1225" y="8948"/>
                  </a:moveTo>
                  <a:lnTo>
                    <a:pt x="1240" y="8948"/>
                  </a:lnTo>
                  <a:lnTo>
                    <a:pt x="1256" y="8948"/>
                  </a:lnTo>
                  <a:lnTo>
                    <a:pt x="1272" y="8948"/>
                  </a:lnTo>
                  <a:lnTo>
                    <a:pt x="1288" y="8948"/>
                  </a:lnTo>
                  <a:lnTo>
                    <a:pt x="1304" y="8948"/>
                  </a:lnTo>
                  <a:lnTo>
                    <a:pt x="1320" y="8948"/>
                  </a:lnTo>
                  <a:lnTo>
                    <a:pt x="1335" y="8948"/>
                  </a:lnTo>
                  <a:lnTo>
                    <a:pt x="1542" y="8788"/>
                  </a:lnTo>
                  <a:lnTo>
                    <a:pt x="1972" y="8883"/>
                  </a:lnTo>
                  <a:lnTo>
                    <a:pt x="2385" y="8709"/>
                  </a:lnTo>
                  <a:lnTo>
                    <a:pt x="2640" y="8741"/>
                  </a:lnTo>
                  <a:lnTo>
                    <a:pt x="2894" y="8725"/>
                  </a:lnTo>
                  <a:lnTo>
                    <a:pt x="3132" y="8646"/>
                  </a:lnTo>
                  <a:lnTo>
                    <a:pt x="3371" y="8549"/>
                  </a:lnTo>
                  <a:lnTo>
                    <a:pt x="3610" y="8454"/>
                  </a:lnTo>
                  <a:lnTo>
                    <a:pt x="3864" y="8375"/>
                  </a:lnTo>
                  <a:lnTo>
                    <a:pt x="4133" y="8343"/>
                  </a:lnTo>
                  <a:lnTo>
                    <a:pt x="4420" y="8358"/>
                  </a:lnTo>
                  <a:lnTo>
                    <a:pt x="4500" y="8310"/>
                  </a:lnTo>
                  <a:lnTo>
                    <a:pt x="4563" y="8263"/>
                  </a:lnTo>
                  <a:lnTo>
                    <a:pt x="4642" y="8231"/>
                  </a:lnTo>
                  <a:lnTo>
                    <a:pt x="4706" y="8215"/>
                  </a:lnTo>
                  <a:lnTo>
                    <a:pt x="4786" y="8200"/>
                  </a:lnTo>
                  <a:lnTo>
                    <a:pt x="4865" y="8200"/>
                  </a:lnTo>
                  <a:lnTo>
                    <a:pt x="4928" y="8200"/>
                  </a:lnTo>
                  <a:lnTo>
                    <a:pt x="5023" y="8183"/>
                  </a:lnTo>
                  <a:lnTo>
                    <a:pt x="5040" y="8183"/>
                  </a:lnTo>
                  <a:lnTo>
                    <a:pt x="5055" y="8200"/>
                  </a:lnTo>
                  <a:lnTo>
                    <a:pt x="5072" y="8215"/>
                  </a:lnTo>
                  <a:lnTo>
                    <a:pt x="5087" y="8215"/>
                  </a:lnTo>
                  <a:lnTo>
                    <a:pt x="5103" y="8231"/>
                  </a:lnTo>
                  <a:lnTo>
                    <a:pt x="5135" y="8247"/>
                  </a:lnTo>
                  <a:lnTo>
                    <a:pt x="5167" y="8247"/>
                  </a:lnTo>
                  <a:lnTo>
                    <a:pt x="5851" y="7785"/>
                  </a:lnTo>
                  <a:lnTo>
                    <a:pt x="5883" y="7499"/>
                  </a:lnTo>
                  <a:lnTo>
                    <a:pt x="5835" y="7229"/>
                  </a:lnTo>
                  <a:lnTo>
                    <a:pt x="5739" y="6973"/>
                  </a:lnTo>
                  <a:lnTo>
                    <a:pt x="5612" y="6719"/>
                  </a:lnTo>
                  <a:lnTo>
                    <a:pt x="5468" y="6495"/>
                  </a:lnTo>
                  <a:lnTo>
                    <a:pt x="5294" y="6273"/>
                  </a:lnTo>
                  <a:lnTo>
                    <a:pt x="5135" y="6066"/>
                  </a:lnTo>
                  <a:lnTo>
                    <a:pt x="4992" y="5859"/>
                  </a:lnTo>
                  <a:lnTo>
                    <a:pt x="4801" y="5652"/>
                  </a:lnTo>
                  <a:lnTo>
                    <a:pt x="4627" y="5429"/>
                  </a:lnTo>
                  <a:lnTo>
                    <a:pt x="4483" y="5207"/>
                  </a:lnTo>
                  <a:lnTo>
                    <a:pt x="4341" y="4983"/>
                  </a:lnTo>
                  <a:lnTo>
                    <a:pt x="4197" y="4744"/>
                  </a:lnTo>
                  <a:lnTo>
                    <a:pt x="4055" y="4522"/>
                  </a:lnTo>
                  <a:lnTo>
                    <a:pt x="3911" y="4298"/>
                  </a:lnTo>
                  <a:lnTo>
                    <a:pt x="3737" y="4092"/>
                  </a:lnTo>
                  <a:lnTo>
                    <a:pt x="3625" y="3725"/>
                  </a:lnTo>
                  <a:lnTo>
                    <a:pt x="3545" y="3359"/>
                  </a:lnTo>
                  <a:lnTo>
                    <a:pt x="3481" y="2993"/>
                  </a:lnTo>
                  <a:lnTo>
                    <a:pt x="3418" y="2610"/>
                  </a:lnTo>
                  <a:lnTo>
                    <a:pt x="3371" y="2229"/>
                  </a:lnTo>
                  <a:lnTo>
                    <a:pt x="3291" y="1863"/>
                  </a:lnTo>
                  <a:lnTo>
                    <a:pt x="3212" y="1497"/>
                  </a:lnTo>
                  <a:lnTo>
                    <a:pt x="3100" y="1114"/>
                  </a:lnTo>
                  <a:lnTo>
                    <a:pt x="3116" y="1098"/>
                  </a:lnTo>
                  <a:lnTo>
                    <a:pt x="3132" y="1098"/>
                  </a:lnTo>
                  <a:lnTo>
                    <a:pt x="3148" y="1083"/>
                  </a:lnTo>
                  <a:lnTo>
                    <a:pt x="3180" y="1083"/>
                  </a:lnTo>
                  <a:lnTo>
                    <a:pt x="3195" y="1083"/>
                  </a:lnTo>
                  <a:lnTo>
                    <a:pt x="3212" y="1098"/>
                  </a:lnTo>
                  <a:lnTo>
                    <a:pt x="3227" y="1098"/>
                  </a:lnTo>
                  <a:lnTo>
                    <a:pt x="3243" y="1098"/>
                  </a:lnTo>
                  <a:lnTo>
                    <a:pt x="3259" y="1114"/>
                  </a:lnTo>
                  <a:lnTo>
                    <a:pt x="3275" y="1114"/>
                  </a:lnTo>
                  <a:lnTo>
                    <a:pt x="3530" y="2229"/>
                  </a:lnTo>
                  <a:lnTo>
                    <a:pt x="3625" y="764"/>
                  </a:lnTo>
                  <a:lnTo>
                    <a:pt x="3116" y="207"/>
                  </a:lnTo>
                  <a:lnTo>
                    <a:pt x="3116" y="191"/>
                  </a:lnTo>
                  <a:lnTo>
                    <a:pt x="3132" y="175"/>
                  </a:lnTo>
                  <a:lnTo>
                    <a:pt x="3132" y="159"/>
                  </a:lnTo>
                  <a:lnTo>
                    <a:pt x="3132" y="143"/>
                  </a:lnTo>
                  <a:lnTo>
                    <a:pt x="3148" y="127"/>
                  </a:lnTo>
                  <a:lnTo>
                    <a:pt x="3148" y="95"/>
                  </a:lnTo>
                  <a:lnTo>
                    <a:pt x="3163" y="80"/>
                  </a:lnTo>
                  <a:lnTo>
                    <a:pt x="3180" y="63"/>
                  </a:lnTo>
                  <a:lnTo>
                    <a:pt x="3163" y="47"/>
                  </a:lnTo>
                  <a:lnTo>
                    <a:pt x="3148" y="47"/>
                  </a:lnTo>
                  <a:lnTo>
                    <a:pt x="3132" y="32"/>
                  </a:lnTo>
                  <a:lnTo>
                    <a:pt x="3116" y="32"/>
                  </a:lnTo>
                  <a:lnTo>
                    <a:pt x="3100" y="32"/>
                  </a:lnTo>
                  <a:lnTo>
                    <a:pt x="3068" y="15"/>
                  </a:lnTo>
                  <a:lnTo>
                    <a:pt x="3053" y="15"/>
                  </a:lnTo>
                  <a:lnTo>
                    <a:pt x="3036" y="0"/>
                  </a:lnTo>
                  <a:lnTo>
                    <a:pt x="2560" y="334"/>
                  </a:lnTo>
                  <a:lnTo>
                    <a:pt x="2512" y="334"/>
                  </a:lnTo>
                  <a:lnTo>
                    <a:pt x="2464" y="319"/>
                  </a:lnTo>
                  <a:lnTo>
                    <a:pt x="2417" y="302"/>
                  </a:lnTo>
                  <a:lnTo>
                    <a:pt x="2385" y="271"/>
                  </a:lnTo>
                  <a:lnTo>
                    <a:pt x="2337" y="239"/>
                  </a:lnTo>
                  <a:lnTo>
                    <a:pt x="2305" y="191"/>
                  </a:lnTo>
                  <a:lnTo>
                    <a:pt x="2273" y="159"/>
                  </a:lnTo>
                  <a:lnTo>
                    <a:pt x="2242" y="112"/>
                  </a:lnTo>
                  <a:lnTo>
                    <a:pt x="2210" y="80"/>
                  </a:lnTo>
                  <a:lnTo>
                    <a:pt x="2163" y="63"/>
                  </a:lnTo>
                  <a:lnTo>
                    <a:pt x="2115" y="63"/>
                  </a:lnTo>
                  <a:lnTo>
                    <a:pt x="2066" y="63"/>
                  </a:lnTo>
                  <a:lnTo>
                    <a:pt x="2019" y="63"/>
                  </a:lnTo>
                  <a:lnTo>
                    <a:pt x="1972" y="63"/>
                  </a:lnTo>
                  <a:lnTo>
                    <a:pt x="1924" y="63"/>
                  </a:lnTo>
                  <a:lnTo>
                    <a:pt x="1877" y="63"/>
                  </a:lnTo>
                  <a:lnTo>
                    <a:pt x="1860" y="95"/>
                  </a:lnTo>
                  <a:lnTo>
                    <a:pt x="1877" y="127"/>
                  </a:lnTo>
                  <a:lnTo>
                    <a:pt x="1892" y="159"/>
                  </a:lnTo>
                  <a:lnTo>
                    <a:pt x="1939" y="175"/>
                  </a:lnTo>
                  <a:lnTo>
                    <a:pt x="1987" y="207"/>
                  </a:lnTo>
                  <a:lnTo>
                    <a:pt x="2019" y="239"/>
                  </a:lnTo>
                  <a:lnTo>
                    <a:pt x="2051" y="286"/>
                  </a:lnTo>
                  <a:lnTo>
                    <a:pt x="2066" y="334"/>
                  </a:lnTo>
                  <a:lnTo>
                    <a:pt x="2066" y="351"/>
                  </a:lnTo>
                  <a:lnTo>
                    <a:pt x="2066" y="366"/>
                  </a:lnTo>
                  <a:lnTo>
                    <a:pt x="2051" y="366"/>
                  </a:lnTo>
                  <a:lnTo>
                    <a:pt x="2051" y="382"/>
                  </a:lnTo>
                  <a:lnTo>
                    <a:pt x="2036" y="398"/>
                  </a:lnTo>
                  <a:lnTo>
                    <a:pt x="2019" y="414"/>
                  </a:lnTo>
                  <a:lnTo>
                    <a:pt x="1335" y="717"/>
                  </a:lnTo>
                  <a:lnTo>
                    <a:pt x="1542" y="2898"/>
                  </a:lnTo>
                  <a:lnTo>
                    <a:pt x="1685" y="1163"/>
                  </a:lnTo>
                  <a:lnTo>
                    <a:pt x="1701" y="1163"/>
                  </a:lnTo>
                  <a:lnTo>
                    <a:pt x="1718" y="1163"/>
                  </a:lnTo>
                  <a:lnTo>
                    <a:pt x="1718" y="1146"/>
                  </a:lnTo>
                  <a:lnTo>
                    <a:pt x="1733" y="1146"/>
                  </a:lnTo>
                  <a:lnTo>
                    <a:pt x="1750" y="1146"/>
                  </a:lnTo>
                  <a:lnTo>
                    <a:pt x="1765" y="1146"/>
                  </a:lnTo>
                  <a:lnTo>
                    <a:pt x="1780" y="1146"/>
                  </a:lnTo>
                  <a:lnTo>
                    <a:pt x="1797" y="1146"/>
                  </a:lnTo>
                  <a:lnTo>
                    <a:pt x="1812" y="1163"/>
                  </a:lnTo>
                  <a:lnTo>
                    <a:pt x="1828" y="1178"/>
                  </a:lnTo>
                  <a:lnTo>
                    <a:pt x="1845" y="1193"/>
                  </a:lnTo>
                  <a:lnTo>
                    <a:pt x="1845" y="1210"/>
                  </a:lnTo>
                  <a:lnTo>
                    <a:pt x="1860" y="1242"/>
                  </a:lnTo>
                  <a:lnTo>
                    <a:pt x="1877" y="1258"/>
                  </a:lnTo>
                  <a:lnTo>
                    <a:pt x="1845" y="1990"/>
                  </a:lnTo>
                  <a:lnTo>
                    <a:pt x="1765" y="2690"/>
                  </a:lnTo>
                  <a:lnTo>
                    <a:pt x="1653" y="3407"/>
                  </a:lnTo>
                  <a:lnTo>
                    <a:pt x="1479" y="4092"/>
                  </a:lnTo>
                  <a:lnTo>
                    <a:pt x="1272" y="4761"/>
                  </a:lnTo>
                  <a:lnTo>
                    <a:pt x="1017" y="5414"/>
                  </a:lnTo>
                  <a:lnTo>
                    <a:pt x="700" y="6034"/>
                  </a:lnTo>
                  <a:lnTo>
                    <a:pt x="350" y="6624"/>
                  </a:lnTo>
                  <a:lnTo>
                    <a:pt x="191" y="6846"/>
                  </a:lnTo>
                  <a:lnTo>
                    <a:pt x="79" y="7100"/>
                  </a:lnTo>
                  <a:lnTo>
                    <a:pt x="17" y="7356"/>
                  </a:lnTo>
                  <a:lnTo>
                    <a:pt x="0" y="7610"/>
                  </a:lnTo>
                  <a:lnTo>
                    <a:pt x="17" y="7881"/>
                  </a:lnTo>
                  <a:lnTo>
                    <a:pt x="47" y="8151"/>
                  </a:lnTo>
                  <a:lnTo>
                    <a:pt x="79" y="8438"/>
                  </a:lnTo>
                  <a:lnTo>
                    <a:pt x="127" y="8709"/>
                  </a:lnTo>
                  <a:lnTo>
                    <a:pt x="144" y="8725"/>
                  </a:lnTo>
                  <a:lnTo>
                    <a:pt x="159" y="8741"/>
                  </a:lnTo>
                  <a:lnTo>
                    <a:pt x="191" y="8756"/>
                  </a:lnTo>
                  <a:lnTo>
                    <a:pt x="206" y="8756"/>
                  </a:lnTo>
                  <a:lnTo>
                    <a:pt x="223" y="8773"/>
                  </a:lnTo>
                  <a:lnTo>
                    <a:pt x="255" y="8773"/>
                  </a:lnTo>
                  <a:lnTo>
                    <a:pt x="271" y="8788"/>
                  </a:lnTo>
                  <a:lnTo>
                    <a:pt x="303" y="8788"/>
                  </a:lnTo>
                  <a:lnTo>
                    <a:pt x="398" y="8773"/>
                  </a:lnTo>
                  <a:lnTo>
                    <a:pt x="493" y="8756"/>
                  </a:lnTo>
                  <a:lnTo>
                    <a:pt x="589" y="8725"/>
                  </a:lnTo>
                  <a:lnTo>
                    <a:pt x="684" y="8725"/>
                  </a:lnTo>
                  <a:lnTo>
                    <a:pt x="780" y="8725"/>
                  </a:lnTo>
                  <a:lnTo>
                    <a:pt x="875" y="8725"/>
                  </a:lnTo>
                  <a:lnTo>
                    <a:pt x="954" y="8756"/>
                  </a:lnTo>
                  <a:lnTo>
                    <a:pt x="1034" y="8820"/>
                  </a:lnTo>
                  <a:lnTo>
                    <a:pt x="1066" y="8836"/>
                  </a:lnTo>
                  <a:lnTo>
                    <a:pt x="1097" y="8868"/>
                  </a:lnTo>
                  <a:lnTo>
                    <a:pt x="1113" y="8883"/>
                  </a:lnTo>
                  <a:lnTo>
                    <a:pt x="1129" y="8916"/>
                  </a:lnTo>
                  <a:lnTo>
                    <a:pt x="1145" y="8932"/>
                  </a:lnTo>
                  <a:lnTo>
                    <a:pt x="1161" y="8932"/>
                  </a:lnTo>
                  <a:lnTo>
                    <a:pt x="1176" y="8948"/>
                  </a:lnTo>
                  <a:lnTo>
                    <a:pt x="1208" y="8948"/>
                  </a:lnTo>
                  <a:lnTo>
                    <a:pt x="1225" y="89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98960" y="2260440"/>
              <a:ext cx="428760" cy="1592280"/>
            </a:xfrm>
            <a:custGeom>
              <a:avLst/>
              <a:gdLst/>
              <a:ahLst/>
              <a:rect l="l" t="t" r="r" b="b"/>
              <a:pathLst>
                <a:path w="1622" h="6018">
                  <a:moveTo>
                    <a:pt x="1510" y="6018"/>
                  </a:moveTo>
                  <a:lnTo>
                    <a:pt x="1527" y="6018"/>
                  </a:lnTo>
                  <a:lnTo>
                    <a:pt x="1527" y="6002"/>
                  </a:lnTo>
                  <a:lnTo>
                    <a:pt x="1542" y="6002"/>
                  </a:lnTo>
                  <a:lnTo>
                    <a:pt x="1542" y="5986"/>
                  </a:lnTo>
                  <a:lnTo>
                    <a:pt x="1622" y="5110"/>
                  </a:lnTo>
                  <a:lnTo>
                    <a:pt x="1605" y="5110"/>
                  </a:lnTo>
                  <a:lnTo>
                    <a:pt x="1605" y="5095"/>
                  </a:lnTo>
                  <a:lnTo>
                    <a:pt x="1590" y="5095"/>
                  </a:lnTo>
                  <a:lnTo>
                    <a:pt x="1574" y="5079"/>
                  </a:lnTo>
                  <a:lnTo>
                    <a:pt x="1558" y="5079"/>
                  </a:lnTo>
                  <a:lnTo>
                    <a:pt x="1542" y="5063"/>
                  </a:lnTo>
                  <a:lnTo>
                    <a:pt x="1383" y="4712"/>
                  </a:lnTo>
                  <a:lnTo>
                    <a:pt x="1272" y="4346"/>
                  </a:lnTo>
                  <a:lnTo>
                    <a:pt x="1240" y="3964"/>
                  </a:lnTo>
                  <a:lnTo>
                    <a:pt x="1224" y="3566"/>
                  </a:lnTo>
                  <a:lnTo>
                    <a:pt x="1256" y="3184"/>
                  </a:lnTo>
                  <a:lnTo>
                    <a:pt x="1288" y="2770"/>
                  </a:lnTo>
                  <a:lnTo>
                    <a:pt x="1319" y="2373"/>
                  </a:lnTo>
                  <a:lnTo>
                    <a:pt x="1319" y="1974"/>
                  </a:lnTo>
                  <a:lnTo>
                    <a:pt x="1288" y="1688"/>
                  </a:lnTo>
                  <a:lnTo>
                    <a:pt x="1224" y="1401"/>
                  </a:lnTo>
                  <a:lnTo>
                    <a:pt x="1160" y="1130"/>
                  </a:lnTo>
                  <a:lnTo>
                    <a:pt x="1065" y="876"/>
                  </a:lnTo>
                  <a:lnTo>
                    <a:pt x="953" y="620"/>
                  </a:lnTo>
                  <a:lnTo>
                    <a:pt x="826" y="398"/>
                  </a:lnTo>
                  <a:lnTo>
                    <a:pt x="684" y="175"/>
                  </a:lnTo>
                  <a:lnTo>
                    <a:pt x="508" y="0"/>
                  </a:lnTo>
                  <a:lnTo>
                    <a:pt x="0" y="478"/>
                  </a:lnTo>
                  <a:lnTo>
                    <a:pt x="0" y="939"/>
                  </a:lnTo>
                  <a:lnTo>
                    <a:pt x="16" y="956"/>
                  </a:lnTo>
                  <a:lnTo>
                    <a:pt x="16" y="971"/>
                  </a:lnTo>
                  <a:lnTo>
                    <a:pt x="32" y="971"/>
                  </a:lnTo>
                  <a:lnTo>
                    <a:pt x="48" y="986"/>
                  </a:lnTo>
                  <a:lnTo>
                    <a:pt x="63" y="1003"/>
                  </a:lnTo>
                  <a:lnTo>
                    <a:pt x="413" y="1130"/>
                  </a:lnTo>
                  <a:lnTo>
                    <a:pt x="540" y="1322"/>
                  </a:lnTo>
                  <a:lnTo>
                    <a:pt x="525" y="1337"/>
                  </a:lnTo>
                  <a:lnTo>
                    <a:pt x="508" y="1337"/>
                  </a:lnTo>
                  <a:lnTo>
                    <a:pt x="493" y="1337"/>
                  </a:lnTo>
                  <a:lnTo>
                    <a:pt x="478" y="1337"/>
                  </a:lnTo>
                  <a:lnTo>
                    <a:pt x="445" y="1337"/>
                  </a:lnTo>
                  <a:lnTo>
                    <a:pt x="429" y="1337"/>
                  </a:lnTo>
                  <a:lnTo>
                    <a:pt x="413" y="1353"/>
                  </a:lnTo>
                  <a:lnTo>
                    <a:pt x="398" y="1369"/>
                  </a:lnTo>
                  <a:lnTo>
                    <a:pt x="843" y="1927"/>
                  </a:lnTo>
                  <a:lnTo>
                    <a:pt x="794" y="2452"/>
                  </a:lnTo>
                  <a:lnTo>
                    <a:pt x="764" y="2993"/>
                  </a:lnTo>
                  <a:lnTo>
                    <a:pt x="747" y="3534"/>
                  </a:lnTo>
                  <a:lnTo>
                    <a:pt x="747" y="4076"/>
                  </a:lnTo>
                  <a:lnTo>
                    <a:pt x="811" y="4601"/>
                  </a:lnTo>
                  <a:lnTo>
                    <a:pt x="953" y="5095"/>
                  </a:lnTo>
                  <a:lnTo>
                    <a:pt x="1160" y="5556"/>
                  </a:lnTo>
                  <a:lnTo>
                    <a:pt x="1463" y="5986"/>
                  </a:lnTo>
                  <a:lnTo>
                    <a:pt x="1478" y="6002"/>
                  </a:lnTo>
                  <a:lnTo>
                    <a:pt x="1495" y="6002"/>
                  </a:lnTo>
                  <a:lnTo>
                    <a:pt x="1510" y="6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2680" y="2681280"/>
              <a:ext cx="382680" cy="565200"/>
            </a:xfrm>
            <a:custGeom>
              <a:avLst/>
              <a:gdLst/>
              <a:ahLst/>
              <a:rect l="l" t="t" r="r" b="b"/>
              <a:pathLst>
                <a:path w="1447" h="2133">
                  <a:moveTo>
                    <a:pt x="875" y="2133"/>
                  </a:moveTo>
                  <a:lnTo>
                    <a:pt x="1447" y="16"/>
                  </a:lnTo>
                  <a:lnTo>
                    <a:pt x="1320" y="0"/>
                  </a:lnTo>
                  <a:lnTo>
                    <a:pt x="1209" y="16"/>
                  </a:lnTo>
                  <a:lnTo>
                    <a:pt x="1097" y="64"/>
                  </a:lnTo>
                  <a:lnTo>
                    <a:pt x="987" y="111"/>
                  </a:lnTo>
                  <a:lnTo>
                    <a:pt x="875" y="159"/>
                  </a:lnTo>
                  <a:lnTo>
                    <a:pt x="780" y="191"/>
                  </a:lnTo>
                  <a:lnTo>
                    <a:pt x="669" y="175"/>
                  </a:lnTo>
                  <a:lnTo>
                    <a:pt x="542" y="111"/>
                  </a:lnTo>
                  <a:lnTo>
                    <a:pt x="462" y="79"/>
                  </a:lnTo>
                  <a:lnTo>
                    <a:pt x="398" y="79"/>
                  </a:lnTo>
                  <a:lnTo>
                    <a:pt x="335" y="79"/>
                  </a:lnTo>
                  <a:lnTo>
                    <a:pt x="256" y="96"/>
                  </a:lnTo>
                  <a:lnTo>
                    <a:pt x="191" y="111"/>
                  </a:lnTo>
                  <a:lnTo>
                    <a:pt x="127" y="128"/>
                  </a:lnTo>
                  <a:lnTo>
                    <a:pt x="64" y="143"/>
                  </a:lnTo>
                  <a:lnTo>
                    <a:pt x="0" y="159"/>
                  </a:lnTo>
                  <a:lnTo>
                    <a:pt x="875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9520" y="2757600"/>
              <a:ext cx="193680" cy="142920"/>
            </a:xfrm>
            <a:custGeom>
              <a:avLst/>
              <a:gdLst/>
              <a:ahLst/>
              <a:rect l="l" t="t" r="r" b="b"/>
              <a:pathLst>
                <a:path w="731" h="542">
                  <a:moveTo>
                    <a:pt x="176" y="542"/>
                  </a:moveTo>
                  <a:lnTo>
                    <a:pt x="462" y="366"/>
                  </a:lnTo>
                  <a:lnTo>
                    <a:pt x="477" y="366"/>
                  </a:lnTo>
                  <a:lnTo>
                    <a:pt x="509" y="383"/>
                  </a:lnTo>
                  <a:lnTo>
                    <a:pt x="541" y="398"/>
                  </a:lnTo>
                  <a:lnTo>
                    <a:pt x="557" y="415"/>
                  </a:lnTo>
                  <a:lnTo>
                    <a:pt x="589" y="430"/>
                  </a:lnTo>
                  <a:lnTo>
                    <a:pt x="621" y="446"/>
                  </a:lnTo>
                  <a:lnTo>
                    <a:pt x="652" y="462"/>
                  </a:lnTo>
                  <a:lnTo>
                    <a:pt x="684" y="446"/>
                  </a:lnTo>
                  <a:lnTo>
                    <a:pt x="716" y="415"/>
                  </a:lnTo>
                  <a:lnTo>
                    <a:pt x="731" y="383"/>
                  </a:lnTo>
                  <a:lnTo>
                    <a:pt x="731" y="335"/>
                  </a:lnTo>
                  <a:lnTo>
                    <a:pt x="731" y="288"/>
                  </a:lnTo>
                  <a:lnTo>
                    <a:pt x="731" y="239"/>
                  </a:lnTo>
                  <a:lnTo>
                    <a:pt x="731" y="191"/>
                  </a:lnTo>
                  <a:lnTo>
                    <a:pt x="731" y="144"/>
                  </a:lnTo>
                  <a:lnTo>
                    <a:pt x="731" y="96"/>
                  </a:lnTo>
                  <a:lnTo>
                    <a:pt x="731" y="80"/>
                  </a:lnTo>
                  <a:lnTo>
                    <a:pt x="716" y="64"/>
                  </a:lnTo>
                  <a:lnTo>
                    <a:pt x="716" y="49"/>
                  </a:lnTo>
                  <a:lnTo>
                    <a:pt x="700" y="32"/>
                  </a:lnTo>
                  <a:lnTo>
                    <a:pt x="684" y="17"/>
                  </a:lnTo>
                  <a:lnTo>
                    <a:pt x="652" y="0"/>
                  </a:lnTo>
                  <a:lnTo>
                    <a:pt x="636" y="0"/>
                  </a:lnTo>
                  <a:lnTo>
                    <a:pt x="366" y="176"/>
                  </a:lnTo>
                  <a:lnTo>
                    <a:pt x="96" y="17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17"/>
                  </a:lnTo>
                  <a:lnTo>
                    <a:pt x="32" y="17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112" y="525"/>
                  </a:lnTo>
                  <a:lnTo>
                    <a:pt x="127" y="525"/>
                  </a:lnTo>
                  <a:lnTo>
                    <a:pt x="144" y="525"/>
                  </a:lnTo>
                  <a:lnTo>
                    <a:pt x="159" y="542"/>
                  </a:lnTo>
                  <a:lnTo>
                    <a:pt x="176" y="5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40040" y="2276640"/>
              <a:ext cx="168480" cy="392040"/>
            </a:xfrm>
            <a:custGeom>
              <a:avLst/>
              <a:gdLst/>
              <a:ahLst/>
              <a:rect l="l" t="t" r="r" b="b"/>
              <a:pathLst>
                <a:path w="637" h="1480">
                  <a:moveTo>
                    <a:pt x="287" y="1480"/>
                  </a:moveTo>
                  <a:lnTo>
                    <a:pt x="510" y="1432"/>
                  </a:lnTo>
                  <a:lnTo>
                    <a:pt x="573" y="1273"/>
                  </a:lnTo>
                  <a:lnTo>
                    <a:pt x="621" y="1114"/>
                  </a:lnTo>
                  <a:lnTo>
                    <a:pt x="637" y="939"/>
                  </a:lnTo>
                  <a:lnTo>
                    <a:pt x="621" y="763"/>
                  </a:lnTo>
                  <a:lnTo>
                    <a:pt x="605" y="588"/>
                  </a:lnTo>
                  <a:lnTo>
                    <a:pt x="589" y="397"/>
                  </a:lnTo>
                  <a:lnTo>
                    <a:pt x="573" y="222"/>
                  </a:lnTo>
                  <a:lnTo>
                    <a:pt x="557" y="48"/>
                  </a:lnTo>
                  <a:lnTo>
                    <a:pt x="510" y="15"/>
                  </a:lnTo>
                  <a:lnTo>
                    <a:pt x="462" y="15"/>
                  </a:lnTo>
                  <a:lnTo>
                    <a:pt x="415" y="0"/>
                  </a:lnTo>
                  <a:lnTo>
                    <a:pt x="366" y="0"/>
                  </a:lnTo>
                  <a:lnTo>
                    <a:pt x="303" y="15"/>
                  </a:lnTo>
                  <a:lnTo>
                    <a:pt x="256" y="15"/>
                  </a:lnTo>
                  <a:lnTo>
                    <a:pt x="192" y="15"/>
                  </a:lnTo>
                  <a:lnTo>
                    <a:pt x="144" y="15"/>
                  </a:lnTo>
                  <a:lnTo>
                    <a:pt x="97" y="143"/>
                  </a:lnTo>
                  <a:lnTo>
                    <a:pt x="48" y="286"/>
                  </a:lnTo>
                  <a:lnTo>
                    <a:pt x="17" y="446"/>
                  </a:lnTo>
                  <a:lnTo>
                    <a:pt x="0" y="621"/>
                  </a:lnTo>
                  <a:lnTo>
                    <a:pt x="17" y="795"/>
                  </a:lnTo>
                  <a:lnTo>
                    <a:pt x="33" y="971"/>
                  </a:lnTo>
                  <a:lnTo>
                    <a:pt x="48" y="1130"/>
                  </a:lnTo>
                  <a:lnTo>
                    <a:pt x="97" y="1305"/>
                  </a:lnTo>
                  <a:lnTo>
                    <a:pt x="112" y="1337"/>
                  </a:lnTo>
                  <a:lnTo>
                    <a:pt x="127" y="1368"/>
                  </a:lnTo>
                  <a:lnTo>
                    <a:pt x="144" y="1385"/>
                  </a:lnTo>
                  <a:lnTo>
                    <a:pt x="160" y="1417"/>
                  </a:lnTo>
                  <a:lnTo>
                    <a:pt x="192" y="1432"/>
                  </a:lnTo>
                  <a:lnTo>
                    <a:pt x="207" y="1448"/>
                  </a:lnTo>
                  <a:lnTo>
                    <a:pt x="224" y="1465"/>
                  </a:lnTo>
                  <a:lnTo>
                    <a:pt x="256" y="1480"/>
                  </a:lnTo>
                  <a:lnTo>
                    <a:pt x="271" y="1480"/>
                  </a:lnTo>
                  <a:lnTo>
                    <a:pt x="287" y="1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2247840"/>
              <a:ext cx="158760" cy="354240"/>
            </a:xfrm>
            <a:custGeom>
              <a:avLst/>
              <a:gdLst/>
              <a:ahLst/>
              <a:rect l="l" t="t" r="r" b="b"/>
              <a:pathLst>
                <a:path w="603" h="1338">
                  <a:moveTo>
                    <a:pt x="365" y="1338"/>
                  </a:moveTo>
                  <a:lnTo>
                    <a:pt x="381" y="1338"/>
                  </a:lnTo>
                  <a:lnTo>
                    <a:pt x="396" y="1338"/>
                  </a:lnTo>
                  <a:lnTo>
                    <a:pt x="413" y="1338"/>
                  </a:lnTo>
                  <a:lnTo>
                    <a:pt x="428" y="1338"/>
                  </a:lnTo>
                  <a:lnTo>
                    <a:pt x="428" y="1321"/>
                  </a:lnTo>
                  <a:lnTo>
                    <a:pt x="445" y="1321"/>
                  </a:lnTo>
                  <a:lnTo>
                    <a:pt x="492" y="1178"/>
                  </a:lnTo>
                  <a:lnTo>
                    <a:pt x="540" y="1019"/>
                  </a:lnTo>
                  <a:lnTo>
                    <a:pt x="572" y="860"/>
                  </a:lnTo>
                  <a:lnTo>
                    <a:pt x="587" y="700"/>
                  </a:lnTo>
                  <a:lnTo>
                    <a:pt x="603" y="541"/>
                  </a:lnTo>
                  <a:lnTo>
                    <a:pt x="587" y="382"/>
                  </a:lnTo>
                  <a:lnTo>
                    <a:pt x="572" y="223"/>
                  </a:lnTo>
                  <a:lnTo>
                    <a:pt x="540" y="63"/>
                  </a:lnTo>
                  <a:lnTo>
                    <a:pt x="523" y="63"/>
                  </a:lnTo>
                  <a:lnTo>
                    <a:pt x="508" y="48"/>
                  </a:lnTo>
                  <a:lnTo>
                    <a:pt x="508" y="32"/>
                  </a:lnTo>
                  <a:lnTo>
                    <a:pt x="492" y="32"/>
                  </a:lnTo>
                  <a:lnTo>
                    <a:pt x="476" y="16"/>
                  </a:lnTo>
                  <a:lnTo>
                    <a:pt x="460" y="0"/>
                  </a:lnTo>
                  <a:lnTo>
                    <a:pt x="445" y="0"/>
                  </a:lnTo>
                  <a:lnTo>
                    <a:pt x="413" y="0"/>
                  </a:lnTo>
                  <a:lnTo>
                    <a:pt x="95" y="127"/>
                  </a:lnTo>
                  <a:lnTo>
                    <a:pt x="31" y="223"/>
                  </a:lnTo>
                  <a:lnTo>
                    <a:pt x="15" y="319"/>
                  </a:lnTo>
                  <a:lnTo>
                    <a:pt x="0" y="446"/>
                  </a:lnTo>
                  <a:lnTo>
                    <a:pt x="15" y="558"/>
                  </a:lnTo>
                  <a:lnTo>
                    <a:pt x="31" y="685"/>
                  </a:lnTo>
                  <a:lnTo>
                    <a:pt x="47" y="797"/>
                  </a:lnTo>
                  <a:lnTo>
                    <a:pt x="63" y="924"/>
                  </a:lnTo>
                  <a:lnTo>
                    <a:pt x="95" y="1034"/>
                  </a:lnTo>
                  <a:lnTo>
                    <a:pt x="301" y="1338"/>
                  </a:lnTo>
                  <a:lnTo>
                    <a:pt x="317" y="1338"/>
                  </a:lnTo>
                  <a:lnTo>
                    <a:pt x="333" y="1338"/>
                  </a:lnTo>
                  <a:lnTo>
                    <a:pt x="349" y="1338"/>
                  </a:lnTo>
                  <a:lnTo>
                    <a:pt x="365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1986120"/>
              <a:ext cx="453960" cy="312480"/>
            </a:xfrm>
            <a:custGeom>
              <a:avLst/>
              <a:gdLst/>
              <a:ahLst/>
              <a:rect l="l" t="t" r="r" b="b"/>
              <a:pathLst>
                <a:path w="1717" h="1180">
                  <a:moveTo>
                    <a:pt x="1478" y="1180"/>
                  </a:moveTo>
                  <a:lnTo>
                    <a:pt x="1495" y="1180"/>
                  </a:lnTo>
                  <a:lnTo>
                    <a:pt x="1510" y="1180"/>
                  </a:lnTo>
                  <a:lnTo>
                    <a:pt x="1527" y="1180"/>
                  </a:lnTo>
                  <a:lnTo>
                    <a:pt x="1542" y="1163"/>
                  </a:lnTo>
                  <a:lnTo>
                    <a:pt x="1558" y="1163"/>
                  </a:lnTo>
                  <a:lnTo>
                    <a:pt x="1590" y="1148"/>
                  </a:lnTo>
                  <a:lnTo>
                    <a:pt x="1622" y="1131"/>
                  </a:lnTo>
                  <a:lnTo>
                    <a:pt x="1654" y="1100"/>
                  </a:lnTo>
                  <a:lnTo>
                    <a:pt x="1669" y="1051"/>
                  </a:lnTo>
                  <a:lnTo>
                    <a:pt x="1685" y="1004"/>
                  </a:lnTo>
                  <a:lnTo>
                    <a:pt x="1701" y="956"/>
                  </a:lnTo>
                  <a:lnTo>
                    <a:pt x="1701" y="909"/>
                  </a:lnTo>
                  <a:lnTo>
                    <a:pt x="1717" y="861"/>
                  </a:lnTo>
                  <a:lnTo>
                    <a:pt x="1558" y="638"/>
                  </a:lnTo>
                  <a:lnTo>
                    <a:pt x="1669" y="319"/>
                  </a:lnTo>
                  <a:lnTo>
                    <a:pt x="1527" y="144"/>
                  </a:lnTo>
                  <a:lnTo>
                    <a:pt x="1192" y="415"/>
                  </a:lnTo>
                  <a:lnTo>
                    <a:pt x="1177" y="415"/>
                  </a:lnTo>
                  <a:lnTo>
                    <a:pt x="1160" y="415"/>
                  </a:lnTo>
                  <a:lnTo>
                    <a:pt x="1145" y="415"/>
                  </a:lnTo>
                  <a:lnTo>
                    <a:pt x="1129" y="415"/>
                  </a:lnTo>
                  <a:lnTo>
                    <a:pt x="1113" y="415"/>
                  </a:lnTo>
                  <a:lnTo>
                    <a:pt x="1097" y="415"/>
                  </a:lnTo>
                  <a:lnTo>
                    <a:pt x="1082" y="415"/>
                  </a:lnTo>
                  <a:lnTo>
                    <a:pt x="1050" y="415"/>
                  </a:lnTo>
                  <a:lnTo>
                    <a:pt x="1018" y="399"/>
                  </a:lnTo>
                  <a:lnTo>
                    <a:pt x="1002" y="383"/>
                  </a:lnTo>
                  <a:lnTo>
                    <a:pt x="986" y="367"/>
                  </a:lnTo>
                  <a:lnTo>
                    <a:pt x="970" y="351"/>
                  </a:lnTo>
                  <a:lnTo>
                    <a:pt x="954" y="319"/>
                  </a:lnTo>
                  <a:lnTo>
                    <a:pt x="938" y="288"/>
                  </a:lnTo>
                  <a:lnTo>
                    <a:pt x="938" y="256"/>
                  </a:lnTo>
                  <a:lnTo>
                    <a:pt x="923" y="224"/>
                  </a:lnTo>
                  <a:lnTo>
                    <a:pt x="923" y="208"/>
                  </a:lnTo>
                  <a:lnTo>
                    <a:pt x="923" y="192"/>
                  </a:lnTo>
                  <a:lnTo>
                    <a:pt x="938" y="176"/>
                  </a:lnTo>
                  <a:lnTo>
                    <a:pt x="938" y="160"/>
                  </a:lnTo>
                  <a:lnTo>
                    <a:pt x="938" y="144"/>
                  </a:lnTo>
                  <a:lnTo>
                    <a:pt x="938" y="129"/>
                  </a:lnTo>
                  <a:lnTo>
                    <a:pt x="938" y="112"/>
                  </a:lnTo>
                  <a:lnTo>
                    <a:pt x="938" y="80"/>
                  </a:lnTo>
                  <a:lnTo>
                    <a:pt x="938" y="65"/>
                  </a:lnTo>
                  <a:lnTo>
                    <a:pt x="923" y="49"/>
                  </a:lnTo>
                  <a:lnTo>
                    <a:pt x="906" y="49"/>
                  </a:lnTo>
                  <a:lnTo>
                    <a:pt x="874" y="32"/>
                  </a:lnTo>
                  <a:lnTo>
                    <a:pt x="859" y="32"/>
                  </a:lnTo>
                  <a:lnTo>
                    <a:pt x="827" y="17"/>
                  </a:lnTo>
                  <a:lnTo>
                    <a:pt x="795" y="0"/>
                  </a:lnTo>
                  <a:lnTo>
                    <a:pt x="779" y="0"/>
                  </a:lnTo>
                  <a:lnTo>
                    <a:pt x="764" y="0"/>
                  </a:lnTo>
                  <a:lnTo>
                    <a:pt x="747" y="17"/>
                  </a:lnTo>
                  <a:lnTo>
                    <a:pt x="747" y="32"/>
                  </a:lnTo>
                  <a:lnTo>
                    <a:pt x="732" y="49"/>
                  </a:lnTo>
                  <a:lnTo>
                    <a:pt x="732" y="65"/>
                  </a:lnTo>
                  <a:lnTo>
                    <a:pt x="732" y="97"/>
                  </a:lnTo>
                  <a:lnTo>
                    <a:pt x="732" y="112"/>
                  </a:lnTo>
                  <a:lnTo>
                    <a:pt x="732" y="129"/>
                  </a:lnTo>
                  <a:lnTo>
                    <a:pt x="715" y="176"/>
                  </a:lnTo>
                  <a:lnTo>
                    <a:pt x="700" y="208"/>
                  </a:lnTo>
                  <a:lnTo>
                    <a:pt x="668" y="239"/>
                  </a:lnTo>
                  <a:lnTo>
                    <a:pt x="652" y="256"/>
                  </a:lnTo>
                  <a:lnTo>
                    <a:pt x="620" y="288"/>
                  </a:lnTo>
                  <a:lnTo>
                    <a:pt x="573" y="319"/>
                  </a:lnTo>
                  <a:lnTo>
                    <a:pt x="541" y="336"/>
                  </a:lnTo>
                  <a:lnTo>
                    <a:pt x="508" y="351"/>
                  </a:lnTo>
                  <a:lnTo>
                    <a:pt x="478" y="383"/>
                  </a:lnTo>
                  <a:lnTo>
                    <a:pt x="461" y="415"/>
                  </a:lnTo>
                  <a:lnTo>
                    <a:pt x="461" y="463"/>
                  </a:lnTo>
                  <a:lnTo>
                    <a:pt x="461" y="510"/>
                  </a:lnTo>
                  <a:lnTo>
                    <a:pt x="461" y="558"/>
                  </a:lnTo>
                  <a:lnTo>
                    <a:pt x="461" y="605"/>
                  </a:lnTo>
                  <a:lnTo>
                    <a:pt x="446" y="638"/>
                  </a:lnTo>
                  <a:lnTo>
                    <a:pt x="414" y="685"/>
                  </a:lnTo>
                  <a:lnTo>
                    <a:pt x="398" y="734"/>
                  </a:lnTo>
                  <a:lnTo>
                    <a:pt x="349" y="765"/>
                  </a:lnTo>
                  <a:lnTo>
                    <a:pt x="302" y="797"/>
                  </a:lnTo>
                  <a:lnTo>
                    <a:pt x="254" y="812"/>
                  </a:lnTo>
                  <a:lnTo>
                    <a:pt x="192" y="812"/>
                  </a:lnTo>
                  <a:lnTo>
                    <a:pt x="127" y="829"/>
                  </a:lnTo>
                  <a:lnTo>
                    <a:pt x="63" y="829"/>
                  </a:lnTo>
                  <a:lnTo>
                    <a:pt x="16" y="829"/>
                  </a:lnTo>
                  <a:lnTo>
                    <a:pt x="0" y="844"/>
                  </a:lnTo>
                  <a:lnTo>
                    <a:pt x="0" y="861"/>
                  </a:lnTo>
                  <a:lnTo>
                    <a:pt x="0" y="876"/>
                  </a:lnTo>
                  <a:lnTo>
                    <a:pt x="0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16" y="956"/>
                  </a:lnTo>
                  <a:lnTo>
                    <a:pt x="63" y="1004"/>
                  </a:lnTo>
                  <a:lnTo>
                    <a:pt x="127" y="1036"/>
                  </a:lnTo>
                  <a:lnTo>
                    <a:pt x="192" y="1068"/>
                  </a:lnTo>
                  <a:lnTo>
                    <a:pt x="270" y="1083"/>
                  </a:lnTo>
                  <a:lnTo>
                    <a:pt x="349" y="1100"/>
                  </a:lnTo>
                  <a:lnTo>
                    <a:pt x="414" y="1100"/>
                  </a:lnTo>
                  <a:lnTo>
                    <a:pt x="493" y="1083"/>
                  </a:lnTo>
                  <a:lnTo>
                    <a:pt x="557" y="1051"/>
                  </a:lnTo>
                  <a:lnTo>
                    <a:pt x="684" y="844"/>
                  </a:lnTo>
                  <a:lnTo>
                    <a:pt x="764" y="829"/>
                  </a:lnTo>
                  <a:lnTo>
                    <a:pt x="859" y="812"/>
                  </a:lnTo>
                  <a:lnTo>
                    <a:pt x="954" y="797"/>
                  </a:lnTo>
                  <a:lnTo>
                    <a:pt x="1033" y="797"/>
                  </a:lnTo>
                  <a:lnTo>
                    <a:pt x="1113" y="812"/>
                  </a:lnTo>
                  <a:lnTo>
                    <a:pt x="1192" y="844"/>
                  </a:lnTo>
                  <a:lnTo>
                    <a:pt x="1256" y="892"/>
                  </a:lnTo>
                  <a:lnTo>
                    <a:pt x="1319" y="956"/>
                  </a:lnTo>
                  <a:lnTo>
                    <a:pt x="1336" y="988"/>
                  </a:lnTo>
                  <a:lnTo>
                    <a:pt x="1336" y="1004"/>
                  </a:lnTo>
                  <a:lnTo>
                    <a:pt x="1351" y="1020"/>
                  </a:lnTo>
                  <a:lnTo>
                    <a:pt x="1351" y="1036"/>
                  </a:lnTo>
                  <a:lnTo>
                    <a:pt x="1368" y="1036"/>
                  </a:lnTo>
                  <a:lnTo>
                    <a:pt x="1368" y="1051"/>
                  </a:lnTo>
                  <a:lnTo>
                    <a:pt x="1383" y="1051"/>
                  </a:lnTo>
                  <a:lnTo>
                    <a:pt x="1383" y="1068"/>
                  </a:lnTo>
                  <a:lnTo>
                    <a:pt x="1383" y="1083"/>
                  </a:lnTo>
                  <a:lnTo>
                    <a:pt x="1383" y="1100"/>
                  </a:lnTo>
                  <a:lnTo>
                    <a:pt x="1383" y="1115"/>
                  </a:lnTo>
                  <a:lnTo>
                    <a:pt x="1383" y="1131"/>
                  </a:lnTo>
                  <a:lnTo>
                    <a:pt x="1383" y="1148"/>
                  </a:lnTo>
                  <a:lnTo>
                    <a:pt x="1399" y="1163"/>
                  </a:lnTo>
                  <a:lnTo>
                    <a:pt x="1415" y="1180"/>
                  </a:lnTo>
                  <a:lnTo>
                    <a:pt x="1431" y="1180"/>
                  </a:lnTo>
                  <a:lnTo>
                    <a:pt x="1447" y="1180"/>
                  </a:lnTo>
                  <a:lnTo>
                    <a:pt x="1463" y="1180"/>
                  </a:lnTo>
                  <a:lnTo>
                    <a:pt x="1478" y="1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1860480"/>
              <a:ext cx="63720" cy="344520"/>
            </a:xfrm>
            <a:custGeom>
              <a:avLst/>
              <a:gdLst/>
              <a:ahLst/>
              <a:rect l="l" t="t" r="r" b="b"/>
              <a:pathLst>
                <a:path w="237" h="1305">
                  <a:moveTo>
                    <a:pt x="190" y="1305"/>
                  </a:moveTo>
                  <a:lnTo>
                    <a:pt x="222" y="1146"/>
                  </a:lnTo>
                  <a:lnTo>
                    <a:pt x="237" y="986"/>
                  </a:lnTo>
                  <a:lnTo>
                    <a:pt x="237" y="827"/>
                  </a:lnTo>
                  <a:lnTo>
                    <a:pt x="237" y="652"/>
                  </a:lnTo>
                  <a:lnTo>
                    <a:pt x="206" y="493"/>
                  </a:lnTo>
                  <a:lnTo>
                    <a:pt x="174" y="334"/>
                  </a:lnTo>
                  <a:lnTo>
                    <a:pt x="142" y="159"/>
                  </a:lnTo>
                  <a:lnTo>
                    <a:pt x="95" y="0"/>
                  </a:lnTo>
                  <a:lnTo>
                    <a:pt x="63" y="15"/>
                  </a:lnTo>
                  <a:lnTo>
                    <a:pt x="47" y="31"/>
                  </a:lnTo>
                  <a:lnTo>
                    <a:pt x="30" y="47"/>
                  </a:lnTo>
                  <a:lnTo>
                    <a:pt x="30" y="63"/>
                  </a:lnTo>
                  <a:lnTo>
                    <a:pt x="15" y="79"/>
                  </a:lnTo>
                  <a:lnTo>
                    <a:pt x="15" y="95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90" y="1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5120" y="838080"/>
            <a:ext cx="732348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900" spc="-1" strike="noStrike">
                <a:solidFill>
                  <a:srgbClr val="902444"/>
                </a:solidFill>
                <a:latin typeface="Geometr231 Hv BT"/>
              </a:rPr>
              <a:t>AID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902444"/>
                </a:solidFill>
                <a:latin typeface="Geometr231 Hv BT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FUNERALS RATHER THAN LIF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3355920"/>
            <a:ext cx="4771800" cy="2511000"/>
            <a:chOff x="2162160" y="3355920"/>
            <a:chExt cx="4771800" cy="2511000"/>
          </a:xfrm>
        </p:grpSpPr>
        <p:sp>
          <p:nvSpPr>
            <p:cNvPr id="218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20760" y="700200"/>
            <a:ext cx="5193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CONFUSE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9400" y="939960"/>
            <a:ext cx="5107680" cy="5016600"/>
            <a:chOff x="2129400" y="939960"/>
            <a:chExt cx="5107680" cy="5016600"/>
          </a:xfrm>
        </p:grpSpPr>
        <p:sp>
          <p:nvSpPr>
            <p:cNvPr id="270" name=""/>
            <p:cNvSpPr/>
            <p:nvPr/>
          </p:nvSpPr>
          <p:spPr>
            <a:xfrm>
              <a:off x="4554000" y="939960"/>
              <a:ext cx="14331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0" spc="-1" strike="noStrike">
                  <a:solidFill>
                    <a:srgbClr val="a9a9a8"/>
                  </a:solidFill>
                  <a:latin typeface="Geometr231 Hv BT"/>
                </a:rPr>
                <a:t>?</a:t>
              </a:r>
              <a:endParaRPr b="0" lang="en-US" sz="2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9400" y="1641600"/>
              <a:ext cx="5107680" cy="4314960"/>
              <a:chOff x="2129400" y="1641600"/>
              <a:chExt cx="5107680" cy="431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308480" y="4013280"/>
                <a:ext cx="568440" cy="4752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8480" y="3965400"/>
                <a:ext cx="568440" cy="9540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08480" y="3916440"/>
                <a:ext cx="568440" cy="96840"/>
              </a:xfrm>
              <a:prstGeom prst="rect">
                <a:avLst/>
              </a:prstGeom>
              <a:solidFill>
                <a:srgbClr val="340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08480" y="3868560"/>
                <a:ext cx="568440" cy="96840"/>
              </a:xfrm>
              <a:prstGeom prst="rect">
                <a:avLst/>
              </a:prstGeom>
              <a:solidFill>
                <a:srgbClr val="3c1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8480" y="3819600"/>
                <a:ext cx="568440" cy="96840"/>
              </a:xfrm>
              <a:prstGeom prst="rect">
                <a:avLst/>
              </a:prstGeom>
              <a:solidFill>
                <a:srgbClr val="471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08480" y="3772080"/>
                <a:ext cx="568440" cy="96480"/>
              </a:xfrm>
              <a:prstGeom prst="rect">
                <a:avLst/>
              </a:prstGeom>
              <a:solidFill>
                <a:srgbClr val="4e1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08480" y="3722760"/>
                <a:ext cx="568440" cy="96840"/>
              </a:xfrm>
              <a:prstGeom prst="rect">
                <a:avLst/>
              </a:prstGeom>
              <a:solidFill>
                <a:srgbClr val="561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8480" y="3675240"/>
                <a:ext cx="568440" cy="96840"/>
              </a:xfrm>
              <a:prstGeom prst="rect">
                <a:avLst/>
              </a:prstGeom>
              <a:solidFill>
                <a:srgbClr val="5d1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8480" y="3625920"/>
                <a:ext cx="568440" cy="96840"/>
              </a:xfrm>
              <a:prstGeom prst="rect">
                <a:avLst/>
              </a:prstGeom>
              <a:solidFill>
                <a:srgbClr val="651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8480" y="3578400"/>
                <a:ext cx="568440" cy="96840"/>
              </a:xfrm>
              <a:prstGeom prst="rect">
                <a:avLst/>
              </a:prstGeom>
              <a:solidFill>
                <a:srgbClr val="6b1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08480" y="3529080"/>
                <a:ext cx="568440" cy="96840"/>
              </a:xfrm>
              <a:prstGeom prst="rect">
                <a:avLst/>
              </a:prstGeom>
              <a:solidFill>
                <a:srgbClr val="72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8480" y="3481560"/>
                <a:ext cx="568440" cy="96840"/>
              </a:xfrm>
              <a:prstGeom prst="rect">
                <a:avLst/>
              </a:prstGeom>
              <a:solidFill>
                <a:srgbClr val="78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8480" y="3456000"/>
                <a:ext cx="568440" cy="73080"/>
              </a:xfrm>
              <a:prstGeom prst="rect">
                <a:avLst/>
              </a:prstGeom>
              <a:solidFill>
                <a:srgbClr val="7e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8480" y="3456000"/>
                <a:ext cx="568440" cy="25560"/>
              </a:xfrm>
              <a:prstGeom prst="rect">
                <a:avLst/>
              </a:prstGeom>
              <a:solidFill>
                <a:srgbClr val="86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08480" y="3287880"/>
                <a:ext cx="568440" cy="29880"/>
              </a:xfrm>
              <a:prstGeom prst="rect">
                <a:avLst/>
              </a:prstGeom>
              <a:solidFill>
                <a:srgbClr val="95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8480" y="3238560"/>
                <a:ext cx="568440" cy="79200"/>
              </a:xfrm>
              <a:prstGeom prst="rect">
                <a:avLst/>
              </a:prstGeom>
              <a:solidFill>
                <a:srgbClr val="9b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8480" y="3191040"/>
                <a:ext cx="568440" cy="96840"/>
              </a:xfrm>
              <a:prstGeom prst="rect">
                <a:avLst/>
              </a:prstGeom>
              <a:solidFill>
                <a:srgbClr val="a4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08480" y="3141720"/>
                <a:ext cx="568440" cy="96840"/>
              </a:xfrm>
              <a:prstGeom prst="rect">
                <a:avLst/>
              </a:prstGeom>
              <a:solidFill>
                <a:srgbClr val="ab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8480" y="3094200"/>
                <a:ext cx="568440" cy="96840"/>
              </a:xfrm>
              <a:custGeom>
                <a:avLst/>
                <a:gdLst/>
                <a:ahLst/>
                <a:rect l="l" t="t" r="r" b="b"/>
                <a:pathLst>
                  <a:path w="2150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0" y="0"/>
                    </a:lnTo>
                    <a:lnTo>
                      <a:pt x="2150" y="20"/>
                    </a:lnTo>
                    <a:lnTo>
                      <a:pt x="2150" y="40"/>
                    </a:lnTo>
                    <a:lnTo>
                      <a:pt x="2148" y="60"/>
                    </a:lnTo>
                    <a:lnTo>
                      <a:pt x="2148" y="82"/>
                    </a:lnTo>
                    <a:lnTo>
                      <a:pt x="2148" y="102"/>
                    </a:lnTo>
                    <a:lnTo>
                      <a:pt x="2148" y="123"/>
                    </a:lnTo>
                    <a:lnTo>
                      <a:pt x="2148" y="145"/>
                    </a:lnTo>
                    <a:lnTo>
                      <a:pt x="2148" y="165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5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08480" y="3044880"/>
                <a:ext cx="569880" cy="96840"/>
              </a:xfrm>
              <a:custGeom>
                <a:avLst/>
                <a:gdLst/>
                <a:ahLst/>
                <a:rect l="l" t="t" r="r" b="b"/>
                <a:pathLst>
                  <a:path w="2158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8" y="0"/>
                    </a:lnTo>
                    <a:lnTo>
                      <a:pt x="2156" y="42"/>
                    </a:lnTo>
                    <a:lnTo>
                      <a:pt x="2153" y="83"/>
                    </a:lnTo>
                    <a:lnTo>
                      <a:pt x="2152" y="126"/>
                    </a:lnTo>
                    <a:lnTo>
                      <a:pt x="2151" y="170"/>
                    </a:lnTo>
                    <a:lnTo>
                      <a:pt x="2150" y="214"/>
                    </a:lnTo>
                    <a:lnTo>
                      <a:pt x="2148" y="258"/>
                    </a:lnTo>
                    <a:lnTo>
                      <a:pt x="2148" y="303"/>
                    </a:lnTo>
                    <a:lnTo>
                      <a:pt x="2148" y="348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c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08480" y="2997360"/>
                <a:ext cx="574560" cy="96840"/>
              </a:xfrm>
              <a:custGeom>
                <a:avLst/>
                <a:gdLst/>
                <a:ahLst/>
                <a:rect l="l" t="t" r="r" b="b"/>
                <a:pathLst>
                  <a:path w="2173" h="366">
                    <a:moveTo>
                      <a:pt x="2150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73" y="0"/>
                    </a:lnTo>
                    <a:lnTo>
                      <a:pt x="2169" y="43"/>
                    </a:lnTo>
                    <a:lnTo>
                      <a:pt x="2165" y="87"/>
                    </a:lnTo>
                    <a:lnTo>
                      <a:pt x="2162" y="132"/>
                    </a:lnTo>
                    <a:lnTo>
                      <a:pt x="2159" y="177"/>
                    </a:lnTo>
                    <a:lnTo>
                      <a:pt x="2156" y="223"/>
                    </a:lnTo>
                    <a:lnTo>
                      <a:pt x="2153" y="270"/>
                    </a:lnTo>
                    <a:lnTo>
                      <a:pt x="2152" y="317"/>
                    </a:lnTo>
                    <a:lnTo>
                      <a:pt x="2150" y="366"/>
                    </a:lnTo>
                    <a:close/>
                  </a:path>
                </a:pathLst>
              </a:custGeom>
              <a:solidFill>
                <a:srgbClr val="c41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8480" y="2948040"/>
                <a:ext cx="581040" cy="96840"/>
              </a:xfrm>
              <a:custGeom>
                <a:avLst/>
                <a:gdLst/>
                <a:ahLst/>
                <a:rect l="l" t="t" r="r" b="b"/>
                <a:pathLst>
                  <a:path w="2197" h="366">
                    <a:moveTo>
                      <a:pt x="2158" y="366"/>
                    </a:moveTo>
                    <a:lnTo>
                      <a:pt x="0" y="366"/>
                    </a:lnTo>
                    <a:lnTo>
                      <a:pt x="0" y="99"/>
                    </a:lnTo>
                    <a:lnTo>
                      <a:pt x="0" y="86"/>
                    </a:lnTo>
                    <a:lnTo>
                      <a:pt x="0" y="74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2" y="0"/>
                    </a:lnTo>
                    <a:lnTo>
                      <a:pt x="2197" y="0"/>
                    </a:lnTo>
                    <a:lnTo>
                      <a:pt x="2191" y="43"/>
                    </a:lnTo>
                    <a:lnTo>
                      <a:pt x="2185" y="86"/>
                    </a:lnTo>
                    <a:lnTo>
                      <a:pt x="2179" y="131"/>
                    </a:lnTo>
                    <a:lnTo>
                      <a:pt x="2175" y="176"/>
                    </a:lnTo>
                    <a:lnTo>
                      <a:pt x="2170" y="222"/>
                    </a:lnTo>
                    <a:lnTo>
                      <a:pt x="2165" y="269"/>
                    </a:lnTo>
                    <a:lnTo>
                      <a:pt x="2162" y="317"/>
                    </a:lnTo>
                    <a:lnTo>
                      <a:pt x="2158" y="366"/>
                    </a:lnTo>
                    <a:close/>
                  </a:path>
                </a:pathLst>
              </a:custGeom>
              <a:solidFill>
                <a:srgbClr val="cf1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8480" y="2900520"/>
                <a:ext cx="590400" cy="96840"/>
              </a:xfrm>
              <a:custGeom>
                <a:avLst/>
                <a:gdLst/>
                <a:ahLst/>
                <a:rect l="l" t="t" r="r" b="b"/>
                <a:pathLst>
                  <a:path w="2233" h="366">
                    <a:moveTo>
                      <a:pt x="2173" y="366"/>
                    </a:moveTo>
                    <a:lnTo>
                      <a:pt x="0" y="366"/>
                    </a:lnTo>
                    <a:lnTo>
                      <a:pt x="0" y="282"/>
                    </a:lnTo>
                    <a:lnTo>
                      <a:pt x="0" y="245"/>
                    </a:lnTo>
                    <a:lnTo>
                      <a:pt x="0" y="208"/>
                    </a:lnTo>
                    <a:lnTo>
                      <a:pt x="2" y="172"/>
                    </a:lnTo>
                    <a:lnTo>
                      <a:pt x="3" y="137"/>
                    </a:lnTo>
                    <a:lnTo>
                      <a:pt x="5" y="102"/>
                    </a:lnTo>
                    <a:lnTo>
                      <a:pt x="6" y="68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2233" y="0"/>
                    </a:lnTo>
                    <a:lnTo>
                      <a:pt x="2231" y="10"/>
                    </a:lnTo>
                    <a:lnTo>
                      <a:pt x="2228" y="20"/>
                    </a:lnTo>
                    <a:lnTo>
                      <a:pt x="2226" y="31"/>
                    </a:lnTo>
                    <a:lnTo>
                      <a:pt x="2223" y="42"/>
                    </a:lnTo>
                    <a:lnTo>
                      <a:pt x="2221" y="52"/>
                    </a:lnTo>
                    <a:lnTo>
                      <a:pt x="2219" y="63"/>
                    </a:lnTo>
                    <a:lnTo>
                      <a:pt x="2216" y="74"/>
                    </a:lnTo>
                    <a:lnTo>
                      <a:pt x="2215" y="84"/>
                    </a:lnTo>
                    <a:lnTo>
                      <a:pt x="2208" y="118"/>
                    </a:lnTo>
                    <a:lnTo>
                      <a:pt x="2202" y="151"/>
                    </a:lnTo>
                    <a:lnTo>
                      <a:pt x="2197" y="185"/>
                    </a:lnTo>
                    <a:lnTo>
                      <a:pt x="2191" y="220"/>
                    </a:lnTo>
                    <a:lnTo>
                      <a:pt x="2187" y="256"/>
                    </a:lnTo>
                    <a:lnTo>
                      <a:pt x="2182" y="291"/>
                    </a:lnTo>
                    <a:lnTo>
                      <a:pt x="2178" y="328"/>
                    </a:lnTo>
                    <a:lnTo>
                      <a:pt x="2173" y="366"/>
                    </a:lnTo>
                    <a:close/>
                  </a:path>
                </a:pathLst>
              </a:custGeom>
              <a:solidFill>
                <a:srgbClr val="d8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2851200"/>
                <a:ext cx="603360" cy="96840"/>
              </a:xfrm>
              <a:custGeom>
                <a:avLst/>
                <a:gdLst/>
                <a:ahLst/>
                <a:rect l="l" t="t" r="r" b="b"/>
                <a:pathLst>
                  <a:path w="2282" h="366">
                    <a:moveTo>
                      <a:pt x="2195" y="366"/>
                    </a:moveTo>
                    <a:lnTo>
                      <a:pt x="0" y="366"/>
                    </a:lnTo>
                    <a:lnTo>
                      <a:pt x="1" y="316"/>
                    </a:lnTo>
                    <a:lnTo>
                      <a:pt x="3" y="269"/>
                    </a:lnTo>
                    <a:lnTo>
                      <a:pt x="7" y="221"/>
                    </a:lnTo>
                    <a:lnTo>
                      <a:pt x="10" y="176"/>
                    </a:lnTo>
                    <a:lnTo>
                      <a:pt x="14" y="131"/>
                    </a:lnTo>
                    <a:lnTo>
                      <a:pt x="20" y="86"/>
                    </a:lnTo>
                    <a:lnTo>
                      <a:pt x="25" y="42"/>
                    </a:lnTo>
                    <a:lnTo>
                      <a:pt x="31" y="0"/>
                    </a:lnTo>
                    <a:lnTo>
                      <a:pt x="2282" y="0"/>
                    </a:lnTo>
                    <a:lnTo>
                      <a:pt x="2271" y="31"/>
                    </a:lnTo>
                    <a:lnTo>
                      <a:pt x="2262" y="63"/>
                    </a:lnTo>
                    <a:lnTo>
                      <a:pt x="2254" y="95"/>
                    </a:lnTo>
                    <a:lnTo>
                      <a:pt x="2244" y="128"/>
                    </a:lnTo>
                    <a:lnTo>
                      <a:pt x="2236" y="163"/>
                    </a:lnTo>
                    <a:lnTo>
                      <a:pt x="2227" y="196"/>
                    </a:lnTo>
                    <a:lnTo>
                      <a:pt x="2220" y="232"/>
                    </a:lnTo>
                    <a:lnTo>
                      <a:pt x="2213" y="267"/>
                    </a:lnTo>
                    <a:lnTo>
                      <a:pt x="2211" y="279"/>
                    </a:lnTo>
                    <a:lnTo>
                      <a:pt x="2208" y="291"/>
                    </a:lnTo>
                    <a:lnTo>
                      <a:pt x="2206" y="303"/>
                    </a:lnTo>
                    <a:lnTo>
                      <a:pt x="2204" y="316"/>
                    </a:lnTo>
                    <a:lnTo>
                      <a:pt x="2201" y="328"/>
                    </a:lnTo>
                    <a:lnTo>
                      <a:pt x="2200" y="340"/>
                    </a:lnTo>
                    <a:lnTo>
                      <a:pt x="2198" y="353"/>
                    </a:lnTo>
                    <a:lnTo>
                      <a:pt x="2195" y="366"/>
                    </a:lnTo>
                    <a:close/>
                  </a:path>
                </a:pathLst>
              </a:custGeom>
              <a:solidFill>
                <a:srgbClr val="df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920" y="2803680"/>
                <a:ext cx="621000" cy="96840"/>
              </a:xfrm>
              <a:custGeom>
                <a:avLst/>
                <a:gdLst/>
                <a:ahLst/>
                <a:rect l="l" t="t" r="r" b="b"/>
                <a:pathLst>
                  <a:path w="2344" h="366">
                    <a:moveTo>
                      <a:pt x="2222" y="366"/>
                    </a:moveTo>
                    <a:lnTo>
                      <a:pt x="0" y="366"/>
                    </a:lnTo>
                    <a:lnTo>
                      <a:pt x="5" y="317"/>
                    </a:lnTo>
                    <a:lnTo>
                      <a:pt x="10" y="271"/>
                    </a:lnTo>
                    <a:lnTo>
                      <a:pt x="16" y="225"/>
                    </a:lnTo>
                    <a:lnTo>
                      <a:pt x="23" y="180"/>
                    </a:lnTo>
                    <a:lnTo>
                      <a:pt x="30" y="136"/>
                    </a:lnTo>
                    <a:lnTo>
                      <a:pt x="38" y="92"/>
                    </a:lnTo>
                    <a:lnTo>
                      <a:pt x="47" y="50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6" y="6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2344" y="0"/>
                    </a:lnTo>
                    <a:lnTo>
                      <a:pt x="2327" y="41"/>
                    </a:lnTo>
                    <a:lnTo>
                      <a:pt x="2309" y="83"/>
                    </a:lnTo>
                    <a:lnTo>
                      <a:pt x="2292" y="127"/>
                    </a:lnTo>
                    <a:lnTo>
                      <a:pt x="2277" y="172"/>
                    </a:lnTo>
                    <a:lnTo>
                      <a:pt x="2261" y="219"/>
                    </a:lnTo>
                    <a:lnTo>
                      <a:pt x="2247" y="266"/>
                    </a:lnTo>
                    <a:lnTo>
                      <a:pt x="2234" y="315"/>
                    </a:lnTo>
                    <a:lnTo>
                      <a:pt x="2222" y="366"/>
                    </a:lnTo>
                    <a:close/>
                  </a:path>
                </a:pathLst>
              </a:custGeom>
              <a:solidFill>
                <a:srgbClr val="e12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6400" y="2754360"/>
                <a:ext cx="641520" cy="96840"/>
              </a:xfrm>
              <a:custGeom>
                <a:avLst/>
                <a:gdLst/>
                <a:ahLst/>
                <a:rect l="l" t="t" r="r" b="b"/>
                <a:pathLst>
                  <a:path w="2424" h="366">
                    <a:moveTo>
                      <a:pt x="2251" y="366"/>
                    </a:moveTo>
                    <a:lnTo>
                      <a:pt x="0" y="366"/>
                    </a:lnTo>
                    <a:lnTo>
                      <a:pt x="3" y="344"/>
                    </a:lnTo>
                    <a:lnTo>
                      <a:pt x="8" y="321"/>
                    </a:lnTo>
                    <a:lnTo>
                      <a:pt x="11" y="298"/>
                    </a:lnTo>
                    <a:lnTo>
                      <a:pt x="15" y="277"/>
                    </a:lnTo>
                    <a:lnTo>
                      <a:pt x="20" y="256"/>
                    </a:lnTo>
                    <a:lnTo>
                      <a:pt x="25" y="234"/>
                    </a:lnTo>
                    <a:lnTo>
                      <a:pt x="29" y="213"/>
                    </a:lnTo>
                    <a:lnTo>
                      <a:pt x="34" y="192"/>
                    </a:lnTo>
                    <a:lnTo>
                      <a:pt x="40" y="168"/>
                    </a:lnTo>
                    <a:lnTo>
                      <a:pt x="46" y="144"/>
                    </a:lnTo>
                    <a:lnTo>
                      <a:pt x="53" y="120"/>
                    </a:lnTo>
                    <a:lnTo>
                      <a:pt x="60" y="96"/>
                    </a:lnTo>
                    <a:lnTo>
                      <a:pt x="67" y="72"/>
                    </a:lnTo>
                    <a:lnTo>
                      <a:pt x="76" y="48"/>
                    </a:lnTo>
                    <a:lnTo>
                      <a:pt x="84" y="24"/>
                    </a:lnTo>
                    <a:lnTo>
                      <a:pt x="92" y="0"/>
                    </a:lnTo>
                    <a:lnTo>
                      <a:pt x="2424" y="0"/>
                    </a:lnTo>
                    <a:lnTo>
                      <a:pt x="2419" y="7"/>
                    </a:lnTo>
                    <a:lnTo>
                      <a:pt x="2414" y="16"/>
                    </a:lnTo>
                    <a:lnTo>
                      <a:pt x="2409" y="23"/>
                    </a:lnTo>
                    <a:lnTo>
                      <a:pt x="2406" y="30"/>
                    </a:lnTo>
                    <a:lnTo>
                      <a:pt x="2401" y="37"/>
                    </a:lnTo>
                    <a:lnTo>
                      <a:pt x="2397" y="43"/>
                    </a:lnTo>
                    <a:lnTo>
                      <a:pt x="2394" y="50"/>
                    </a:lnTo>
                    <a:lnTo>
                      <a:pt x="2390" y="56"/>
                    </a:lnTo>
                    <a:lnTo>
                      <a:pt x="2370" y="91"/>
                    </a:lnTo>
                    <a:lnTo>
                      <a:pt x="2351" y="126"/>
                    </a:lnTo>
                    <a:lnTo>
                      <a:pt x="2332" y="163"/>
                    </a:lnTo>
                    <a:lnTo>
                      <a:pt x="2314" y="201"/>
                    </a:lnTo>
                    <a:lnTo>
                      <a:pt x="2297" y="240"/>
                    </a:lnTo>
                    <a:lnTo>
                      <a:pt x="2281" y="281"/>
                    </a:lnTo>
                    <a:lnTo>
                      <a:pt x="2265" y="323"/>
                    </a:lnTo>
                    <a:lnTo>
                      <a:pt x="2251" y="366"/>
                    </a:lnTo>
                    <a:close/>
                  </a:path>
                </a:pathLst>
              </a:custGeom>
              <a:solidFill>
                <a:srgbClr val="e23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5760" y="2706840"/>
                <a:ext cx="662040" cy="96840"/>
              </a:xfrm>
              <a:custGeom>
                <a:avLst/>
                <a:gdLst/>
                <a:ahLst/>
                <a:rect l="l" t="t" r="r" b="b"/>
                <a:pathLst>
                  <a:path w="2499" h="366">
                    <a:moveTo>
                      <a:pt x="2286" y="366"/>
                    </a:moveTo>
                    <a:lnTo>
                      <a:pt x="0" y="366"/>
                    </a:lnTo>
                    <a:lnTo>
                      <a:pt x="12" y="320"/>
                    </a:lnTo>
                    <a:lnTo>
                      <a:pt x="25" y="275"/>
                    </a:lnTo>
                    <a:lnTo>
                      <a:pt x="40" y="230"/>
                    </a:lnTo>
                    <a:lnTo>
                      <a:pt x="55" y="183"/>
                    </a:lnTo>
                    <a:lnTo>
                      <a:pt x="72" y="138"/>
                    </a:lnTo>
                    <a:lnTo>
                      <a:pt x="90" y="92"/>
                    </a:lnTo>
                    <a:lnTo>
                      <a:pt x="109" y="45"/>
                    </a:lnTo>
                    <a:lnTo>
                      <a:pt x="129" y="0"/>
                    </a:lnTo>
                    <a:lnTo>
                      <a:pt x="2499" y="0"/>
                    </a:lnTo>
                    <a:lnTo>
                      <a:pt x="2477" y="37"/>
                    </a:lnTo>
                    <a:lnTo>
                      <a:pt x="2454" y="73"/>
                    </a:lnTo>
                    <a:lnTo>
                      <a:pt x="2434" y="106"/>
                    </a:lnTo>
                    <a:lnTo>
                      <a:pt x="2415" y="137"/>
                    </a:lnTo>
                    <a:lnTo>
                      <a:pt x="2397" y="165"/>
                    </a:lnTo>
                    <a:lnTo>
                      <a:pt x="2382" y="193"/>
                    </a:lnTo>
                    <a:lnTo>
                      <a:pt x="2367" y="218"/>
                    </a:lnTo>
                    <a:lnTo>
                      <a:pt x="2354" y="239"/>
                    </a:lnTo>
                    <a:lnTo>
                      <a:pt x="2345" y="255"/>
                    </a:lnTo>
                    <a:lnTo>
                      <a:pt x="2336" y="270"/>
                    </a:lnTo>
                    <a:lnTo>
                      <a:pt x="2328" y="285"/>
                    </a:lnTo>
                    <a:lnTo>
                      <a:pt x="2319" y="301"/>
                    </a:lnTo>
                    <a:lnTo>
                      <a:pt x="2310" y="316"/>
                    </a:lnTo>
                    <a:lnTo>
                      <a:pt x="2303" y="333"/>
                    </a:lnTo>
                    <a:lnTo>
                      <a:pt x="2295" y="350"/>
                    </a:lnTo>
                    <a:lnTo>
                      <a:pt x="2286" y="366"/>
                    </a:lnTo>
                    <a:close/>
                  </a:path>
                </a:pathLst>
              </a:custGeom>
              <a:solidFill>
                <a:srgbClr val="e34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40160" y="2657520"/>
                <a:ext cx="677880" cy="96840"/>
              </a:xfrm>
              <a:custGeom>
                <a:avLst/>
                <a:gdLst/>
                <a:ahLst/>
                <a:rect l="l" t="t" r="r" b="b"/>
                <a:pathLst>
                  <a:path w="2560" h="366">
                    <a:moveTo>
                      <a:pt x="2332" y="366"/>
                    </a:moveTo>
                    <a:lnTo>
                      <a:pt x="0" y="366"/>
                    </a:lnTo>
                    <a:lnTo>
                      <a:pt x="16" y="321"/>
                    </a:lnTo>
                    <a:lnTo>
                      <a:pt x="34" y="276"/>
                    </a:lnTo>
                    <a:lnTo>
                      <a:pt x="53" y="230"/>
                    </a:lnTo>
                    <a:lnTo>
                      <a:pt x="72" y="184"/>
                    </a:lnTo>
                    <a:lnTo>
                      <a:pt x="93" y="139"/>
                    </a:lnTo>
                    <a:lnTo>
                      <a:pt x="116" y="94"/>
                    </a:lnTo>
                    <a:lnTo>
                      <a:pt x="138" y="48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2560" y="0"/>
                    </a:lnTo>
                    <a:lnTo>
                      <a:pt x="2555" y="9"/>
                    </a:lnTo>
                    <a:lnTo>
                      <a:pt x="2549" y="17"/>
                    </a:lnTo>
                    <a:lnTo>
                      <a:pt x="2544" y="25"/>
                    </a:lnTo>
                    <a:lnTo>
                      <a:pt x="2539" y="35"/>
                    </a:lnTo>
                    <a:lnTo>
                      <a:pt x="2533" y="43"/>
                    </a:lnTo>
                    <a:lnTo>
                      <a:pt x="2528" y="51"/>
                    </a:lnTo>
                    <a:lnTo>
                      <a:pt x="2522" y="60"/>
                    </a:lnTo>
                    <a:lnTo>
                      <a:pt x="2517" y="69"/>
                    </a:lnTo>
                    <a:lnTo>
                      <a:pt x="2487" y="114"/>
                    </a:lnTo>
                    <a:lnTo>
                      <a:pt x="2460" y="157"/>
                    </a:lnTo>
                    <a:lnTo>
                      <a:pt x="2435" y="198"/>
                    </a:lnTo>
                    <a:lnTo>
                      <a:pt x="2410" y="236"/>
                    </a:lnTo>
                    <a:lnTo>
                      <a:pt x="2389" y="271"/>
                    </a:lnTo>
                    <a:lnTo>
                      <a:pt x="2367" y="306"/>
                    </a:lnTo>
                    <a:lnTo>
                      <a:pt x="2348" y="337"/>
                    </a:lnTo>
                    <a:lnTo>
                      <a:pt x="2332" y="366"/>
                    </a:lnTo>
                    <a:close/>
                  </a:path>
                </a:pathLst>
              </a:custGeom>
              <a:solidFill>
                <a:srgbClr val="e44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9240" y="2610000"/>
                <a:ext cx="687600" cy="96840"/>
              </a:xfrm>
              <a:custGeom>
                <a:avLst/>
                <a:gdLst/>
                <a:ahLst/>
                <a:rect l="l" t="t" r="r" b="b"/>
                <a:pathLst>
                  <a:path w="2596" h="366">
                    <a:moveTo>
                      <a:pt x="2370" y="366"/>
                    </a:moveTo>
                    <a:lnTo>
                      <a:pt x="0" y="366"/>
                    </a:lnTo>
                    <a:lnTo>
                      <a:pt x="11" y="344"/>
                    </a:lnTo>
                    <a:lnTo>
                      <a:pt x="21" y="321"/>
                    </a:lnTo>
                    <a:lnTo>
                      <a:pt x="32" y="299"/>
                    </a:lnTo>
                    <a:lnTo>
                      <a:pt x="43" y="276"/>
                    </a:lnTo>
                    <a:lnTo>
                      <a:pt x="53" y="253"/>
                    </a:lnTo>
                    <a:lnTo>
                      <a:pt x="65" y="231"/>
                    </a:lnTo>
                    <a:lnTo>
                      <a:pt x="77" y="208"/>
                    </a:lnTo>
                    <a:lnTo>
                      <a:pt x="90" y="186"/>
                    </a:lnTo>
                    <a:lnTo>
                      <a:pt x="100" y="166"/>
                    </a:lnTo>
                    <a:lnTo>
                      <a:pt x="111" y="144"/>
                    </a:lnTo>
                    <a:lnTo>
                      <a:pt x="122" y="123"/>
                    </a:lnTo>
                    <a:lnTo>
                      <a:pt x="135" y="100"/>
                    </a:lnTo>
                    <a:lnTo>
                      <a:pt x="149" y="76"/>
                    </a:lnTo>
                    <a:lnTo>
                      <a:pt x="163" y="51"/>
                    </a:lnTo>
                    <a:lnTo>
                      <a:pt x="178" y="27"/>
                    </a:lnTo>
                    <a:lnTo>
                      <a:pt x="195" y="0"/>
                    </a:lnTo>
                    <a:lnTo>
                      <a:pt x="2596" y="0"/>
                    </a:lnTo>
                    <a:lnTo>
                      <a:pt x="2579" y="31"/>
                    </a:lnTo>
                    <a:lnTo>
                      <a:pt x="2559" y="62"/>
                    </a:lnTo>
                    <a:lnTo>
                      <a:pt x="2542" y="93"/>
                    </a:lnTo>
                    <a:lnTo>
                      <a:pt x="2523" y="125"/>
                    </a:lnTo>
                    <a:lnTo>
                      <a:pt x="2504" y="156"/>
                    </a:lnTo>
                    <a:lnTo>
                      <a:pt x="2483" y="188"/>
                    </a:lnTo>
                    <a:lnTo>
                      <a:pt x="2464" y="220"/>
                    </a:lnTo>
                    <a:lnTo>
                      <a:pt x="2444" y="252"/>
                    </a:lnTo>
                    <a:lnTo>
                      <a:pt x="2433" y="266"/>
                    </a:lnTo>
                    <a:lnTo>
                      <a:pt x="2424" y="282"/>
                    </a:lnTo>
                    <a:lnTo>
                      <a:pt x="2416" y="296"/>
                    </a:lnTo>
                    <a:lnTo>
                      <a:pt x="2406" y="310"/>
                    </a:lnTo>
                    <a:lnTo>
                      <a:pt x="2397" y="325"/>
                    </a:lnTo>
                    <a:lnTo>
                      <a:pt x="2388" y="339"/>
                    </a:lnTo>
                    <a:lnTo>
                      <a:pt x="2380" y="352"/>
                    </a:lnTo>
                    <a:lnTo>
                      <a:pt x="2370" y="366"/>
                    </a:lnTo>
                    <a:close/>
                  </a:path>
                </a:pathLst>
              </a:custGeom>
              <a:solidFill>
                <a:srgbClr val="e55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4800" y="2560680"/>
                <a:ext cx="688680" cy="96840"/>
              </a:xfrm>
              <a:custGeom>
                <a:avLst/>
                <a:gdLst/>
                <a:ahLst/>
                <a:rect l="l" t="t" r="r" b="b"/>
                <a:pathLst>
                  <a:path w="2604" h="367">
                    <a:moveTo>
                      <a:pt x="2396" y="367"/>
                    </a:moveTo>
                    <a:lnTo>
                      <a:pt x="0" y="367"/>
                    </a:lnTo>
                    <a:lnTo>
                      <a:pt x="18" y="332"/>
                    </a:lnTo>
                    <a:lnTo>
                      <a:pt x="39" y="295"/>
                    </a:lnTo>
                    <a:lnTo>
                      <a:pt x="61" y="254"/>
                    </a:lnTo>
                    <a:lnTo>
                      <a:pt x="87" y="211"/>
                    </a:lnTo>
                    <a:lnTo>
                      <a:pt x="116" y="165"/>
                    </a:lnTo>
                    <a:lnTo>
                      <a:pt x="147" y="117"/>
                    </a:lnTo>
                    <a:lnTo>
                      <a:pt x="181" y="64"/>
                    </a:lnTo>
                    <a:lnTo>
                      <a:pt x="217" y="10"/>
                    </a:lnTo>
                    <a:lnTo>
                      <a:pt x="218" y="9"/>
                    </a:lnTo>
                    <a:lnTo>
                      <a:pt x="219" y="7"/>
                    </a:lnTo>
                    <a:lnTo>
                      <a:pt x="219" y="6"/>
                    </a:lnTo>
                    <a:lnTo>
                      <a:pt x="221" y="5"/>
                    </a:lnTo>
                    <a:lnTo>
                      <a:pt x="221" y="4"/>
                    </a:lnTo>
                    <a:lnTo>
                      <a:pt x="222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604" y="0"/>
                    </a:lnTo>
                    <a:lnTo>
                      <a:pt x="2580" y="45"/>
                    </a:lnTo>
                    <a:lnTo>
                      <a:pt x="2556" y="91"/>
                    </a:lnTo>
                    <a:lnTo>
                      <a:pt x="2532" y="136"/>
                    </a:lnTo>
                    <a:lnTo>
                      <a:pt x="2507" y="182"/>
                    </a:lnTo>
                    <a:lnTo>
                      <a:pt x="2480" y="227"/>
                    </a:lnTo>
                    <a:lnTo>
                      <a:pt x="2453" y="273"/>
                    </a:lnTo>
                    <a:lnTo>
                      <a:pt x="2424" y="320"/>
                    </a:lnTo>
                    <a:lnTo>
                      <a:pt x="2396" y="367"/>
                    </a:lnTo>
                    <a:close/>
                  </a:path>
                </a:pathLst>
              </a:custGeom>
              <a:solidFill>
                <a:srgbClr val="e6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1800" y="2513160"/>
                <a:ext cx="684000" cy="96840"/>
              </a:xfrm>
              <a:custGeom>
                <a:avLst/>
                <a:gdLst/>
                <a:ahLst/>
                <a:rect l="l" t="t" r="r" b="b"/>
                <a:pathLst>
                  <a:path w="2588" h="367">
                    <a:moveTo>
                      <a:pt x="2401" y="367"/>
                    </a:moveTo>
                    <a:lnTo>
                      <a:pt x="0" y="367"/>
                    </a:lnTo>
                    <a:lnTo>
                      <a:pt x="13" y="347"/>
                    </a:lnTo>
                    <a:lnTo>
                      <a:pt x="26" y="327"/>
                    </a:lnTo>
                    <a:lnTo>
                      <a:pt x="39" y="306"/>
                    </a:lnTo>
                    <a:lnTo>
                      <a:pt x="53" y="284"/>
                    </a:lnTo>
                    <a:lnTo>
                      <a:pt x="68" y="262"/>
                    </a:lnTo>
                    <a:lnTo>
                      <a:pt x="82" y="239"/>
                    </a:lnTo>
                    <a:lnTo>
                      <a:pt x="97" y="217"/>
                    </a:lnTo>
                    <a:lnTo>
                      <a:pt x="113" y="193"/>
                    </a:lnTo>
                    <a:lnTo>
                      <a:pt x="130" y="168"/>
                    </a:lnTo>
                    <a:lnTo>
                      <a:pt x="146" y="143"/>
                    </a:lnTo>
                    <a:lnTo>
                      <a:pt x="162" y="118"/>
                    </a:lnTo>
                    <a:lnTo>
                      <a:pt x="177" y="94"/>
                    </a:lnTo>
                    <a:lnTo>
                      <a:pt x="193" y="70"/>
                    </a:lnTo>
                    <a:lnTo>
                      <a:pt x="207" y="47"/>
                    </a:lnTo>
                    <a:lnTo>
                      <a:pt x="221" y="24"/>
                    </a:lnTo>
                    <a:lnTo>
                      <a:pt x="234" y="0"/>
                    </a:lnTo>
                    <a:lnTo>
                      <a:pt x="2588" y="0"/>
                    </a:lnTo>
                    <a:lnTo>
                      <a:pt x="2568" y="45"/>
                    </a:lnTo>
                    <a:lnTo>
                      <a:pt x="2546" y="91"/>
                    </a:lnTo>
                    <a:lnTo>
                      <a:pt x="2524" y="136"/>
                    </a:lnTo>
                    <a:lnTo>
                      <a:pt x="2501" y="182"/>
                    </a:lnTo>
                    <a:lnTo>
                      <a:pt x="2477" y="227"/>
                    </a:lnTo>
                    <a:lnTo>
                      <a:pt x="2452" y="274"/>
                    </a:lnTo>
                    <a:lnTo>
                      <a:pt x="2428" y="320"/>
                    </a:lnTo>
                    <a:lnTo>
                      <a:pt x="2401" y="367"/>
                    </a:lnTo>
                    <a:close/>
                  </a:path>
                </a:pathLst>
              </a:custGeom>
              <a:solidFill>
                <a:srgbClr val="e66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3480" y="2463840"/>
                <a:ext cx="673200" cy="96840"/>
              </a:xfrm>
              <a:custGeom>
                <a:avLst/>
                <a:gdLst/>
                <a:ahLst/>
                <a:rect l="l" t="t" r="r" b="b"/>
                <a:pathLst>
                  <a:path w="2546" h="366">
                    <a:moveTo>
                      <a:pt x="2381" y="366"/>
                    </a:moveTo>
                    <a:lnTo>
                      <a:pt x="0" y="366"/>
                    </a:lnTo>
                    <a:lnTo>
                      <a:pt x="33" y="316"/>
                    </a:lnTo>
                    <a:lnTo>
                      <a:pt x="65" y="268"/>
                    </a:lnTo>
                    <a:lnTo>
                      <a:pt x="94" y="219"/>
                    </a:lnTo>
                    <a:lnTo>
                      <a:pt x="122" y="173"/>
                    </a:lnTo>
                    <a:lnTo>
                      <a:pt x="147" y="127"/>
                    </a:lnTo>
                    <a:lnTo>
                      <a:pt x="171" y="85"/>
                    </a:lnTo>
                    <a:lnTo>
                      <a:pt x="194" y="42"/>
                    </a:lnTo>
                    <a:lnTo>
                      <a:pt x="213" y="0"/>
                    </a:lnTo>
                    <a:lnTo>
                      <a:pt x="2546" y="0"/>
                    </a:lnTo>
                    <a:lnTo>
                      <a:pt x="2529" y="45"/>
                    </a:lnTo>
                    <a:lnTo>
                      <a:pt x="2511" y="91"/>
                    </a:lnTo>
                    <a:lnTo>
                      <a:pt x="2490" y="136"/>
                    </a:lnTo>
                    <a:lnTo>
                      <a:pt x="2470" y="181"/>
                    </a:lnTo>
                    <a:lnTo>
                      <a:pt x="2449" y="227"/>
                    </a:lnTo>
                    <a:lnTo>
                      <a:pt x="2427" y="274"/>
                    </a:lnTo>
                    <a:lnTo>
                      <a:pt x="2405" y="320"/>
                    </a:lnTo>
                    <a:lnTo>
                      <a:pt x="2381" y="366"/>
                    </a:lnTo>
                    <a:close/>
                  </a:path>
                </a:pathLst>
              </a:custGeom>
              <a:solidFill>
                <a:srgbClr val="e7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3720" y="2416320"/>
                <a:ext cx="660240" cy="96840"/>
              </a:xfrm>
              <a:custGeom>
                <a:avLst/>
                <a:gdLst/>
                <a:ahLst/>
                <a:rect l="l" t="t" r="r" b="b"/>
                <a:pathLst>
                  <a:path w="2496" h="366">
                    <a:moveTo>
                      <a:pt x="2354" y="366"/>
                    </a:moveTo>
                    <a:lnTo>
                      <a:pt x="0" y="366"/>
                    </a:lnTo>
                    <a:lnTo>
                      <a:pt x="30" y="315"/>
                    </a:lnTo>
                    <a:lnTo>
                      <a:pt x="57" y="264"/>
                    </a:lnTo>
                    <a:lnTo>
                      <a:pt x="82" y="217"/>
                    </a:lnTo>
                    <a:lnTo>
                      <a:pt x="105" y="169"/>
                    </a:lnTo>
                    <a:lnTo>
                      <a:pt x="125" y="125"/>
                    </a:lnTo>
                    <a:lnTo>
                      <a:pt x="142" y="81"/>
                    </a:lnTo>
                    <a:lnTo>
                      <a:pt x="157" y="41"/>
                    </a:lnTo>
                    <a:lnTo>
                      <a:pt x="170" y="0"/>
                    </a:lnTo>
                    <a:lnTo>
                      <a:pt x="2496" y="0"/>
                    </a:lnTo>
                    <a:lnTo>
                      <a:pt x="2481" y="46"/>
                    </a:lnTo>
                    <a:lnTo>
                      <a:pt x="2466" y="91"/>
                    </a:lnTo>
                    <a:lnTo>
                      <a:pt x="2449" y="136"/>
                    </a:lnTo>
                    <a:lnTo>
                      <a:pt x="2433" y="181"/>
                    </a:lnTo>
                    <a:lnTo>
                      <a:pt x="2415" y="227"/>
                    </a:lnTo>
                    <a:lnTo>
                      <a:pt x="2396" y="274"/>
                    </a:lnTo>
                    <a:lnTo>
                      <a:pt x="2375" y="320"/>
                    </a:lnTo>
                    <a:lnTo>
                      <a:pt x="2354" y="366"/>
                    </a:lnTo>
                    <a:close/>
                  </a:path>
                </a:pathLst>
              </a:custGeom>
              <a:solidFill>
                <a:srgbClr val="e8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6040" y="2367000"/>
                <a:ext cx="920520" cy="96840"/>
              </a:xfrm>
              <a:custGeom>
                <a:avLst/>
                <a:gdLst/>
                <a:ahLst/>
                <a:rect l="l" t="t" r="r" b="b"/>
                <a:pathLst>
                  <a:path w="3484" h="366">
                    <a:moveTo>
                      <a:pt x="3368" y="366"/>
                    </a:moveTo>
                    <a:lnTo>
                      <a:pt x="1035" y="366"/>
                    </a:lnTo>
                    <a:lnTo>
                      <a:pt x="1059" y="316"/>
                    </a:lnTo>
                    <a:lnTo>
                      <a:pt x="1078" y="268"/>
                    </a:lnTo>
                    <a:lnTo>
                      <a:pt x="1095" y="221"/>
                    </a:lnTo>
                    <a:lnTo>
                      <a:pt x="1109" y="177"/>
                    </a:lnTo>
                    <a:lnTo>
                      <a:pt x="1114" y="156"/>
                    </a:lnTo>
                    <a:lnTo>
                      <a:pt x="1119" y="136"/>
                    </a:lnTo>
                    <a:lnTo>
                      <a:pt x="1124" y="116"/>
                    </a:lnTo>
                    <a:lnTo>
                      <a:pt x="1128" y="95"/>
                    </a:lnTo>
                    <a:lnTo>
                      <a:pt x="1130" y="76"/>
                    </a:lnTo>
                    <a:lnTo>
                      <a:pt x="1131" y="59"/>
                    </a:lnTo>
                    <a:lnTo>
                      <a:pt x="1132" y="41"/>
                    </a:lnTo>
                    <a:lnTo>
                      <a:pt x="1134" y="24"/>
                    </a:lnTo>
                    <a:lnTo>
                      <a:pt x="1134" y="21"/>
                    </a:lnTo>
                    <a:lnTo>
                      <a:pt x="1134" y="18"/>
                    </a:lnTo>
                    <a:lnTo>
                      <a:pt x="1134" y="15"/>
                    </a:lnTo>
                    <a:lnTo>
                      <a:pt x="1134" y="12"/>
                    </a:lnTo>
                    <a:lnTo>
                      <a:pt x="1132" y="10"/>
                    </a:lnTo>
                    <a:lnTo>
                      <a:pt x="1132" y="6"/>
                    </a:lnTo>
                    <a:lnTo>
                      <a:pt x="1132" y="4"/>
                    </a:lnTo>
                    <a:lnTo>
                      <a:pt x="1132" y="0"/>
                    </a:lnTo>
                    <a:lnTo>
                      <a:pt x="3484" y="0"/>
                    </a:lnTo>
                    <a:lnTo>
                      <a:pt x="3473" y="46"/>
                    </a:lnTo>
                    <a:lnTo>
                      <a:pt x="3461" y="91"/>
                    </a:lnTo>
                    <a:lnTo>
                      <a:pt x="3448" y="136"/>
                    </a:lnTo>
                    <a:lnTo>
                      <a:pt x="3434" y="181"/>
                    </a:lnTo>
                    <a:lnTo>
                      <a:pt x="3418" y="227"/>
                    </a:lnTo>
                    <a:lnTo>
                      <a:pt x="3403" y="274"/>
                    </a:lnTo>
                    <a:lnTo>
                      <a:pt x="3386" y="320"/>
                    </a:lnTo>
                    <a:lnTo>
                      <a:pt x="3368" y="366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5" y="10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7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1120" y="2319480"/>
                <a:ext cx="966600" cy="96840"/>
              </a:xfrm>
              <a:custGeom>
                <a:avLst/>
                <a:gdLst/>
                <a:ahLst/>
                <a:rect l="l" t="t" r="r" b="b"/>
                <a:pathLst>
                  <a:path w="3654" h="366">
                    <a:moveTo>
                      <a:pt x="3566" y="366"/>
                    </a:moveTo>
                    <a:lnTo>
                      <a:pt x="1240" y="366"/>
                    </a:lnTo>
                    <a:lnTo>
                      <a:pt x="1246" y="345"/>
                    </a:lnTo>
                    <a:lnTo>
                      <a:pt x="1251" y="324"/>
                    </a:lnTo>
                    <a:lnTo>
                      <a:pt x="1256" y="302"/>
                    </a:lnTo>
                    <a:lnTo>
                      <a:pt x="1259" y="282"/>
                    </a:lnTo>
                    <a:lnTo>
                      <a:pt x="1263" y="262"/>
                    </a:lnTo>
                    <a:lnTo>
                      <a:pt x="1264" y="243"/>
                    </a:lnTo>
                    <a:lnTo>
                      <a:pt x="1265" y="225"/>
                    </a:lnTo>
                    <a:lnTo>
                      <a:pt x="1267" y="207"/>
                    </a:lnTo>
                    <a:lnTo>
                      <a:pt x="1265" y="177"/>
                    </a:lnTo>
                    <a:lnTo>
                      <a:pt x="1264" y="150"/>
                    </a:lnTo>
                    <a:lnTo>
                      <a:pt x="1261" y="123"/>
                    </a:lnTo>
                    <a:lnTo>
                      <a:pt x="1257" y="97"/>
                    </a:lnTo>
                    <a:lnTo>
                      <a:pt x="1252" y="72"/>
                    </a:lnTo>
                    <a:lnTo>
                      <a:pt x="1246" y="47"/>
                    </a:lnTo>
                    <a:lnTo>
                      <a:pt x="1239" y="23"/>
                    </a:lnTo>
                    <a:lnTo>
                      <a:pt x="1231" y="0"/>
                    </a:lnTo>
                    <a:lnTo>
                      <a:pt x="3654" y="0"/>
                    </a:lnTo>
                    <a:lnTo>
                      <a:pt x="3645" y="46"/>
                    </a:lnTo>
                    <a:lnTo>
                      <a:pt x="3637" y="91"/>
                    </a:lnTo>
                    <a:lnTo>
                      <a:pt x="3629" y="136"/>
                    </a:lnTo>
                    <a:lnTo>
                      <a:pt x="3618" y="181"/>
                    </a:lnTo>
                    <a:lnTo>
                      <a:pt x="3606" y="227"/>
                    </a:lnTo>
                    <a:lnTo>
                      <a:pt x="3594" y="274"/>
                    </a:lnTo>
                    <a:lnTo>
                      <a:pt x="3580" y="320"/>
                    </a:lnTo>
                    <a:lnTo>
                      <a:pt x="3566" y="366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290" y="24"/>
                    </a:lnTo>
                    <a:lnTo>
                      <a:pt x="267" y="47"/>
                    </a:lnTo>
                    <a:lnTo>
                      <a:pt x="246" y="72"/>
                    </a:lnTo>
                    <a:lnTo>
                      <a:pt x="226" y="97"/>
                    </a:lnTo>
                    <a:lnTo>
                      <a:pt x="206" y="123"/>
                    </a:lnTo>
                    <a:lnTo>
                      <a:pt x="187" y="150"/>
                    </a:lnTo>
                    <a:lnTo>
                      <a:pt x="168" y="177"/>
                    </a:lnTo>
                    <a:lnTo>
                      <a:pt x="15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7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56200" y="2270160"/>
                <a:ext cx="1006200" cy="96840"/>
              </a:xfrm>
              <a:custGeom>
                <a:avLst/>
                <a:gdLst/>
                <a:ahLst/>
                <a:rect l="l" t="t" r="r" b="b"/>
                <a:pathLst>
                  <a:path w="3805" h="365">
                    <a:moveTo>
                      <a:pt x="3749" y="365"/>
                    </a:moveTo>
                    <a:lnTo>
                      <a:pt x="1397" y="365"/>
                    </a:lnTo>
                    <a:lnTo>
                      <a:pt x="1396" y="342"/>
                    </a:lnTo>
                    <a:lnTo>
                      <a:pt x="1395" y="319"/>
                    </a:lnTo>
                    <a:lnTo>
                      <a:pt x="1393" y="297"/>
                    </a:lnTo>
                    <a:lnTo>
                      <a:pt x="1389" y="275"/>
                    </a:lnTo>
                    <a:lnTo>
                      <a:pt x="1384" y="254"/>
                    </a:lnTo>
                    <a:lnTo>
                      <a:pt x="1379" y="234"/>
                    </a:lnTo>
                    <a:lnTo>
                      <a:pt x="1374" y="213"/>
                    </a:lnTo>
                    <a:lnTo>
                      <a:pt x="1366" y="194"/>
                    </a:lnTo>
                    <a:lnTo>
                      <a:pt x="1359" y="175"/>
                    </a:lnTo>
                    <a:lnTo>
                      <a:pt x="1351" y="158"/>
                    </a:lnTo>
                    <a:lnTo>
                      <a:pt x="1343" y="140"/>
                    </a:lnTo>
                    <a:lnTo>
                      <a:pt x="1332" y="123"/>
                    </a:lnTo>
                    <a:lnTo>
                      <a:pt x="1322" y="106"/>
                    </a:lnTo>
                    <a:lnTo>
                      <a:pt x="1310" y="91"/>
                    </a:lnTo>
                    <a:lnTo>
                      <a:pt x="1299" y="77"/>
                    </a:lnTo>
                    <a:lnTo>
                      <a:pt x="1286" y="62"/>
                    </a:lnTo>
                    <a:lnTo>
                      <a:pt x="1277" y="53"/>
                    </a:lnTo>
                    <a:lnTo>
                      <a:pt x="1268" y="45"/>
                    </a:lnTo>
                    <a:lnTo>
                      <a:pt x="1258" y="36"/>
                    </a:lnTo>
                    <a:lnTo>
                      <a:pt x="1249" y="28"/>
                    </a:lnTo>
                    <a:lnTo>
                      <a:pt x="1239" y="21"/>
                    </a:lnTo>
                    <a:lnTo>
                      <a:pt x="1228" y="14"/>
                    </a:lnTo>
                    <a:lnTo>
                      <a:pt x="1218" y="7"/>
                    </a:lnTo>
                    <a:lnTo>
                      <a:pt x="1208" y="0"/>
                    </a:lnTo>
                    <a:lnTo>
                      <a:pt x="3805" y="0"/>
                    </a:lnTo>
                    <a:lnTo>
                      <a:pt x="3802" y="45"/>
                    </a:lnTo>
                    <a:lnTo>
                      <a:pt x="3798" y="89"/>
                    </a:lnTo>
                    <a:lnTo>
                      <a:pt x="3792" y="134"/>
                    </a:lnTo>
                    <a:lnTo>
                      <a:pt x="3786" y="180"/>
                    </a:lnTo>
                    <a:lnTo>
                      <a:pt x="3778" y="225"/>
                    </a:lnTo>
                    <a:lnTo>
                      <a:pt x="3769" y="272"/>
                    </a:lnTo>
                    <a:lnTo>
                      <a:pt x="3759" y="319"/>
                    </a:lnTo>
                    <a:lnTo>
                      <a:pt x="3749" y="365"/>
                    </a:lnTo>
                    <a:close/>
                    <a:moveTo>
                      <a:pt x="296" y="365"/>
                    </a:moveTo>
                    <a:lnTo>
                      <a:pt x="265" y="365"/>
                    </a:lnTo>
                    <a:lnTo>
                      <a:pt x="0" y="0"/>
                    </a:lnTo>
                    <a:lnTo>
                      <a:pt x="711" y="0"/>
                    </a:lnTo>
                    <a:lnTo>
                      <a:pt x="697" y="7"/>
                    </a:lnTo>
                    <a:lnTo>
                      <a:pt x="681" y="14"/>
                    </a:lnTo>
                    <a:lnTo>
                      <a:pt x="666" y="22"/>
                    </a:lnTo>
                    <a:lnTo>
                      <a:pt x="650" y="30"/>
                    </a:lnTo>
                    <a:lnTo>
                      <a:pt x="635" y="39"/>
                    </a:lnTo>
                    <a:lnTo>
                      <a:pt x="621" y="47"/>
                    </a:lnTo>
                    <a:lnTo>
                      <a:pt x="605" y="57"/>
                    </a:lnTo>
                    <a:lnTo>
                      <a:pt x="590" y="66"/>
                    </a:lnTo>
                    <a:lnTo>
                      <a:pt x="568" y="80"/>
                    </a:lnTo>
                    <a:lnTo>
                      <a:pt x="547" y="96"/>
                    </a:lnTo>
                    <a:lnTo>
                      <a:pt x="527" y="111"/>
                    </a:lnTo>
                    <a:lnTo>
                      <a:pt x="506" y="128"/>
                    </a:lnTo>
                    <a:lnTo>
                      <a:pt x="486" y="144"/>
                    </a:lnTo>
                    <a:lnTo>
                      <a:pt x="466" y="162"/>
                    </a:lnTo>
                    <a:lnTo>
                      <a:pt x="447" y="180"/>
                    </a:lnTo>
                    <a:lnTo>
                      <a:pt x="429" y="198"/>
                    </a:lnTo>
                    <a:lnTo>
                      <a:pt x="410" y="217"/>
                    </a:lnTo>
                    <a:lnTo>
                      <a:pt x="392" y="237"/>
                    </a:lnTo>
                    <a:lnTo>
                      <a:pt x="376" y="256"/>
                    </a:lnTo>
                    <a:lnTo>
                      <a:pt x="359" y="278"/>
                    </a:lnTo>
                    <a:lnTo>
                      <a:pt x="342" y="299"/>
                    </a:lnTo>
                    <a:lnTo>
                      <a:pt x="326" y="320"/>
                    </a:lnTo>
                    <a:lnTo>
                      <a:pt x="310" y="343"/>
                    </a:lnTo>
                    <a:lnTo>
                      <a:pt x="296" y="365"/>
                    </a:lnTo>
                    <a:close/>
                  </a:path>
                </a:pathLst>
              </a:custGeom>
              <a:solidFill>
                <a:srgbClr val="ea8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9480" y="2222640"/>
                <a:ext cx="1042920" cy="96840"/>
              </a:xfrm>
              <a:custGeom>
                <a:avLst/>
                <a:gdLst/>
                <a:ahLst/>
                <a:rect l="l" t="t" r="r" b="b"/>
                <a:pathLst>
                  <a:path w="3941" h="365">
                    <a:moveTo>
                      <a:pt x="3919" y="365"/>
                    </a:moveTo>
                    <a:lnTo>
                      <a:pt x="1496" y="365"/>
                    </a:lnTo>
                    <a:lnTo>
                      <a:pt x="1489" y="349"/>
                    </a:lnTo>
                    <a:lnTo>
                      <a:pt x="1480" y="332"/>
                    </a:lnTo>
                    <a:lnTo>
                      <a:pt x="1472" y="317"/>
                    </a:lnTo>
                    <a:lnTo>
                      <a:pt x="1463" y="301"/>
                    </a:lnTo>
                    <a:lnTo>
                      <a:pt x="1453" y="286"/>
                    </a:lnTo>
                    <a:lnTo>
                      <a:pt x="1442" y="272"/>
                    </a:lnTo>
                    <a:lnTo>
                      <a:pt x="1430" y="259"/>
                    </a:lnTo>
                    <a:lnTo>
                      <a:pt x="1419" y="245"/>
                    </a:lnTo>
                    <a:lnTo>
                      <a:pt x="1404" y="230"/>
                    </a:lnTo>
                    <a:lnTo>
                      <a:pt x="1389" y="217"/>
                    </a:lnTo>
                    <a:lnTo>
                      <a:pt x="1373" y="205"/>
                    </a:lnTo>
                    <a:lnTo>
                      <a:pt x="1357" y="193"/>
                    </a:lnTo>
                    <a:lnTo>
                      <a:pt x="1340" y="183"/>
                    </a:lnTo>
                    <a:lnTo>
                      <a:pt x="1322" y="173"/>
                    </a:lnTo>
                    <a:lnTo>
                      <a:pt x="1303" y="164"/>
                    </a:lnTo>
                    <a:lnTo>
                      <a:pt x="1284" y="156"/>
                    </a:lnTo>
                    <a:lnTo>
                      <a:pt x="1264" y="149"/>
                    </a:lnTo>
                    <a:lnTo>
                      <a:pt x="1244" y="143"/>
                    </a:lnTo>
                    <a:lnTo>
                      <a:pt x="1222" y="137"/>
                    </a:lnTo>
                    <a:lnTo>
                      <a:pt x="1200" y="134"/>
                    </a:lnTo>
                    <a:lnTo>
                      <a:pt x="1177" y="130"/>
                    </a:lnTo>
                    <a:lnTo>
                      <a:pt x="1153" y="128"/>
                    </a:lnTo>
                    <a:lnTo>
                      <a:pt x="1129" y="127"/>
                    </a:lnTo>
                    <a:lnTo>
                      <a:pt x="1105" y="127"/>
                    </a:lnTo>
                    <a:lnTo>
                      <a:pt x="1080" y="127"/>
                    </a:lnTo>
                    <a:lnTo>
                      <a:pt x="1056" y="128"/>
                    </a:lnTo>
                    <a:lnTo>
                      <a:pt x="1032" y="130"/>
                    </a:lnTo>
                    <a:lnTo>
                      <a:pt x="1007" y="134"/>
                    </a:lnTo>
                    <a:lnTo>
                      <a:pt x="983" y="139"/>
                    </a:lnTo>
                    <a:lnTo>
                      <a:pt x="959" y="143"/>
                    </a:lnTo>
                    <a:lnTo>
                      <a:pt x="936" y="150"/>
                    </a:lnTo>
                    <a:lnTo>
                      <a:pt x="912" y="158"/>
                    </a:lnTo>
                    <a:lnTo>
                      <a:pt x="888" y="166"/>
                    </a:lnTo>
                    <a:lnTo>
                      <a:pt x="864" y="174"/>
                    </a:lnTo>
                    <a:lnTo>
                      <a:pt x="840" y="185"/>
                    </a:lnTo>
                    <a:lnTo>
                      <a:pt x="817" y="196"/>
                    </a:lnTo>
                    <a:lnTo>
                      <a:pt x="793" y="207"/>
                    </a:lnTo>
                    <a:lnTo>
                      <a:pt x="770" y="221"/>
                    </a:lnTo>
                    <a:lnTo>
                      <a:pt x="747" y="235"/>
                    </a:lnTo>
                    <a:lnTo>
                      <a:pt x="723" y="249"/>
                    </a:lnTo>
                    <a:lnTo>
                      <a:pt x="704" y="262"/>
                    </a:lnTo>
                    <a:lnTo>
                      <a:pt x="685" y="275"/>
                    </a:lnTo>
                    <a:lnTo>
                      <a:pt x="666" y="289"/>
                    </a:lnTo>
                    <a:lnTo>
                      <a:pt x="648" y="304"/>
                    </a:lnTo>
                    <a:lnTo>
                      <a:pt x="629" y="319"/>
                    </a:lnTo>
                    <a:lnTo>
                      <a:pt x="612" y="335"/>
                    </a:lnTo>
                    <a:lnTo>
                      <a:pt x="594" y="350"/>
                    </a:lnTo>
                    <a:lnTo>
                      <a:pt x="578" y="365"/>
                    </a:lnTo>
                    <a:lnTo>
                      <a:pt x="265" y="365"/>
                    </a:lnTo>
                    <a:lnTo>
                      <a:pt x="0" y="0"/>
                    </a:lnTo>
                    <a:lnTo>
                      <a:pt x="3940" y="0"/>
                    </a:lnTo>
                    <a:lnTo>
                      <a:pt x="3940" y="9"/>
                    </a:lnTo>
                    <a:lnTo>
                      <a:pt x="3940" y="19"/>
                    </a:lnTo>
                    <a:lnTo>
                      <a:pt x="3941" y="28"/>
                    </a:lnTo>
                    <a:lnTo>
                      <a:pt x="3941" y="38"/>
                    </a:lnTo>
                    <a:lnTo>
                      <a:pt x="3941" y="47"/>
                    </a:lnTo>
                    <a:lnTo>
                      <a:pt x="3941" y="58"/>
                    </a:lnTo>
                    <a:lnTo>
                      <a:pt x="3941" y="67"/>
                    </a:lnTo>
                    <a:lnTo>
                      <a:pt x="3941" y="77"/>
                    </a:lnTo>
                    <a:lnTo>
                      <a:pt x="3941" y="111"/>
                    </a:lnTo>
                    <a:lnTo>
                      <a:pt x="3940" y="147"/>
                    </a:lnTo>
                    <a:lnTo>
                      <a:pt x="3938" y="183"/>
                    </a:lnTo>
                    <a:lnTo>
                      <a:pt x="3935" y="219"/>
                    </a:lnTo>
                    <a:lnTo>
                      <a:pt x="3932" y="255"/>
                    </a:lnTo>
                    <a:lnTo>
                      <a:pt x="3928" y="292"/>
                    </a:lnTo>
                    <a:lnTo>
                      <a:pt x="3923" y="329"/>
                    </a:lnTo>
                    <a:lnTo>
                      <a:pt x="3919" y="365"/>
                    </a:lnTo>
                    <a:close/>
                  </a:path>
                </a:pathLst>
              </a:custGeom>
              <a:solidFill>
                <a:srgbClr val="eb8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84560" y="2173320"/>
                <a:ext cx="1077840" cy="96840"/>
              </a:xfrm>
              <a:custGeom>
                <a:avLst/>
                <a:gdLst/>
                <a:ahLst/>
                <a:rect l="l" t="t" r="r" b="b"/>
                <a:pathLst>
                  <a:path w="4075" h="366">
                    <a:moveTo>
                      <a:pt x="4072" y="366"/>
                    </a:moveTo>
                    <a:lnTo>
                      <a:pt x="1475" y="366"/>
                    </a:lnTo>
                    <a:lnTo>
                      <a:pt x="1450" y="352"/>
                    </a:lnTo>
                    <a:lnTo>
                      <a:pt x="1424" y="342"/>
                    </a:lnTo>
                    <a:lnTo>
                      <a:pt x="1397" y="331"/>
                    </a:lnTo>
                    <a:lnTo>
                      <a:pt x="1367" y="324"/>
                    </a:lnTo>
                    <a:lnTo>
                      <a:pt x="1337" y="317"/>
                    </a:lnTo>
                    <a:lnTo>
                      <a:pt x="1305" y="313"/>
                    </a:lnTo>
                    <a:lnTo>
                      <a:pt x="1272" y="310"/>
                    </a:lnTo>
                    <a:lnTo>
                      <a:pt x="1239" y="310"/>
                    </a:lnTo>
                    <a:lnTo>
                      <a:pt x="1205" y="310"/>
                    </a:lnTo>
                    <a:lnTo>
                      <a:pt x="1173" y="313"/>
                    </a:lnTo>
                    <a:lnTo>
                      <a:pt x="1140" y="317"/>
                    </a:lnTo>
                    <a:lnTo>
                      <a:pt x="1108" y="324"/>
                    </a:lnTo>
                    <a:lnTo>
                      <a:pt x="1076" y="331"/>
                    </a:lnTo>
                    <a:lnTo>
                      <a:pt x="1043" y="342"/>
                    </a:lnTo>
                    <a:lnTo>
                      <a:pt x="1010" y="352"/>
                    </a:lnTo>
                    <a:lnTo>
                      <a:pt x="978" y="366"/>
                    </a:lnTo>
                    <a:lnTo>
                      <a:pt x="267" y="366"/>
                    </a:lnTo>
                    <a:lnTo>
                      <a:pt x="0" y="0"/>
                    </a:lnTo>
                    <a:lnTo>
                      <a:pt x="4063" y="0"/>
                    </a:lnTo>
                    <a:lnTo>
                      <a:pt x="4066" y="32"/>
                    </a:lnTo>
                    <a:lnTo>
                      <a:pt x="4068" y="64"/>
                    </a:lnTo>
                    <a:lnTo>
                      <a:pt x="4070" y="96"/>
                    </a:lnTo>
                    <a:lnTo>
                      <a:pt x="4072" y="128"/>
                    </a:lnTo>
                    <a:lnTo>
                      <a:pt x="4074" y="161"/>
                    </a:lnTo>
                    <a:lnTo>
                      <a:pt x="4074" y="193"/>
                    </a:lnTo>
                    <a:lnTo>
                      <a:pt x="4075" y="227"/>
                    </a:lnTo>
                    <a:lnTo>
                      <a:pt x="4075" y="260"/>
                    </a:lnTo>
                    <a:lnTo>
                      <a:pt x="4075" y="273"/>
                    </a:lnTo>
                    <a:lnTo>
                      <a:pt x="4075" y="286"/>
                    </a:lnTo>
                    <a:lnTo>
                      <a:pt x="4075" y="299"/>
                    </a:lnTo>
                    <a:lnTo>
                      <a:pt x="4074" y="312"/>
                    </a:lnTo>
                    <a:lnTo>
                      <a:pt x="4074" y="326"/>
                    </a:lnTo>
                    <a:lnTo>
                      <a:pt x="4073" y="339"/>
                    </a:lnTo>
                    <a:lnTo>
                      <a:pt x="4073" y="352"/>
                    </a:lnTo>
                    <a:lnTo>
                      <a:pt x="4072" y="366"/>
                    </a:lnTo>
                    <a:close/>
                  </a:path>
                </a:pathLst>
              </a:custGeom>
              <a:solidFill>
                <a:srgbClr val="ec8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9640" y="2125800"/>
                <a:ext cx="1112760" cy="96840"/>
              </a:xfrm>
              <a:custGeom>
                <a:avLst/>
                <a:gdLst/>
                <a:ahLst/>
                <a:rect l="l" t="t" r="r" b="b"/>
                <a:pathLst>
                  <a:path w="4207" h="366">
                    <a:moveTo>
                      <a:pt x="4207" y="366"/>
                    </a:moveTo>
                    <a:lnTo>
                      <a:pt x="267" y="366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180" y="45"/>
                    </a:lnTo>
                    <a:lnTo>
                      <a:pt x="4186" y="89"/>
                    </a:lnTo>
                    <a:lnTo>
                      <a:pt x="4192" y="134"/>
                    </a:lnTo>
                    <a:lnTo>
                      <a:pt x="4196" y="180"/>
                    </a:lnTo>
                    <a:lnTo>
                      <a:pt x="4200" y="225"/>
                    </a:lnTo>
                    <a:lnTo>
                      <a:pt x="4203" y="272"/>
                    </a:lnTo>
                    <a:lnTo>
                      <a:pt x="4206" y="319"/>
                    </a:lnTo>
                    <a:lnTo>
                      <a:pt x="4207" y="366"/>
                    </a:lnTo>
                    <a:close/>
                  </a:path>
                </a:pathLst>
              </a:custGeom>
              <a:solidFill>
                <a:srgbClr val="ed9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4720" y="2076480"/>
                <a:ext cx="1144800" cy="96840"/>
              </a:xfrm>
              <a:custGeom>
                <a:avLst/>
                <a:gdLst/>
                <a:ahLst/>
                <a:rect l="l" t="t" r="r" b="b"/>
                <a:pathLst>
                  <a:path w="4328" h="366">
                    <a:moveTo>
                      <a:pt x="432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265" y="0"/>
                    </a:lnTo>
                    <a:lnTo>
                      <a:pt x="4276" y="45"/>
                    </a:lnTo>
                    <a:lnTo>
                      <a:pt x="4287" y="89"/>
                    </a:lnTo>
                    <a:lnTo>
                      <a:pt x="4295" y="134"/>
                    </a:lnTo>
                    <a:lnTo>
                      <a:pt x="4303" y="179"/>
                    </a:lnTo>
                    <a:lnTo>
                      <a:pt x="4310" y="225"/>
                    </a:lnTo>
                    <a:lnTo>
                      <a:pt x="4318" y="272"/>
                    </a:lnTo>
                    <a:lnTo>
                      <a:pt x="4324" y="319"/>
                    </a:lnTo>
                    <a:lnTo>
                      <a:pt x="4328" y="366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9800" y="2028960"/>
                <a:ext cx="1173240" cy="96840"/>
              </a:xfrm>
              <a:custGeom>
                <a:avLst/>
                <a:gdLst/>
                <a:ahLst/>
                <a:rect l="l" t="t" r="r" b="b"/>
                <a:pathLst>
                  <a:path w="4438" h="366">
                    <a:moveTo>
                      <a:pt x="443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344" y="0"/>
                    </a:lnTo>
                    <a:lnTo>
                      <a:pt x="4359" y="44"/>
                    </a:lnTo>
                    <a:lnTo>
                      <a:pt x="4372" y="89"/>
                    </a:lnTo>
                    <a:lnTo>
                      <a:pt x="4385" y="134"/>
                    </a:lnTo>
                    <a:lnTo>
                      <a:pt x="4398" y="179"/>
                    </a:lnTo>
                    <a:lnTo>
                      <a:pt x="4409" y="225"/>
                    </a:lnTo>
                    <a:lnTo>
                      <a:pt x="4420" y="272"/>
                    </a:lnTo>
                    <a:lnTo>
                      <a:pt x="4429" y="318"/>
                    </a:lnTo>
                    <a:lnTo>
                      <a:pt x="4438" y="366"/>
                    </a:lnTo>
                    <a:close/>
                  </a:path>
                </a:pathLst>
              </a:custGeom>
              <a:solidFill>
                <a:srgbClr val="f0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67200" y="1979640"/>
                <a:ext cx="1176480" cy="96840"/>
              </a:xfrm>
              <a:custGeom>
                <a:avLst/>
                <a:gdLst/>
                <a:ahLst/>
                <a:rect l="l" t="t" r="r" b="b"/>
                <a:pathLst>
                  <a:path w="4447" h="366">
                    <a:moveTo>
                      <a:pt x="4447" y="366"/>
                    </a:moveTo>
                    <a:lnTo>
                      <a:pt x="182" y="366"/>
                    </a:lnTo>
                    <a:lnTo>
                      <a:pt x="0" y="115"/>
                    </a:lnTo>
                    <a:lnTo>
                      <a:pt x="10" y="101"/>
                    </a:lnTo>
                    <a:lnTo>
                      <a:pt x="18" y="87"/>
                    </a:lnTo>
                    <a:lnTo>
                      <a:pt x="27" y="71"/>
                    </a:lnTo>
                    <a:lnTo>
                      <a:pt x="37" y="57"/>
                    </a:lnTo>
                    <a:lnTo>
                      <a:pt x="47" y="43"/>
                    </a:lnTo>
                    <a:lnTo>
                      <a:pt x="56" y="28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4320" y="0"/>
                    </a:lnTo>
                    <a:lnTo>
                      <a:pt x="4339" y="44"/>
                    </a:lnTo>
                    <a:lnTo>
                      <a:pt x="4357" y="89"/>
                    </a:lnTo>
                    <a:lnTo>
                      <a:pt x="4375" y="134"/>
                    </a:lnTo>
                    <a:lnTo>
                      <a:pt x="4391" y="179"/>
                    </a:lnTo>
                    <a:lnTo>
                      <a:pt x="4407" y="226"/>
                    </a:lnTo>
                    <a:lnTo>
                      <a:pt x="4421" y="272"/>
                    </a:lnTo>
                    <a:lnTo>
                      <a:pt x="4435" y="318"/>
                    </a:lnTo>
                    <a:lnTo>
                      <a:pt x="4447" y="366"/>
                    </a:lnTo>
                    <a:close/>
                  </a:path>
                </a:pathLst>
              </a:custGeom>
              <a:solidFill>
                <a:srgbClr val="f1a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7200" y="1932120"/>
                <a:ext cx="1162080" cy="96840"/>
              </a:xfrm>
              <a:custGeom>
                <a:avLst/>
                <a:gdLst/>
                <a:ahLst/>
                <a:rect l="l" t="t" r="r" b="b"/>
                <a:pathLst>
                  <a:path w="4393" h="366">
                    <a:moveTo>
                      <a:pt x="4393" y="366"/>
                    </a:moveTo>
                    <a:lnTo>
                      <a:pt x="49" y="366"/>
                    </a:lnTo>
                    <a:lnTo>
                      <a:pt x="0" y="298"/>
                    </a:lnTo>
                    <a:lnTo>
                      <a:pt x="25" y="259"/>
                    </a:lnTo>
                    <a:lnTo>
                      <a:pt x="50" y="221"/>
                    </a:lnTo>
                    <a:lnTo>
                      <a:pt x="76" y="183"/>
                    </a:lnTo>
                    <a:lnTo>
                      <a:pt x="101" y="145"/>
                    </a:lnTo>
                    <a:lnTo>
                      <a:pt x="127" y="108"/>
                    </a:lnTo>
                    <a:lnTo>
                      <a:pt x="154" y="71"/>
                    </a:lnTo>
                    <a:lnTo>
                      <a:pt x="180" y="36"/>
                    </a:lnTo>
                    <a:lnTo>
                      <a:pt x="207" y="0"/>
                    </a:lnTo>
                    <a:lnTo>
                      <a:pt x="4225" y="0"/>
                    </a:lnTo>
                    <a:lnTo>
                      <a:pt x="4250" y="44"/>
                    </a:lnTo>
                    <a:lnTo>
                      <a:pt x="4274" y="89"/>
                    </a:lnTo>
                    <a:lnTo>
                      <a:pt x="4296" y="133"/>
                    </a:lnTo>
                    <a:lnTo>
                      <a:pt x="4318" y="179"/>
                    </a:lnTo>
                    <a:lnTo>
                      <a:pt x="4338" y="224"/>
                    </a:lnTo>
                    <a:lnTo>
                      <a:pt x="4357" y="272"/>
                    </a:lnTo>
                    <a:lnTo>
                      <a:pt x="4376" y="318"/>
                    </a:lnTo>
                    <a:lnTo>
                      <a:pt x="4393" y="366"/>
                    </a:lnTo>
                    <a:close/>
                  </a:path>
                </a:pathLst>
              </a:custGeom>
              <a:solidFill>
                <a:srgbClr val="f2a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6280" y="1882800"/>
                <a:ext cx="1123920" cy="96840"/>
              </a:xfrm>
              <a:custGeom>
                <a:avLst/>
                <a:gdLst/>
                <a:ahLst/>
                <a:rect l="l" t="t" r="r" b="b"/>
                <a:pathLst>
                  <a:path w="4245" h="366">
                    <a:moveTo>
                      <a:pt x="4245" y="366"/>
                    </a:moveTo>
                    <a:lnTo>
                      <a:pt x="0" y="366"/>
                    </a:lnTo>
                    <a:lnTo>
                      <a:pt x="35" y="317"/>
                    </a:lnTo>
                    <a:lnTo>
                      <a:pt x="68" y="268"/>
                    </a:lnTo>
                    <a:lnTo>
                      <a:pt x="102" y="222"/>
                    </a:lnTo>
                    <a:lnTo>
                      <a:pt x="138" y="176"/>
                    </a:lnTo>
                    <a:lnTo>
                      <a:pt x="173" y="131"/>
                    </a:lnTo>
                    <a:lnTo>
                      <a:pt x="208" y="85"/>
                    </a:lnTo>
                    <a:lnTo>
                      <a:pt x="245" y="43"/>
                    </a:lnTo>
                    <a:lnTo>
                      <a:pt x="281" y="0"/>
                    </a:lnTo>
                    <a:lnTo>
                      <a:pt x="4031" y="0"/>
                    </a:lnTo>
                    <a:lnTo>
                      <a:pt x="4062" y="44"/>
                    </a:lnTo>
                    <a:lnTo>
                      <a:pt x="4092" y="88"/>
                    </a:lnTo>
                    <a:lnTo>
                      <a:pt x="4120" y="133"/>
                    </a:lnTo>
                    <a:lnTo>
                      <a:pt x="4148" y="178"/>
                    </a:lnTo>
                    <a:lnTo>
                      <a:pt x="4174" y="224"/>
                    </a:lnTo>
                    <a:lnTo>
                      <a:pt x="4199" y="271"/>
                    </a:lnTo>
                    <a:lnTo>
                      <a:pt x="4222" y="318"/>
                    </a:lnTo>
                    <a:lnTo>
                      <a:pt x="4245" y="366"/>
                    </a:lnTo>
                    <a:close/>
                  </a:path>
                </a:pathLst>
              </a:custGeom>
              <a:solidFill>
                <a:srgbClr val="f4b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21200" y="1835280"/>
                <a:ext cx="1063440" cy="96840"/>
              </a:xfrm>
              <a:custGeom>
                <a:avLst/>
                <a:gdLst/>
                <a:ahLst/>
                <a:rect l="l" t="t" r="r" b="b"/>
                <a:pathLst>
                  <a:path w="4018" h="366">
                    <a:moveTo>
                      <a:pt x="4018" y="366"/>
                    </a:moveTo>
                    <a:lnTo>
                      <a:pt x="0" y="366"/>
                    </a:lnTo>
                    <a:lnTo>
                      <a:pt x="38" y="316"/>
                    </a:lnTo>
                    <a:lnTo>
                      <a:pt x="77" y="267"/>
                    </a:lnTo>
                    <a:lnTo>
                      <a:pt x="117" y="221"/>
                    </a:lnTo>
                    <a:lnTo>
                      <a:pt x="157" y="175"/>
                    </a:lnTo>
                    <a:lnTo>
                      <a:pt x="198" y="129"/>
                    </a:lnTo>
                    <a:lnTo>
                      <a:pt x="238" y="84"/>
                    </a:lnTo>
                    <a:lnTo>
                      <a:pt x="280" y="42"/>
                    </a:lnTo>
                    <a:lnTo>
                      <a:pt x="321" y="0"/>
                    </a:lnTo>
                    <a:lnTo>
                      <a:pt x="3751" y="0"/>
                    </a:lnTo>
                    <a:lnTo>
                      <a:pt x="3790" y="44"/>
                    </a:lnTo>
                    <a:lnTo>
                      <a:pt x="3826" y="88"/>
                    </a:lnTo>
                    <a:lnTo>
                      <a:pt x="3861" y="133"/>
                    </a:lnTo>
                    <a:lnTo>
                      <a:pt x="3895" y="178"/>
                    </a:lnTo>
                    <a:lnTo>
                      <a:pt x="3927" y="224"/>
                    </a:lnTo>
                    <a:lnTo>
                      <a:pt x="3960" y="271"/>
                    </a:lnTo>
                    <a:lnTo>
                      <a:pt x="3989" y="318"/>
                    </a:lnTo>
                    <a:lnTo>
                      <a:pt x="4018" y="366"/>
                    </a:lnTo>
                    <a:close/>
                  </a:path>
                </a:pathLst>
              </a:custGeom>
              <a:solidFill>
                <a:srgbClr val="f5c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60800" y="1785960"/>
                <a:ext cx="992160" cy="96840"/>
              </a:xfrm>
              <a:custGeom>
                <a:avLst/>
                <a:gdLst/>
                <a:ahLst/>
                <a:rect l="l" t="t" r="r" b="b"/>
                <a:pathLst>
                  <a:path w="3750" h="366">
                    <a:moveTo>
                      <a:pt x="3750" y="366"/>
                    </a:moveTo>
                    <a:lnTo>
                      <a:pt x="0" y="366"/>
                    </a:lnTo>
                    <a:lnTo>
                      <a:pt x="45" y="316"/>
                    </a:lnTo>
                    <a:lnTo>
                      <a:pt x="90" y="266"/>
                    </a:lnTo>
                    <a:lnTo>
                      <a:pt x="137" y="219"/>
                    </a:lnTo>
                    <a:lnTo>
                      <a:pt x="184" y="172"/>
                    </a:lnTo>
                    <a:lnTo>
                      <a:pt x="231" y="127"/>
                    </a:lnTo>
                    <a:lnTo>
                      <a:pt x="279" y="83"/>
                    </a:lnTo>
                    <a:lnTo>
                      <a:pt x="327" y="42"/>
                    </a:lnTo>
                    <a:lnTo>
                      <a:pt x="376" y="0"/>
                    </a:lnTo>
                    <a:lnTo>
                      <a:pt x="3419" y="0"/>
                    </a:lnTo>
                    <a:lnTo>
                      <a:pt x="3432" y="12"/>
                    </a:lnTo>
                    <a:lnTo>
                      <a:pt x="3445" y="25"/>
                    </a:lnTo>
                    <a:lnTo>
                      <a:pt x="3460" y="37"/>
                    </a:lnTo>
                    <a:lnTo>
                      <a:pt x="3473" y="50"/>
                    </a:lnTo>
                    <a:lnTo>
                      <a:pt x="3486" y="62"/>
                    </a:lnTo>
                    <a:lnTo>
                      <a:pt x="3499" y="75"/>
                    </a:lnTo>
                    <a:lnTo>
                      <a:pt x="3512" y="88"/>
                    </a:lnTo>
                    <a:lnTo>
                      <a:pt x="3525" y="101"/>
                    </a:lnTo>
                    <a:lnTo>
                      <a:pt x="3556" y="132"/>
                    </a:lnTo>
                    <a:lnTo>
                      <a:pt x="3586" y="165"/>
                    </a:lnTo>
                    <a:lnTo>
                      <a:pt x="3614" y="197"/>
                    </a:lnTo>
                    <a:lnTo>
                      <a:pt x="3643" y="230"/>
                    </a:lnTo>
                    <a:lnTo>
                      <a:pt x="3671" y="264"/>
                    </a:lnTo>
                    <a:lnTo>
                      <a:pt x="3699" y="297"/>
                    </a:lnTo>
                    <a:lnTo>
                      <a:pt x="3725" y="331"/>
                    </a:lnTo>
                    <a:lnTo>
                      <a:pt x="3750" y="366"/>
                    </a:lnTo>
                    <a:close/>
                  </a:path>
                </a:pathLst>
              </a:custGeom>
              <a:solidFill>
                <a:srgbClr val="f7c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6880" y="1738440"/>
                <a:ext cx="906480" cy="96840"/>
              </a:xfrm>
              <a:custGeom>
                <a:avLst/>
                <a:gdLst/>
                <a:ahLst/>
                <a:rect l="l" t="t" r="r" b="b"/>
                <a:pathLst>
                  <a:path w="3430" h="366">
                    <a:moveTo>
                      <a:pt x="3430" y="366"/>
                    </a:moveTo>
                    <a:lnTo>
                      <a:pt x="0" y="366"/>
                    </a:lnTo>
                    <a:lnTo>
                      <a:pt x="55" y="314"/>
                    </a:lnTo>
                    <a:lnTo>
                      <a:pt x="110" y="264"/>
                    </a:lnTo>
                    <a:lnTo>
                      <a:pt x="167" y="215"/>
                    </a:lnTo>
                    <a:lnTo>
                      <a:pt x="223" y="168"/>
                    </a:lnTo>
                    <a:lnTo>
                      <a:pt x="281" y="124"/>
                    </a:lnTo>
                    <a:lnTo>
                      <a:pt x="339" y="81"/>
                    </a:lnTo>
                    <a:lnTo>
                      <a:pt x="399" y="39"/>
                    </a:lnTo>
                    <a:lnTo>
                      <a:pt x="458" y="0"/>
                    </a:lnTo>
                    <a:lnTo>
                      <a:pt x="3013" y="0"/>
                    </a:lnTo>
                    <a:lnTo>
                      <a:pt x="3057" y="31"/>
                    </a:lnTo>
                    <a:lnTo>
                      <a:pt x="3102" y="63"/>
                    </a:lnTo>
                    <a:lnTo>
                      <a:pt x="3145" y="97"/>
                    </a:lnTo>
                    <a:lnTo>
                      <a:pt x="3188" y="132"/>
                    </a:lnTo>
                    <a:lnTo>
                      <a:pt x="3229" y="168"/>
                    </a:lnTo>
                    <a:lnTo>
                      <a:pt x="3271" y="206"/>
                    </a:lnTo>
                    <a:lnTo>
                      <a:pt x="3313" y="244"/>
                    </a:lnTo>
                    <a:lnTo>
                      <a:pt x="3353" y="284"/>
                    </a:lnTo>
                    <a:lnTo>
                      <a:pt x="3363" y="293"/>
                    </a:lnTo>
                    <a:lnTo>
                      <a:pt x="3372" y="304"/>
                    </a:lnTo>
                    <a:lnTo>
                      <a:pt x="3383" y="314"/>
                    </a:lnTo>
                    <a:lnTo>
                      <a:pt x="3392" y="324"/>
                    </a:lnTo>
                    <a:lnTo>
                      <a:pt x="3402" y="335"/>
                    </a:lnTo>
                    <a:lnTo>
                      <a:pt x="3411" y="346"/>
                    </a:lnTo>
                    <a:lnTo>
                      <a:pt x="3421" y="355"/>
                    </a:lnTo>
                    <a:lnTo>
                      <a:pt x="3430" y="366"/>
                    </a:lnTo>
                    <a:close/>
                  </a:path>
                </a:pathLst>
              </a:custGeom>
              <a:solidFill>
                <a:srgbClr val="f9d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0880" y="1689120"/>
                <a:ext cx="804960" cy="96840"/>
              </a:xfrm>
              <a:custGeom>
                <a:avLst/>
                <a:gdLst/>
                <a:ahLst/>
                <a:rect l="l" t="t" r="r" b="b"/>
                <a:pathLst>
                  <a:path w="3043" h="366">
                    <a:moveTo>
                      <a:pt x="3043" y="366"/>
                    </a:moveTo>
                    <a:lnTo>
                      <a:pt x="0" y="366"/>
                    </a:lnTo>
                    <a:lnTo>
                      <a:pt x="34" y="339"/>
                    </a:lnTo>
                    <a:lnTo>
                      <a:pt x="69" y="313"/>
                    </a:lnTo>
                    <a:lnTo>
                      <a:pt x="103" y="286"/>
                    </a:lnTo>
                    <a:lnTo>
                      <a:pt x="138" y="261"/>
                    </a:lnTo>
                    <a:lnTo>
                      <a:pt x="173" y="237"/>
                    </a:lnTo>
                    <a:lnTo>
                      <a:pt x="209" y="213"/>
                    </a:lnTo>
                    <a:lnTo>
                      <a:pt x="245" y="189"/>
                    </a:lnTo>
                    <a:lnTo>
                      <a:pt x="280" y="166"/>
                    </a:lnTo>
                    <a:lnTo>
                      <a:pt x="320" y="143"/>
                    </a:lnTo>
                    <a:lnTo>
                      <a:pt x="360" y="120"/>
                    </a:lnTo>
                    <a:lnTo>
                      <a:pt x="400" y="99"/>
                    </a:lnTo>
                    <a:lnTo>
                      <a:pt x="441" y="77"/>
                    </a:lnTo>
                    <a:lnTo>
                      <a:pt x="483" y="57"/>
                    </a:lnTo>
                    <a:lnTo>
                      <a:pt x="523" y="37"/>
                    </a:lnTo>
                    <a:lnTo>
                      <a:pt x="565" y="18"/>
                    </a:lnTo>
                    <a:lnTo>
                      <a:pt x="606" y="0"/>
                    </a:lnTo>
                    <a:lnTo>
                      <a:pt x="2475" y="0"/>
                    </a:lnTo>
                    <a:lnTo>
                      <a:pt x="2513" y="18"/>
                    </a:lnTo>
                    <a:lnTo>
                      <a:pt x="2551" y="36"/>
                    </a:lnTo>
                    <a:lnTo>
                      <a:pt x="2589" y="54"/>
                    </a:lnTo>
                    <a:lnTo>
                      <a:pt x="2626" y="74"/>
                    </a:lnTo>
                    <a:lnTo>
                      <a:pt x="2663" y="94"/>
                    </a:lnTo>
                    <a:lnTo>
                      <a:pt x="2700" y="114"/>
                    </a:lnTo>
                    <a:lnTo>
                      <a:pt x="2735" y="137"/>
                    </a:lnTo>
                    <a:lnTo>
                      <a:pt x="2772" y="159"/>
                    </a:lnTo>
                    <a:lnTo>
                      <a:pt x="2807" y="182"/>
                    </a:lnTo>
                    <a:lnTo>
                      <a:pt x="2842" y="206"/>
                    </a:lnTo>
                    <a:lnTo>
                      <a:pt x="2877" y="231"/>
                    </a:lnTo>
                    <a:lnTo>
                      <a:pt x="2910" y="257"/>
                    </a:lnTo>
                    <a:lnTo>
                      <a:pt x="2945" y="283"/>
                    </a:lnTo>
                    <a:lnTo>
                      <a:pt x="2978" y="310"/>
                    </a:lnTo>
                    <a:lnTo>
                      <a:pt x="3011" y="337"/>
                    </a:lnTo>
                    <a:lnTo>
                      <a:pt x="3043" y="366"/>
                    </a:lnTo>
                    <a:close/>
                  </a:path>
                </a:pathLst>
              </a:custGeom>
              <a:solidFill>
                <a:srgbClr val="fad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7480" y="1641600"/>
                <a:ext cx="676440" cy="96840"/>
              </a:xfrm>
              <a:custGeom>
                <a:avLst/>
                <a:gdLst/>
                <a:ahLst/>
                <a:rect l="l" t="t" r="r" b="b"/>
                <a:pathLst>
                  <a:path w="2555" h="366">
                    <a:moveTo>
                      <a:pt x="2555" y="366"/>
                    </a:moveTo>
                    <a:lnTo>
                      <a:pt x="0" y="366"/>
                    </a:lnTo>
                    <a:lnTo>
                      <a:pt x="4" y="364"/>
                    </a:lnTo>
                    <a:lnTo>
                      <a:pt x="6" y="362"/>
                    </a:lnTo>
                    <a:lnTo>
                      <a:pt x="10" y="360"/>
                    </a:lnTo>
                    <a:lnTo>
                      <a:pt x="13" y="358"/>
                    </a:lnTo>
                    <a:lnTo>
                      <a:pt x="17" y="357"/>
                    </a:lnTo>
                    <a:lnTo>
                      <a:pt x="19" y="354"/>
                    </a:lnTo>
                    <a:lnTo>
                      <a:pt x="23" y="352"/>
                    </a:lnTo>
                    <a:lnTo>
                      <a:pt x="26" y="349"/>
                    </a:lnTo>
                    <a:lnTo>
                      <a:pt x="62" y="328"/>
                    </a:lnTo>
                    <a:lnTo>
                      <a:pt x="99" y="308"/>
                    </a:lnTo>
                    <a:lnTo>
                      <a:pt x="135" y="288"/>
                    </a:lnTo>
                    <a:lnTo>
                      <a:pt x="171" y="269"/>
                    </a:lnTo>
                    <a:lnTo>
                      <a:pt x="208" y="250"/>
                    </a:lnTo>
                    <a:lnTo>
                      <a:pt x="245" y="232"/>
                    </a:lnTo>
                    <a:lnTo>
                      <a:pt x="282" y="214"/>
                    </a:lnTo>
                    <a:lnTo>
                      <a:pt x="320" y="197"/>
                    </a:lnTo>
                    <a:lnTo>
                      <a:pt x="357" y="181"/>
                    </a:lnTo>
                    <a:lnTo>
                      <a:pt x="395" y="165"/>
                    </a:lnTo>
                    <a:lnTo>
                      <a:pt x="433" y="151"/>
                    </a:lnTo>
                    <a:lnTo>
                      <a:pt x="471" y="137"/>
                    </a:lnTo>
                    <a:lnTo>
                      <a:pt x="510" y="124"/>
                    </a:lnTo>
                    <a:lnTo>
                      <a:pt x="548" y="112"/>
                    </a:lnTo>
                    <a:lnTo>
                      <a:pt x="588" y="99"/>
                    </a:lnTo>
                    <a:lnTo>
                      <a:pt x="627" y="88"/>
                    </a:lnTo>
                    <a:lnTo>
                      <a:pt x="666" y="77"/>
                    </a:lnTo>
                    <a:lnTo>
                      <a:pt x="705" y="68"/>
                    </a:lnTo>
                    <a:lnTo>
                      <a:pt x="746" y="58"/>
                    </a:lnTo>
                    <a:lnTo>
                      <a:pt x="785" y="50"/>
                    </a:lnTo>
                    <a:lnTo>
                      <a:pt x="826" y="42"/>
                    </a:lnTo>
                    <a:lnTo>
                      <a:pt x="866" y="35"/>
                    </a:lnTo>
                    <a:lnTo>
                      <a:pt x="906" y="29"/>
                    </a:lnTo>
                    <a:lnTo>
                      <a:pt x="948" y="23"/>
                    </a:lnTo>
                    <a:lnTo>
                      <a:pt x="989" y="17"/>
                    </a:lnTo>
                    <a:lnTo>
                      <a:pt x="1030" y="13"/>
                    </a:lnTo>
                    <a:lnTo>
                      <a:pt x="1072" y="8"/>
                    </a:lnTo>
                    <a:lnTo>
                      <a:pt x="1113" y="6"/>
                    </a:lnTo>
                    <a:lnTo>
                      <a:pt x="1155" y="4"/>
                    </a:lnTo>
                    <a:lnTo>
                      <a:pt x="1197" y="1"/>
                    </a:lnTo>
                    <a:lnTo>
                      <a:pt x="1240" y="0"/>
                    </a:lnTo>
                    <a:lnTo>
                      <a:pt x="1282" y="0"/>
                    </a:lnTo>
                    <a:lnTo>
                      <a:pt x="1286" y="0"/>
                    </a:lnTo>
                    <a:lnTo>
                      <a:pt x="1331" y="1"/>
                    </a:lnTo>
                    <a:lnTo>
                      <a:pt x="1376" y="1"/>
                    </a:lnTo>
                    <a:lnTo>
                      <a:pt x="1420" y="4"/>
                    </a:lnTo>
                    <a:lnTo>
                      <a:pt x="1464" y="6"/>
                    </a:lnTo>
                    <a:lnTo>
                      <a:pt x="1508" y="10"/>
                    </a:lnTo>
                    <a:lnTo>
                      <a:pt x="1552" y="13"/>
                    </a:lnTo>
                    <a:lnTo>
                      <a:pt x="1595" y="18"/>
                    </a:lnTo>
                    <a:lnTo>
                      <a:pt x="1638" y="24"/>
                    </a:lnTo>
                    <a:lnTo>
                      <a:pt x="1680" y="30"/>
                    </a:lnTo>
                    <a:lnTo>
                      <a:pt x="1722" y="36"/>
                    </a:lnTo>
                    <a:lnTo>
                      <a:pt x="1764" y="44"/>
                    </a:lnTo>
                    <a:lnTo>
                      <a:pt x="1804" y="52"/>
                    </a:lnTo>
                    <a:lnTo>
                      <a:pt x="1846" y="61"/>
                    </a:lnTo>
                    <a:lnTo>
                      <a:pt x="1887" y="70"/>
                    </a:lnTo>
                    <a:lnTo>
                      <a:pt x="1927" y="81"/>
                    </a:lnTo>
                    <a:lnTo>
                      <a:pt x="1966" y="92"/>
                    </a:lnTo>
                    <a:lnTo>
                      <a:pt x="2005" y="104"/>
                    </a:lnTo>
                    <a:lnTo>
                      <a:pt x="2045" y="117"/>
                    </a:lnTo>
                    <a:lnTo>
                      <a:pt x="2084" y="130"/>
                    </a:lnTo>
                    <a:lnTo>
                      <a:pt x="2122" y="144"/>
                    </a:lnTo>
                    <a:lnTo>
                      <a:pt x="2160" y="158"/>
                    </a:lnTo>
                    <a:lnTo>
                      <a:pt x="2198" y="174"/>
                    </a:lnTo>
                    <a:lnTo>
                      <a:pt x="2235" y="189"/>
                    </a:lnTo>
                    <a:lnTo>
                      <a:pt x="2272" y="207"/>
                    </a:lnTo>
                    <a:lnTo>
                      <a:pt x="2309" y="223"/>
                    </a:lnTo>
                    <a:lnTo>
                      <a:pt x="2344" y="243"/>
                    </a:lnTo>
                    <a:lnTo>
                      <a:pt x="2381" y="262"/>
                    </a:lnTo>
                    <a:lnTo>
                      <a:pt x="2416" y="281"/>
                    </a:lnTo>
                    <a:lnTo>
                      <a:pt x="2451" y="301"/>
                    </a:lnTo>
                    <a:lnTo>
                      <a:pt x="2486" y="322"/>
                    </a:lnTo>
                    <a:lnTo>
                      <a:pt x="2520" y="343"/>
                    </a:lnTo>
                    <a:lnTo>
                      <a:pt x="2555" y="366"/>
                    </a:lnTo>
                    <a:close/>
                  </a:path>
                </a:pathLst>
              </a:custGeom>
              <a:solidFill>
                <a:srgbClr val="fce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21080" y="1641600"/>
                <a:ext cx="493920" cy="47520"/>
              </a:xfrm>
              <a:custGeom>
                <a:avLst/>
                <a:gdLst/>
                <a:ahLst/>
                <a:rect l="l" t="t" r="r" b="b"/>
                <a:pathLst>
                  <a:path w="1869" h="183">
                    <a:moveTo>
                      <a:pt x="1869" y="183"/>
                    </a:moveTo>
                    <a:lnTo>
                      <a:pt x="0" y="183"/>
                    </a:lnTo>
                    <a:lnTo>
                      <a:pt x="55" y="162"/>
                    </a:lnTo>
                    <a:lnTo>
                      <a:pt x="111" y="140"/>
                    </a:lnTo>
                    <a:lnTo>
                      <a:pt x="167" y="121"/>
                    </a:lnTo>
                    <a:lnTo>
                      <a:pt x="223" y="104"/>
                    </a:lnTo>
                    <a:lnTo>
                      <a:pt x="280" y="87"/>
                    </a:lnTo>
                    <a:lnTo>
                      <a:pt x="337" y="71"/>
                    </a:lnTo>
                    <a:lnTo>
                      <a:pt x="394" y="58"/>
                    </a:lnTo>
                    <a:lnTo>
                      <a:pt x="452" y="46"/>
                    </a:lnTo>
                    <a:lnTo>
                      <a:pt x="510" y="36"/>
                    </a:lnTo>
                    <a:lnTo>
                      <a:pt x="569" y="26"/>
                    </a:lnTo>
                    <a:lnTo>
                      <a:pt x="628" y="18"/>
                    </a:lnTo>
                    <a:lnTo>
                      <a:pt x="689" y="12"/>
                    </a:lnTo>
                    <a:lnTo>
                      <a:pt x="748" y="7"/>
                    </a:lnTo>
                    <a:lnTo>
                      <a:pt x="809" y="4"/>
                    </a:lnTo>
                    <a:lnTo>
                      <a:pt x="871" y="1"/>
                    </a:lnTo>
                    <a:lnTo>
                      <a:pt x="933" y="0"/>
                    </a:lnTo>
                    <a:lnTo>
                      <a:pt x="996" y="1"/>
                    </a:lnTo>
                    <a:lnTo>
                      <a:pt x="1060" y="4"/>
                    </a:lnTo>
                    <a:lnTo>
                      <a:pt x="1122" y="7"/>
                    </a:lnTo>
                    <a:lnTo>
                      <a:pt x="1184" y="12"/>
                    </a:lnTo>
                    <a:lnTo>
                      <a:pt x="1244" y="18"/>
                    </a:lnTo>
                    <a:lnTo>
                      <a:pt x="1305" y="26"/>
                    </a:lnTo>
                    <a:lnTo>
                      <a:pt x="1364" y="36"/>
                    </a:lnTo>
                    <a:lnTo>
                      <a:pt x="1424" y="46"/>
                    </a:lnTo>
                    <a:lnTo>
                      <a:pt x="1482" y="58"/>
                    </a:lnTo>
                    <a:lnTo>
                      <a:pt x="1539" y="71"/>
                    </a:lnTo>
                    <a:lnTo>
                      <a:pt x="1596" y="87"/>
                    </a:lnTo>
                    <a:lnTo>
                      <a:pt x="1652" y="104"/>
                    </a:lnTo>
                    <a:lnTo>
                      <a:pt x="1707" y="121"/>
                    </a:lnTo>
                    <a:lnTo>
                      <a:pt x="1762" y="140"/>
                    </a:lnTo>
                    <a:lnTo>
                      <a:pt x="1815" y="162"/>
                    </a:lnTo>
                    <a:lnTo>
                      <a:pt x="1869" y="183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7320" y="16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7200" y="1641600"/>
                <a:ext cx="1195200" cy="1676160"/>
              </a:xfrm>
              <a:custGeom>
                <a:avLst/>
                <a:gdLst/>
                <a:ahLst/>
                <a:rect l="l" t="t" r="r" b="b"/>
                <a:pathLst>
                  <a:path w="4522" h="6338">
                    <a:moveTo>
                      <a:pt x="1289" y="6338"/>
                    </a:moveTo>
                    <a:lnTo>
                      <a:pt x="1289" y="5040"/>
                    </a:lnTo>
                    <a:lnTo>
                      <a:pt x="1291" y="4949"/>
                    </a:lnTo>
                    <a:lnTo>
                      <a:pt x="1293" y="4863"/>
                    </a:lnTo>
                    <a:lnTo>
                      <a:pt x="1299" y="4778"/>
                    </a:lnTo>
                    <a:lnTo>
                      <a:pt x="1306" y="4698"/>
                    </a:lnTo>
                    <a:lnTo>
                      <a:pt x="1311" y="4658"/>
                    </a:lnTo>
                    <a:lnTo>
                      <a:pt x="1316" y="4619"/>
                    </a:lnTo>
                    <a:lnTo>
                      <a:pt x="1322" y="4581"/>
                    </a:lnTo>
                    <a:lnTo>
                      <a:pt x="1328" y="4544"/>
                    </a:lnTo>
                    <a:lnTo>
                      <a:pt x="1333" y="4507"/>
                    </a:lnTo>
                    <a:lnTo>
                      <a:pt x="1341" y="4471"/>
                    </a:lnTo>
                    <a:lnTo>
                      <a:pt x="1348" y="4436"/>
                    </a:lnTo>
                    <a:lnTo>
                      <a:pt x="1356" y="4401"/>
                    </a:lnTo>
                    <a:lnTo>
                      <a:pt x="1364" y="4366"/>
                    </a:lnTo>
                    <a:lnTo>
                      <a:pt x="1374" y="4332"/>
                    </a:lnTo>
                    <a:lnTo>
                      <a:pt x="1385" y="4297"/>
                    </a:lnTo>
                    <a:lnTo>
                      <a:pt x="1395" y="4263"/>
                    </a:lnTo>
                    <a:lnTo>
                      <a:pt x="1407" y="4228"/>
                    </a:lnTo>
                    <a:lnTo>
                      <a:pt x="1419" y="4194"/>
                    </a:lnTo>
                    <a:lnTo>
                      <a:pt x="1432" y="4159"/>
                    </a:lnTo>
                    <a:lnTo>
                      <a:pt x="1445" y="4125"/>
                    </a:lnTo>
                    <a:lnTo>
                      <a:pt x="1474" y="4055"/>
                    </a:lnTo>
                    <a:lnTo>
                      <a:pt x="1506" y="3986"/>
                    </a:lnTo>
                    <a:lnTo>
                      <a:pt x="1539" y="3916"/>
                    </a:lnTo>
                    <a:lnTo>
                      <a:pt x="1577" y="3846"/>
                    </a:lnTo>
                    <a:lnTo>
                      <a:pt x="1594" y="3810"/>
                    </a:lnTo>
                    <a:lnTo>
                      <a:pt x="1615" y="3773"/>
                    </a:lnTo>
                    <a:lnTo>
                      <a:pt x="1638" y="3732"/>
                    </a:lnTo>
                    <a:lnTo>
                      <a:pt x="1664" y="3689"/>
                    </a:lnTo>
                    <a:lnTo>
                      <a:pt x="1693" y="3643"/>
                    </a:lnTo>
                    <a:lnTo>
                      <a:pt x="1725" y="3593"/>
                    </a:lnTo>
                    <a:lnTo>
                      <a:pt x="1758" y="3540"/>
                    </a:lnTo>
                    <a:lnTo>
                      <a:pt x="1795" y="3486"/>
                    </a:lnTo>
                    <a:lnTo>
                      <a:pt x="1834" y="3428"/>
                    </a:lnTo>
                    <a:lnTo>
                      <a:pt x="1870" y="3371"/>
                    </a:lnTo>
                    <a:lnTo>
                      <a:pt x="1903" y="3316"/>
                    </a:lnTo>
                    <a:lnTo>
                      <a:pt x="1934" y="3262"/>
                    </a:lnTo>
                    <a:lnTo>
                      <a:pt x="1963" y="3211"/>
                    </a:lnTo>
                    <a:lnTo>
                      <a:pt x="1989" y="3163"/>
                    </a:lnTo>
                    <a:lnTo>
                      <a:pt x="2013" y="3115"/>
                    </a:lnTo>
                    <a:lnTo>
                      <a:pt x="2034" y="3069"/>
                    </a:lnTo>
                    <a:lnTo>
                      <a:pt x="2052" y="3025"/>
                    </a:lnTo>
                    <a:lnTo>
                      <a:pt x="2067" y="2983"/>
                    </a:lnTo>
                    <a:lnTo>
                      <a:pt x="2082" y="2943"/>
                    </a:lnTo>
                    <a:lnTo>
                      <a:pt x="2092" y="2904"/>
                    </a:lnTo>
                    <a:lnTo>
                      <a:pt x="2101" y="2867"/>
                    </a:lnTo>
                    <a:lnTo>
                      <a:pt x="2108" y="2832"/>
                    </a:lnTo>
                    <a:lnTo>
                      <a:pt x="2111" y="2799"/>
                    </a:lnTo>
                    <a:lnTo>
                      <a:pt x="2113" y="2768"/>
                    </a:lnTo>
                    <a:lnTo>
                      <a:pt x="2111" y="2742"/>
                    </a:lnTo>
                    <a:lnTo>
                      <a:pt x="2110" y="2717"/>
                    </a:lnTo>
                    <a:lnTo>
                      <a:pt x="2108" y="2692"/>
                    </a:lnTo>
                    <a:lnTo>
                      <a:pt x="2105" y="2668"/>
                    </a:lnTo>
                    <a:lnTo>
                      <a:pt x="2101" y="2646"/>
                    </a:lnTo>
                    <a:lnTo>
                      <a:pt x="2096" y="2623"/>
                    </a:lnTo>
                    <a:lnTo>
                      <a:pt x="2091" y="2602"/>
                    </a:lnTo>
                    <a:lnTo>
                      <a:pt x="2084" y="2582"/>
                    </a:lnTo>
                    <a:lnTo>
                      <a:pt x="2077" y="2561"/>
                    </a:lnTo>
                    <a:lnTo>
                      <a:pt x="2069" y="2542"/>
                    </a:lnTo>
                    <a:lnTo>
                      <a:pt x="2059" y="2523"/>
                    </a:lnTo>
                    <a:lnTo>
                      <a:pt x="2048" y="2506"/>
                    </a:lnTo>
                    <a:lnTo>
                      <a:pt x="2038" y="2489"/>
                    </a:lnTo>
                    <a:lnTo>
                      <a:pt x="2026" y="2472"/>
                    </a:lnTo>
                    <a:lnTo>
                      <a:pt x="2013" y="2456"/>
                    </a:lnTo>
                    <a:lnTo>
                      <a:pt x="2000" y="2441"/>
                    </a:lnTo>
                    <a:lnTo>
                      <a:pt x="1985" y="2426"/>
                    </a:lnTo>
                    <a:lnTo>
                      <a:pt x="1970" y="2413"/>
                    </a:lnTo>
                    <a:lnTo>
                      <a:pt x="1954" y="2401"/>
                    </a:lnTo>
                    <a:lnTo>
                      <a:pt x="1938" y="2389"/>
                    </a:lnTo>
                    <a:lnTo>
                      <a:pt x="1921" y="2379"/>
                    </a:lnTo>
                    <a:lnTo>
                      <a:pt x="1903" y="2369"/>
                    </a:lnTo>
                    <a:lnTo>
                      <a:pt x="1884" y="2360"/>
                    </a:lnTo>
                    <a:lnTo>
                      <a:pt x="1865" y="2352"/>
                    </a:lnTo>
                    <a:lnTo>
                      <a:pt x="1845" y="2345"/>
                    </a:lnTo>
                    <a:lnTo>
                      <a:pt x="1825" y="2339"/>
                    </a:lnTo>
                    <a:lnTo>
                      <a:pt x="1803" y="2333"/>
                    </a:lnTo>
                    <a:lnTo>
                      <a:pt x="1781" y="2330"/>
                    </a:lnTo>
                    <a:lnTo>
                      <a:pt x="1758" y="2326"/>
                    </a:lnTo>
                    <a:lnTo>
                      <a:pt x="1734" y="2324"/>
                    </a:lnTo>
                    <a:lnTo>
                      <a:pt x="1710" y="2323"/>
                    </a:lnTo>
                    <a:lnTo>
                      <a:pt x="1686" y="2323"/>
                    </a:lnTo>
                    <a:lnTo>
                      <a:pt x="1661" y="2323"/>
                    </a:lnTo>
                    <a:lnTo>
                      <a:pt x="1637" y="2324"/>
                    </a:lnTo>
                    <a:lnTo>
                      <a:pt x="1613" y="2326"/>
                    </a:lnTo>
                    <a:lnTo>
                      <a:pt x="1588" y="2330"/>
                    </a:lnTo>
                    <a:lnTo>
                      <a:pt x="1564" y="2335"/>
                    </a:lnTo>
                    <a:lnTo>
                      <a:pt x="1540" y="2339"/>
                    </a:lnTo>
                    <a:lnTo>
                      <a:pt x="1517" y="2346"/>
                    </a:lnTo>
                    <a:lnTo>
                      <a:pt x="1493" y="2354"/>
                    </a:lnTo>
                    <a:lnTo>
                      <a:pt x="1469" y="2362"/>
                    </a:lnTo>
                    <a:lnTo>
                      <a:pt x="1445" y="2370"/>
                    </a:lnTo>
                    <a:lnTo>
                      <a:pt x="1421" y="2381"/>
                    </a:lnTo>
                    <a:lnTo>
                      <a:pt x="1398" y="2392"/>
                    </a:lnTo>
                    <a:lnTo>
                      <a:pt x="1374" y="2403"/>
                    </a:lnTo>
                    <a:lnTo>
                      <a:pt x="1351" y="2417"/>
                    </a:lnTo>
                    <a:lnTo>
                      <a:pt x="1328" y="2431"/>
                    </a:lnTo>
                    <a:lnTo>
                      <a:pt x="1304" y="2445"/>
                    </a:lnTo>
                    <a:lnTo>
                      <a:pt x="1281" y="2461"/>
                    </a:lnTo>
                    <a:lnTo>
                      <a:pt x="1259" y="2477"/>
                    </a:lnTo>
                    <a:lnTo>
                      <a:pt x="1237" y="2494"/>
                    </a:lnTo>
                    <a:lnTo>
                      <a:pt x="1216" y="2510"/>
                    </a:lnTo>
                    <a:lnTo>
                      <a:pt x="1194" y="2528"/>
                    </a:lnTo>
                    <a:lnTo>
                      <a:pt x="1174" y="2547"/>
                    </a:lnTo>
                    <a:lnTo>
                      <a:pt x="1154" y="2566"/>
                    </a:lnTo>
                    <a:lnTo>
                      <a:pt x="1134" y="2586"/>
                    </a:lnTo>
                    <a:lnTo>
                      <a:pt x="1115" y="2607"/>
                    </a:lnTo>
                    <a:lnTo>
                      <a:pt x="1097" y="2628"/>
                    </a:lnTo>
                    <a:lnTo>
                      <a:pt x="1078" y="2649"/>
                    </a:lnTo>
                    <a:lnTo>
                      <a:pt x="1061" y="2672"/>
                    </a:lnTo>
                    <a:lnTo>
                      <a:pt x="1043" y="2695"/>
                    </a:lnTo>
                    <a:lnTo>
                      <a:pt x="1027" y="2718"/>
                    </a:lnTo>
                    <a:lnTo>
                      <a:pt x="1011" y="2742"/>
                    </a:lnTo>
                    <a:lnTo>
                      <a:pt x="996" y="2768"/>
                    </a:lnTo>
                    <a:lnTo>
                      <a:pt x="0" y="1396"/>
                    </a:lnTo>
                    <a:lnTo>
                      <a:pt x="27" y="1353"/>
                    </a:lnTo>
                    <a:lnTo>
                      <a:pt x="55" y="1311"/>
                    </a:lnTo>
                    <a:lnTo>
                      <a:pt x="83" y="1269"/>
                    </a:lnTo>
                    <a:lnTo>
                      <a:pt x="112" y="1227"/>
                    </a:lnTo>
                    <a:lnTo>
                      <a:pt x="140" y="1187"/>
                    </a:lnTo>
                    <a:lnTo>
                      <a:pt x="169" y="1148"/>
                    </a:lnTo>
                    <a:lnTo>
                      <a:pt x="199" y="1109"/>
                    </a:lnTo>
                    <a:lnTo>
                      <a:pt x="229" y="1071"/>
                    </a:lnTo>
                    <a:lnTo>
                      <a:pt x="258" y="1033"/>
                    </a:lnTo>
                    <a:lnTo>
                      <a:pt x="288" y="996"/>
                    </a:lnTo>
                    <a:lnTo>
                      <a:pt x="318" y="959"/>
                    </a:lnTo>
                    <a:lnTo>
                      <a:pt x="349" y="923"/>
                    </a:lnTo>
                    <a:lnTo>
                      <a:pt x="380" y="889"/>
                    </a:lnTo>
                    <a:lnTo>
                      <a:pt x="410" y="854"/>
                    </a:lnTo>
                    <a:lnTo>
                      <a:pt x="441" y="820"/>
                    </a:lnTo>
                    <a:lnTo>
                      <a:pt x="474" y="788"/>
                    </a:lnTo>
                    <a:lnTo>
                      <a:pt x="504" y="755"/>
                    </a:lnTo>
                    <a:lnTo>
                      <a:pt x="537" y="724"/>
                    </a:lnTo>
                    <a:lnTo>
                      <a:pt x="569" y="693"/>
                    </a:lnTo>
                    <a:lnTo>
                      <a:pt x="602" y="662"/>
                    </a:lnTo>
                    <a:lnTo>
                      <a:pt x="634" y="632"/>
                    </a:lnTo>
                    <a:lnTo>
                      <a:pt x="667" y="604"/>
                    </a:lnTo>
                    <a:lnTo>
                      <a:pt x="701" y="575"/>
                    </a:lnTo>
                    <a:lnTo>
                      <a:pt x="734" y="548"/>
                    </a:lnTo>
                    <a:lnTo>
                      <a:pt x="768" y="520"/>
                    </a:lnTo>
                    <a:lnTo>
                      <a:pt x="802" y="494"/>
                    </a:lnTo>
                    <a:lnTo>
                      <a:pt x="836" y="468"/>
                    </a:lnTo>
                    <a:lnTo>
                      <a:pt x="871" y="443"/>
                    </a:lnTo>
                    <a:lnTo>
                      <a:pt x="906" y="420"/>
                    </a:lnTo>
                    <a:lnTo>
                      <a:pt x="941" y="396"/>
                    </a:lnTo>
                    <a:lnTo>
                      <a:pt x="977" y="372"/>
                    </a:lnTo>
                    <a:lnTo>
                      <a:pt x="1012" y="349"/>
                    </a:lnTo>
                    <a:lnTo>
                      <a:pt x="1048" y="328"/>
                    </a:lnTo>
                    <a:lnTo>
                      <a:pt x="1085" y="308"/>
                    </a:lnTo>
                    <a:lnTo>
                      <a:pt x="1121" y="288"/>
                    </a:lnTo>
                    <a:lnTo>
                      <a:pt x="1157" y="267"/>
                    </a:lnTo>
                    <a:lnTo>
                      <a:pt x="1194" y="250"/>
                    </a:lnTo>
                    <a:lnTo>
                      <a:pt x="1231" y="231"/>
                    </a:lnTo>
                    <a:lnTo>
                      <a:pt x="1269" y="214"/>
                    </a:lnTo>
                    <a:lnTo>
                      <a:pt x="1306" y="197"/>
                    </a:lnTo>
                    <a:lnTo>
                      <a:pt x="1344" y="181"/>
                    </a:lnTo>
                    <a:lnTo>
                      <a:pt x="1382" y="165"/>
                    </a:lnTo>
                    <a:lnTo>
                      <a:pt x="1420" y="151"/>
                    </a:lnTo>
                    <a:lnTo>
                      <a:pt x="1458" y="137"/>
                    </a:lnTo>
                    <a:lnTo>
                      <a:pt x="1496" y="124"/>
                    </a:lnTo>
                    <a:lnTo>
                      <a:pt x="1536" y="111"/>
                    </a:lnTo>
                    <a:lnTo>
                      <a:pt x="1575" y="99"/>
                    </a:lnTo>
                    <a:lnTo>
                      <a:pt x="1614" y="88"/>
                    </a:lnTo>
                    <a:lnTo>
                      <a:pt x="1653" y="77"/>
                    </a:lnTo>
                    <a:lnTo>
                      <a:pt x="1693" y="67"/>
                    </a:lnTo>
                    <a:lnTo>
                      <a:pt x="1733" y="58"/>
                    </a:lnTo>
                    <a:lnTo>
                      <a:pt x="1772" y="50"/>
                    </a:lnTo>
                    <a:lnTo>
                      <a:pt x="1813" y="42"/>
                    </a:lnTo>
                    <a:lnTo>
                      <a:pt x="1853" y="35"/>
                    </a:lnTo>
                    <a:lnTo>
                      <a:pt x="1895" y="27"/>
                    </a:lnTo>
                    <a:lnTo>
                      <a:pt x="1935" y="23"/>
                    </a:lnTo>
                    <a:lnTo>
                      <a:pt x="1977" y="17"/>
                    </a:lnTo>
                    <a:lnTo>
                      <a:pt x="2017" y="13"/>
                    </a:lnTo>
                    <a:lnTo>
                      <a:pt x="2059" y="8"/>
                    </a:lnTo>
                    <a:lnTo>
                      <a:pt x="2101" y="6"/>
                    </a:lnTo>
                    <a:lnTo>
                      <a:pt x="2143" y="4"/>
                    </a:lnTo>
                    <a:lnTo>
                      <a:pt x="2185" y="1"/>
                    </a:lnTo>
                    <a:lnTo>
                      <a:pt x="2228" y="0"/>
                    </a:lnTo>
                    <a:lnTo>
                      <a:pt x="2271" y="0"/>
                    </a:lnTo>
                    <a:lnTo>
                      <a:pt x="2330" y="1"/>
                    </a:lnTo>
                    <a:lnTo>
                      <a:pt x="2390" y="3"/>
                    </a:lnTo>
                    <a:lnTo>
                      <a:pt x="2449" y="6"/>
                    </a:lnTo>
                    <a:lnTo>
                      <a:pt x="2507" y="11"/>
                    </a:lnTo>
                    <a:lnTo>
                      <a:pt x="2566" y="17"/>
                    </a:lnTo>
                    <a:lnTo>
                      <a:pt x="2622" y="23"/>
                    </a:lnTo>
                    <a:lnTo>
                      <a:pt x="2679" y="31"/>
                    </a:lnTo>
                    <a:lnTo>
                      <a:pt x="2735" y="41"/>
                    </a:lnTo>
                    <a:lnTo>
                      <a:pt x="2789" y="51"/>
                    </a:lnTo>
                    <a:lnTo>
                      <a:pt x="2844" y="64"/>
                    </a:lnTo>
                    <a:lnTo>
                      <a:pt x="2898" y="77"/>
                    </a:lnTo>
                    <a:lnTo>
                      <a:pt x="2951" y="92"/>
                    </a:lnTo>
                    <a:lnTo>
                      <a:pt x="3003" y="107"/>
                    </a:lnTo>
                    <a:lnTo>
                      <a:pt x="3056" y="125"/>
                    </a:lnTo>
                    <a:lnTo>
                      <a:pt x="3107" y="143"/>
                    </a:lnTo>
                    <a:lnTo>
                      <a:pt x="3158" y="163"/>
                    </a:lnTo>
                    <a:lnTo>
                      <a:pt x="3208" y="183"/>
                    </a:lnTo>
                    <a:lnTo>
                      <a:pt x="3257" y="206"/>
                    </a:lnTo>
                    <a:lnTo>
                      <a:pt x="3305" y="229"/>
                    </a:lnTo>
                    <a:lnTo>
                      <a:pt x="3354" y="254"/>
                    </a:lnTo>
                    <a:lnTo>
                      <a:pt x="3401" y="281"/>
                    </a:lnTo>
                    <a:lnTo>
                      <a:pt x="3448" y="307"/>
                    </a:lnTo>
                    <a:lnTo>
                      <a:pt x="3495" y="335"/>
                    </a:lnTo>
                    <a:lnTo>
                      <a:pt x="3540" y="366"/>
                    </a:lnTo>
                    <a:lnTo>
                      <a:pt x="3585" y="397"/>
                    </a:lnTo>
                    <a:lnTo>
                      <a:pt x="3629" y="429"/>
                    </a:lnTo>
                    <a:lnTo>
                      <a:pt x="3672" y="462"/>
                    </a:lnTo>
                    <a:lnTo>
                      <a:pt x="3716" y="498"/>
                    </a:lnTo>
                    <a:lnTo>
                      <a:pt x="3757" y="534"/>
                    </a:lnTo>
                    <a:lnTo>
                      <a:pt x="3799" y="570"/>
                    </a:lnTo>
                    <a:lnTo>
                      <a:pt x="3841" y="610"/>
                    </a:lnTo>
                    <a:lnTo>
                      <a:pt x="3881" y="650"/>
                    </a:lnTo>
                    <a:lnTo>
                      <a:pt x="3920" y="690"/>
                    </a:lnTo>
                    <a:lnTo>
                      <a:pt x="3958" y="732"/>
                    </a:lnTo>
                    <a:lnTo>
                      <a:pt x="3995" y="774"/>
                    </a:lnTo>
                    <a:lnTo>
                      <a:pt x="4031" y="816"/>
                    </a:lnTo>
                    <a:lnTo>
                      <a:pt x="4066" y="860"/>
                    </a:lnTo>
                    <a:lnTo>
                      <a:pt x="4099" y="904"/>
                    </a:lnTo>
                    <a:lnTo>
                      <a:pt x="4130" y="949"/>
                    </a:lnTo>
                    <a:lnTo>
                      <a:pt x="4161" y="995"/>
                    </a:lnTo>
                    <a:lnTo>
                      <a:pt x="4190" y="1041"/>
                    </a:lnTo>
                    <a:lnTo>
                      <a:pt x="4219" y="1087"/>
                    </a:lnTo>
                    <a:lnTo>
                      <a:pt x="4245" y="1135"/>
                    </a:lnTo>
                    <a:lnTo>
                      <a:pt x="4271" y="1182"/>
                    </a:lnTo>
                    <a:lnTo>
                      <a:pt x="4296" y="1231"/>
                    </a:lnTo>
                    <a:lnTo>
                      <a:pt x="4319" y="1280"/>
                    </a:lnTo>
                    <a:lnTo>
                      <a:pt x="4341" y="1330"/>
                    </a:lnTo>
                    <a:lnTo>
                      <a:pt x="4362" y="1379"/>
                    </a:lnTo>
                    <a:lnTo>
                      <a:pt x="4381" y="1431"/>
                    </a:lnTo>
                    <a:lnTo>
                      <a:pt x="4400" y="1483"/>
                    </a:lnTo>
                    <a:lnTo>
                      <a:pt x="4416" y="1535"/>
                    </a:lnTo>
                    <a:lnTo>
                      <a:pt x="4432" y="1587"/>
                    </a:lnTo>
                    <a:lnTo>
                      <a:pt x="4446" y="1641"/>
                    </a:lnTo>
                    <a:lnTo>
                      <a:pt x="4459" y="1695"/>
                    </a:lnTo>
                    <a:lnTo>
                      <a:pt x="4471" y="1750"/>
                    </a:lnTo>
                    <a:lnTo>
                      <a:pt x="4482" y="1806"/>
                    </a:lnTo>
                    <a:lnTo>
                      <a:pt x="4491" y="1862"/>
                    </a:lnTo>
                    <a:lnTo>
                      <a:pt x="4500" y="1919"/>
                    </a:lnTo>
                    <a:lnTo>
                      <a:pt x="4507" y="1976"/>
                    </a:lnTo>
                    <a:lnTo>
                      <a:pt x="4513" y="2034"/>
                    </a:lnTo>
                    <a:lnTo>
                      <a:pt x="4516" y="2092"/>
                    </a:lnTo>
                    <a:lnTo>
                      <a:pt x="4520" y="2152"/>
                    </a:lnTo>
                    <a:lnTo>
                      <a:pt x="4521" y="2212"/>
                    </a:lnTo>
                    <a:lnTo>
                      <a:pt x="4522" y="2273"/>
                    </a:lnTo>
                    <a:lnTo>
                      <a:pt x="4521" y="2317"/>
                    </a:lnTo>
                    <a:lnTo>
                      <a:pt x="4520" y="2363"/>
                    </a:lnTo>
                    <a:lnTo>
                      <a:pt x="4517" y="2408"/>
                    </a:lnTo>
                    <a:lnTo>
                      <a:pt x="4513" y="2455"/>
                    </a:lnTo>
                    <a:lnTo>
                      <a:pt x="4508" y="2501"/>
                    </a:lnTo>
                    <a:lnTo>
                      <a:pt x="4501" y="2548"/>
                    </a:lnTo>
                    <a:lnTo>
                      <a:pt x="4494" y="2595"/>
                    </a:lnTo>
                    <a:lnTo>
                      <a:pt x="4485" y="2643"/>
                    </a:lnTo>
                    <a:lnTo>
                      <a:pt x="4476" y="2691"/>
                    </a:lnTo>
                    <a:lnTo>
                      <a:pt x="4464" y="2740"/>
                    </a:lnTo>
                    <a:lnTo>
                      <a:pt x="4452" y="2788"/>
                    </a:lnTo>
                    <a:lnTo>
                      <a:pt x="4439" y="2838"/>
                    </a:lnTo>
                    <a:lnTo>
                      <a:pt x="4425" y="2888"/>
                    </a:lnTo>
                    <a:lnTo>
                      <a:pt x="4409" y="2938"/>
                    </a:lnTo>
                    <a:lnTo>
                      <a:pt x="4391" y="2989"/>
                    </a:lnTo>
                    <a:lnTo>
                      <a:pt x="4374" y="3040"/>
                    </a:lnTo>
                    <a:lnTo>
                      <a:pt x="4355" y="3091"/>
                    </a:lnTo>
                    <a:lnTo>
                      <a:pt x="4334" y="3144"/>
                    </a:lnTo>
                    <a:lnTo>
                      <a:pt x="4313" y="3196"/>
                    </a:lnTo>
                    <a:lnTo>
                      <a:pt x="4290" y="3248"/>
                    </a:lnTo>
                    <a:lnTo>
                      <a:pt x="4267" y="3302"/>
                    </a:lnTo>
                    <a:lnTo>
                      <a:pt x="4243" y="3355"/>
                    </a:lnTo>
                    <a:lnTo>
                      <a:pt x="4217" y="3409"/>
                    </a:lnTo>
                    <a:lnTo>
                      <a:pt x="4189" y="3463"/>
                    </a:lnTo>
                    <a:lnTo>
                      <a:pt x="4161" y="3518"/>
                    </a:lnTo>
                    <a:lnTo>
                      <a:pt x="4131" y="3572"/>
                    </a:lnTo>
                    <a:lnTo>
                      <a:pt x="4101" y="3628"/>
                    </a:lnTo>
                    <a:lnTo>
                      <a:pt x="4069" y="3684"/>
                    </a:lnTo>
                    <a:lnTo>
                      <a:pt x="4036" y="3741"/>
                    </a:lnTo>
                    <a:lnTo>
                      <a:pt x="4002" y="3797"/>
                    </a:lnTo>
                    <a:lnTo>
                      <a:pt x="3967" y="3854"/>
                    </a:lnTo>
                    <a:lnTo>
                      <a:pt x="3931" y="3912"/>
                    </a:lnTo>
                    <a:lnTo>
                      <a:pt x="3894" y="3969"/>
                    </a:lnTo>
                    <a:lnTo>
                      <a:pt x="3860" y="4023"/>
                    </a:lnTo>
                    <a:lnTo>
                      <a:pt x="3828" y="4073"/>
                    </a:lnTo>
                    <a:lnTo>
                      <a:pt x="3799" y="4119"/>
                    </a:lnTo>
                    <a:lnTo>
                      <a:pt x="3773" y="4162"/>
                    </a:lnTo>
                    <a:lnTo>
                      <a:pt x="3750" y="4200"/>
                    </a:lnTo>
                    <a:lnTo>
                      <a:pt x="3730" y="4235"/>
                    </a:lnTo>
                    <a:lnTo>
                      <a:pt x="3712" y="4265"/>
                    </a:lnTo>
                    <a:lnTo>
                      <a:pt x="3694" y="4295"/>
                    </a:lnTo>
                    <a:lnTo>
                      <a:pt x="3678" y="4326"/>
                    </a:lnTo>
                    <a:lnTo>
                      <a:pt x="3662" y="4357"/>
                    </a:lnTo>
                    <a:lnTo>
                      <a:pt x="3646" y="4389"/>
                    </a:lnTo>
                    <a:lnTo>
                      <a:pt x="3631" y="4422"/>
                    </a:lnTo>
                    <a:lnTo>
                      <a:pt x="3617" y="4455"/>
                    </a:lnTo>
                    <a:lnTo>
                      <a:pt x="3603" y="4490"/>
                    </a:lnTo>
                    <a:lnTo>
                      <a:pt x="3590" y="4525"/>
                    </a:lnTo>
                    <a:lnTo>
                      <a:pt x="3577" y="4562"/>
                    </a:lnTo>
                    <a:lnTo>
                      <a:pt x="3565" y="4600"/>
                    </a:lnTo>
                    <a:lnTo>
                      <a:pt x="3553" y="4638"/>
                    </a:lnTo>
                    <a:lnTo>
                      <a:pt x="3542" y="4677"/>
                    </a:lnTo>
                    <a:lnTo>
                      <a:pt x="3531" y="4717"/>
                    </a:lnTo>
                    <a:lnTo>
                      <a:pt x="3522" y="4758"/>
                    </a:lnTo>
                    <a:lnTo>
                      <a:pt x="3512" y="4800"/>
                    </a:lnTo>
                    <a:lnTo>
                      <a:pt x="3504" y="4842"/>
                    </a:lnTo>
                    <a:lnTo>
                      <a:pt x="3496" y="4885"/>
                    </a:lnTo>
                    <a:lnTo>
                      <a:pt x="3489" y="4930"/>
                    </a:lnTo>
                    <a:lnTo>
                      <a:pt x="3482" y="4975"/>
                    </a:lnTo>
                    <a:lnTo>
                      <a:pt x="3474" y="5022"/>
                    </a:lnTo>
                    <a:lnTo>
                      <a:pt x="3468" y="5069"/>
                    </a:lnTo>
                    <a:lnTo>
                      <a:pt x="3464" y="5118"/>
                    </a:lnTo>
                    <a:lnTo>
                      <a:pt x="3458" y="5167"/>
                    </a:lnTo>
                    <a:lnTo>
                      <a:pt x="3454" y="5218"/>
                    </a:lnTo>
                    <a:lnTo>
                      <a:pt x="3447" y="5321"/>
                    </a:lnTo>
                    <a:lnTo>
                      <a:pt x="3441" y="5429"/>
                    </a:lnTo>
                    <a:lnTo>
                      <a:pt x="3437" y="5540"/>
                    </a:lnTo>
                    <a:lnTo>
                      <a:pt x="3437" y="5655"/>
                    </a:lnTo>
                    <a:lnTo>
                      <a:pt x="3437" y="6338"/>
                    </a:lnTo>
                    <a:lnTo>
                      <a:pt x="1289" y="6338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8480" y="3456000"/>
                <a:ext cx="568440" cy="604800"/>
              </a:xfrm>
              <a:prstGeom prst="rect">
                <a:avLst/>
              </a:prstGeom>
              <a:noFill/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9400" y="4497480"/>
                <a:ext cx="5107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CULTURAL MORAL VA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7280" y="4983120"/>
                <a:ext cx="4687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V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78360" y="5468760"/>
                <a:ext cx="3186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LIBERALIS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50200" y="990720"/>
            <a:ext cx="6866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902444"/>
                </a:solidFill>
                <a:latin typeface="Geometr231 Hv BT"/>
              </a:rPr>
              <a:t>RESULTS ON AFRICA’S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84280" y="1828800"/>
            <a:ext cx="4616280" cy="4008240"/>
            <a:chOff x="2384280" y="1828800"/>
            <a:chExt cx="4616280" cy="4008240"/>
          </a:xfrm>
        </p:grpSpPr>
        <p:sp>
          <p:nvSpPr>
            <p:cNvPr id="330" name=""/>
            <p:cNvSpPr/>
            <p:nvPr/>
          </p:nvSpPr>
          <p:spPr>
            <a:xfrm>
              <a:off x="2514960" y="1828800"/>
              <a:ext cx="390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Becoming street childr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15760" y="2430720"/>
              <a:ext cx="135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Orpha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3032280"/>
              <a:ext cx="4527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Gang members, drug addi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0400" y="3633840"/>
              <a:ext cx="25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hild prostitu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8480" y="4235760"/>
              <a:ext cx="1460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riminal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8280" y="4837320"/>
              <a:ext cx="280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Sexually exploi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0720" y="5440680"/>
              <a:ext cx="147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onfus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85800"/>
            <a:ext cx="8001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metr231 Hv BT"/>
              </a:rPr>
              <a:t>THE CHURCH CAN HELP IN THE HIV /AIDS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HURCH" descr=""/>
          <p:cNvPicPr/>
          <p:nvPr/>
        </p:nvPicPr>
        <p:blipFill>
          <a:blip r:embed="rId2"/>
          <a:stretch/>
        </p:blipFill>
        <p:spPr>
          <a:xfrm>
            <a:off x="2587680" y="2300400"/>
            <a:ext cx="3965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035800" y="1341360"/>
            <a:ext cx="5357880" cy="4699440"/>
            <a:chOff x="2035800" y="1341360"/>
            <a:chExt cx="5357880" cy="4699440"/>
          </a:xfrm>
        </p:grpSpPr>
        <p:sp>
          <p:nvSpPr>
            <p:cNvPr id="354" name=""/>
            <p:cNvSpPr/>
            <p:nvPr/>
          </p:nvSpPr>
          <p:spPr>
            <a:xfrm>
              <a:off x="2043000" y="1341360"/>
              <a:ext cx="375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1.   Helping Parents in Their R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9040" y="1890720"/>
              <a:ext cx="534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2.   Understanding and Overcoming the Barri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98240" y="2109960"/>
              <a:ext cx="327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 Educating Today’s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5800" y="2658960"/>
              <a:ext cx="53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3.   Giving Answers to Some of the Question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400" y="2878200"/>
              <a:ext cx="294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Young People are As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480" y="3427560"/>
              <a:ext cx="430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4.   Helping with Girl/Boy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2560" y="36482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8320" y="4197240"/>
              <a:ext cx="527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5.   Developing Self-Worth in the Teenage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9040" y="4746600"/>
              <a:ext cx="535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6.   Helping Youth Know the Difference 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2560" y="4965840"/>
              <a:ext cx="176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Love and L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9760" y="5514840"/>
              <a:ext cx="412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7.   Helping Youth with Life-ski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4280" y="5735520"/>
              <a:ext cx="497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Relationships and Avoiding Pre-marital 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06800" y="685800"/>
            <a:ext cx="83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HE CHALLENGE FOR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4:23Z</dcterms:modified>
  <cp:revision>166</cp:revision>
  <dc:subject/>
  <dc:title>No Slide Title</dc:title>
</cp:coreProperties>
</file>