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36FE8-8DBD-457D-A279-ABD2D3932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AFA8B-8836-4BA6-AFFA-53E4AA31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A9B53-42A3-4293-82D4-168989223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3F04F-8081-47A9-ACE3-DB2C33A32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0B2A8-3EEB-4F08-BA5E-24E172F69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675F1-2FF2-4CBD-A3D3-D4C849AA4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5A7F6-38FA-4236-BED1-00B5D5ED4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CD036-4843-4D02-9879-1D015C067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2254C-6CEB-4A89-94AC-D91D652FB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46CD8-80B2-4A96-ACA6-BD2524359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CAD6E-53C4-437E-B1B5-24EAA125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51C8A-EBA3-443B-9C30-B3DCDCB1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B24C7-71E3-4E5B-8C30-2340F8D5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1ECCA-DA5E-41AC-A71B-E81F4AF66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5E73C-CD7B-4E5B-B408-3E18A7611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4CC41-64AF-450E-9C30-F186E9DCC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A712B-E35A-417C-828C-ED9F2AABE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C0EC-9263-4E23-9AE7-6B73024B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6117-BD4F-4DC7-B90B-3AA74EFA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17EE7-97A6-4944-9D56-E0C802E7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CE64E-4432-4210-AFA4-C58F9F726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7BDB-F59F-4916-94CC-1BC31E354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FE94-E037-4AB0-BF4D-A5EC3E32D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495C-2D00-41BE-B15E-D434EAEF2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D229-6898-4337-98FA-81CC5292060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B2FE-E311-4635-871F-7E0F36490A1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828440" y="3968280"/>
            <a:ext cx="6483240" cy="22035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a:t>
            </a:r>
            <a:br>
              <a:rPr sz="2800"/>
            </a:br>
            <a:r>
              <a:rPr b="0" lang="en-US" sz="2800" spc="-1" strike="noStrike">
                <a:solidFill>
                  <a:srgbClr val="000000"/>
                </a:solidFill>
                <a:latin typeface="Univers"/>
              </a:rPr>
              <a:t>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4  – Perceptions &amp; Perspectives</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30492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oul</a:t>
            </a:r>
            <a:endParaRPr b="0" lang="en-US" sz="44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more to us that just the “mind” – we also have a soul.</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oul is the place of life and joy and personhood and subjective judgments and valuation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soul quickened by the spirit and makes us a living being.</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oul is also a place of unruly and temporary emotions of daily frustrations, of falling in love, of the joy of a good meal or a wonderful sunset, the smile at a catchy tune, the sentiments at a movie.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be a place of tempestuous emotional storms that need to be stilled. The soul can be up one minute and down the nex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trast the spirit is a place of grand and timeless emotions, of great joys and piercing sorrow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ding Peace</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inging the stormy world of the soul under control is one of the great tasks of the Christian life and results in what the Bible calls peace. Peace is when the soul is in the state that God wants it to be 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ace can be brought to the soul, which is subjective, through things such as a sunset or music of which William Congreve said “Music has charms to sooth the savage breast” . Music seemed to work for King Sa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such methods are morally neutral and do not form character or do anything much for us in the long run. We need something bet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re logic does not quite work with the soul to the extent that it does with the mind. “For the heart has reasons that the mind never knows”.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aw Of Likeness</a:t>
            </a:r>
            <a:endParaRPr b="0" lang="en-US" sz="4400" spc="-1" strike="noStrike">
              <a:solidFill>
                <a:srgbClr val="333399"/>
              </a:solidFill>
              <a:latin typeface="Tahoma"/>
            </a:endParaRPr>
          </a:p>
        </p:txBody>
      </p:sp>
      <p:sp>
        <p:nvSpPr>
          <p:cNvPr id="12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w of the soul is the </a:t>
            </a:r>
            <a:r>
              <a:rPr b="0" lang="en-US" sz="1800" spc="-1" strike="noStrike">
                <a:solidFill>
                  <a:srgbClr val="333399"/>
                </a:solidFill>
                <a:latin typeface="Tahoma"/>
              </a:rPr>
              <a:t>law of likeness</a:t>
            </a:r>
            <a:r>
              <a:rPr b="0" lang="en-US" sz="1800" spc="-1" strike="noStrike">
                <a:solidFill>
                  <a:srgbClr val="000000"/>
                </a:solidFill>
                <a:latin typeface="Tahoma"/>
              </a:rPr>
              <a:t>. Our souls become like the souls of people we love, admire or emulate or people we respect, see as authoritative, and obe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is why children become like parents, disciples like their masters and dogs like their owne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oration and authority mold the so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come like Jesus through loving and obeying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I have found four methods to work in bringing peace to the soul and giving it a dose of </a:t>
            </a:r>
            <a:r>
              <a:rPr b="0" lang="en-US" sz="1800" spc="-1" strike="noStrike">
                <a:solidFill>
                  <a:srgbClr val="333399"/>
                </a:solidFill>
                <a:latin typeface="Tahoma"/>
              </a:rPr>
              <a:t>perspective restorer:</a:t>
            </a:r>
            <a:r>
              <a:rPr b="0" lang="en-US" sz="1800" spc="-1" strike="noStrike">
                <a:solidFill>
                  <a:srgbClr val="000000"/>
                </a:solidFill>
                <a:latin typeface="Tahoma"/>
              </a:rPr>
              <a:t> Christo-Centric Worship, Self-Exhortation, Positive Confession Of Scripture (in its proper context) - and Scripture Memor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 Soul-Changers</a:t>
            </a:r>
            <a:endParaRPr b="0" lang="en-US" sz="4400" spc="-1" strike="noStrike">
              <a:solidFill>
                <a:srgbClr val="333399"/>
              </a:solidFill>
              <a:latin typeface="Tahoma"/>
            </a:endParaRPr>
          </a:p>
        </p:txBody>
      </p:sp>
      <p:sp>
        <p:nvSpPr>
          <p:cNvPr id="12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Christo-Centric Worship</a:t>
            </a:r>
            <a:r>
              <a:rPr b="0" lang="en-US" sz="1800" spc="-1" strike="noStrike">
                <a:solidFill>
                  <a:srgbClr val="000000"/>
                </a:solidFill>
                <a:latin typeface="Tahoma"/>
              </a:rPr>
              <a:t> – worship that is focussed on Jesus Christ and the cros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333399"/>
                </a:solidFill>
                <a:latin typeface="Tahoma"/>
              </a:rPr>
              <a:t>Self-Exhortation</a:t>
            </a:r>
            <a:r>
              <a:rPr b="0" lang="en-US" sz="1800" spc="-1" strike="noStrike">
                <a:solidFill>
                  <a:srgbClr val="000000"/>
                </a:solidFill>
                <a:latin typeface="Tahoma"/>
              </a:rPr>
              <a:t> – speaking to your soul and commanding it “be still my soul..” “be lifted up O my soul..”  “why are you downcast O my sou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ositive Confession Of Scripture</a:t>
            </a:r>
            <a:r>
              <a:rPr b="0" lang="en-US" sz="1800" spc="-1" strike="noStrike">
                <a:solidFill>
                  <a:srgbClr val="333399"/>
                </a:solidFill>
                <a:latin typeface="Tahoma"/>
              </a:rPr>
              <a:t> </a:t>
            </a:r>
            <a:r>
              <a:rPr b="0" lang="en-US" sz="1800" spc="-1" strike="noStrike">
                <a:solidFill>
                  <a:srgbClr val="000000"/>
                </a:solidFill>
                <a:latin typeface="Tahoma"/>
              </a:rPr>
              <a:t>– confessing the relevant promises of God alou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cripture Memory</a:t>
            </a:r>
            <a:r>
              <a:rPr b="0" lang="en-US" sz="1800" spc="-1" strike="noStrike">
                <a:solidFill>
                  <a:srgbClr val="333399"/>
                </a:solidFill>
                <a:latin typeface="Tahoma"/>
              </a:rPr>
              <a:t> </a:t>
            </a:r>
            <a:r>
              <a:rPr b="0" lang="en-US" sz="1800" spc="-1" strike="noStrike">
                <a:solidFill>
                  <a:srgbClr val="000000"/>
                </a:solidFill>
                <a:latin typeface="Tahoma"/>
              </a:rPr>
              <a:t>– memorizing Scriptures that will change your life perspectiv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o-Centric Worship</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salm 73 the Psalmist is in deep emotional pain and losing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salm reflects a time of instability and spiritual crisis. The Psalmist says "my feet had almost slipped", "it was too painful for me", "my heart was grieved", "I was like a brute beast before you'.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had lost his spiritual perspective, he was in deep emotional pain, he was envying the wealth and success of the wicked and he thought it was futile to be righteous. He was on the verge of giving up.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mpl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the Psalmist goes into the Temple and worships God and his perspective chang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worshipping God, his own perception of reality was changed in three areas. He changed his perceptions about the world, himself and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perceiving the wicked as prospering he now saw them as on the brink of destruction.</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stead of seeing his behavior as rational and justified he now saw it as wrong and foolis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seeing God as not rewarding him he turns and says “surely it is good to draw near to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ue worship restored the Psalmist to a right perspective on his faith.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f-Exhortation</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cess for changing your perspective by biblically-based self-exhortation i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 </a:t>
            </a:r>
            <a:r>
              <a:rPr b="1" lang="en-US" sz="1800" spc="-1" strike="noStrike">
                <a:solidFill>
                  <a:srgbClr val="333399"/>
                </a:solidFill>
                <a:latin typeface="Tahoma"/>
              </a:rPr>
              <a:t>Awareness</a:t>
            </a:r>
            <a:r>
              <a:rPr b="1" lang="en-US" sz="1800" spc="-1" strike="noStrike">
                <a:solidFill>
                  <a:srgbClr val="000000"/>
                </a:solidFill>
                <a:latin typeface="Tahoma"/>
              </a:rPr>
              <a:t>:</a:t>
            </a:r>
            <a:r>
              <a:rPr b="0" lang="en-US" sz="1800" spc="-1" strike="noStrike">
                <a:solidFill>
                  <a:srgbClr val="000000"/>
                </a:solidFill>
                <a:latin typeface="Tahoma"/>
              </a:rPr>
              <a:t> Become aware of the state of your soul "why are you downcas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2. </a:t>
            </a:r>
            <a:r>
              <a:rPr b="1" lang="en-US" sz="1800" spc="-1" strike="noStrike">
                <a:solidFill>
                  <a:srgbClr val="333399"/>
                </a:solidFill>
                <a:latin typeface="Tahoma"/>
              </a:rPr>
              <a:t>Questioning:</a:t>
            </a:r>
            <a:r>
              <a:rPr b="0" lang="en-US" sz="1800" spc="-1" strike="noStrike">
                <a:solidFill>
                  <a:srgbClr val="000000"/>
                </a:solidFill>
                <a:latin typeface="Tahoma"/>
              </a:rPr>
              <a:t> Decide whether it is godly and functional. If it is not godly or functional then don't accept it. Decide it must be firmly corrected and brought into alignment with the Kingdom..</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3. </a:t>
            </a:r>
            <a:r>
              <a:rPr b="1" lang="en-US" sz="1800" spc="-1" strike="noStrike">
                <a:solidFill>
                  <a:srgbClr val="333399"/>
                </a:solidFill>
                <a:latin typeface="Tahoma"/>
              </a:rPr>
              <a:t>Go Upstairs:</a:t>
            </a:r>
            <a:r>
              <a:rPr b="0" lang="en-US" sz="1800" spc="-1" strike="noStrike">
                <a:solidFill>
                  <a:srgbClr val="000000"/>
                </a:solidFill>
                <a:latin typeface="Tahoma"/>
              </a:rPr>
              <a:t> Take your soul before the throne of God either directly or in prayer and worship.</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4. </a:t>
            </a:r>
            <a:r>
              <a:rPr b="1" lang="en-US" sz="1800" spc="-1" strike="noStrike">
                <a:solidFill>
                  <a:srgbClr val="333399"/>
                </a:solidFill>
                <a:latin typeface="Tahoma"/>
              </a:rPr>
              <a:t>Firmly Command The Change:</a:t>
            </a:r>
            <a:r>
              <a:rPr b="0" lang="en-US" sz="1800" spc="-1" strike="noStrike">
                <a:solidFill>
                  <a:srgbClr val="000000"/>
                </a:solidFill>
                <a:latin typeface="Tahoma"/>
              </a:rPr>
              <a:t> Command your soul to change to a more biblical perspective within the background of God's will and covenant purpos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peaking to your own soul see:  Judges 5:21, Psalm 25:1, 42:4-6, 62:5, 77:2, 103:1,2; Luke 12:19</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333399"/>
                </a:solidFill>
                <a:latin typeface="Tahoma"/>
              </a:rPr>
              <a:t>Bible Based Positive Confession</a:t>
            </a:r>
            <a:br>
              <a:rPr sz="3200"/>
            </a:br>
            <a:endParaRPr b="0" lang="en-US" sz="3200" spc="-1" strike="noStrike">
              <a:solidFill>
                <a:srgbClr val="333399"/>
              </a:solidFill>
              <a:latin typeface="Tahoma"/>
            </a:endParaRPr>
          </a:p>
        </p:txBody>
      </p:sp>
      <p:sp>
        <p:nvSpPr>
          <p:cNvPr id="13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cknowledge</a:t>
            </a:r>
            <a:r>
              <a:rPr b="0" lang="en-US" sz="1800" spc="-1" strike="noStrike">
                <a:solidFill>
                  <a:srgbClr val="000000"/>
                </a:solidFill>
                <a:latin typeface="Tahoma"/>
              </a:rPr>
              <a:t> the probl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arch the Bible and find appropriate and </a:t>
            </a:r>
            <a:r>
              <a:rPr b="0" lang="en-US" sz="1800" spc="-1" strike="noStrike">
                <a:solidFill>
                  <a:srgbClr val="333399"/>
                </a:solidFill>
                <a:latin typeface="Tahoma"/>
              </a:rPr>
              <a:t>in context Scriptur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epeat them out loud</a:t>
            </a:r>
            <a:r>
              <a:rPr b="0" lang="en-US" sz="1800" spc="-1" strike="noStrike">
                <a:solidFill>
                  <a:srgbClr val="000000"/>
                </a:solidFill>
                <a:latin typeface="Tahoma"/>
              </a:rPr>
              <a:t> declaring them to be tru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 Memory</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e Scriptures that are positive and faith-filled and which will help you to change your perspective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criptures bring us encouragement and hop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ing makes them part of your inner world and available in any situ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vigators has Scripture memory card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Perception</a:t>
            </a:r>
            <a:endParaRPr b="0" lang="en-US" sz="4400" spc="-1" strike="noStrike">
              <a:solidFill>
                <a:srgbClr val="333399"/>
              </a:solidFill>
              <a:latin typeface="Tahoma"/>
            </a:endParaRPr>
          </a:p>
        </p:txBody>
      </p:sp>
      <p:sp>
        <p:nvSpPr>
          <p:cNvPr id="13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 Jesus saw things with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perceived life spiritu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 perceptions and explanations were from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is the place of intuition, dreams, visions and revelation and of the deepest intimacy and the most direct kind of knowledge. It is the deepest part of our humanity and it is the place where we "know that we know..". The primary functions of the spirit are wisdom and perception and knowledg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ception &amp; Life Perspective</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us </a:t>
            </a:r>
            <a:r>
              <a:rPr b="0" lang="en-US" sz="1800" spc="-1" strike="noStrike">
                <a:solidFill>
                  <a:srgbClr val="333399"/>
                </a:solidFill>
                <a:latin typeface="Tahoma"/>
              </a:rPr>
              <a:t>perceives</a:t>
            </a:r>
            <a:r>
              <a:rPr b="0" lang="en-US" sz="1800" spc="-1" strike="noStrike">
                <a:solidFill>
                  <a:srgbClr val="000000"/>
                </a:solidFill>
                <a:latin typeface="Tahoma"/>
              </a:rPr>
              <a:t> life in certain ways, we have a certain stance on life, a way of viewing things, a </a:t>
            </a:r>
            <a:r>
              <a:rPr b="0" lang="en-US" sz="1800" spc="-1" strike="noStrike">
                <a:solidFill>
                  <a:srgbClr val="333399"/>
                </a:solidFill>
                <a:latin typeface="Tahoma"/>
              </a:rPr>
              <a:t>life perspectiv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optimistic, pessimistic, see ourselves as powerful or helpless, as victims or change agents, etc.</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lso have ways of explaining reality to ourselves – our </a:t>
            </a:r>
            <a:r>
              <a:rPr b="0" lang="en-US" sz="1800" spc="-1" strike="noStrike">
                <a:solidFill>
                  <a:srgbClr val="333399"/>
                </a:solidFill>
                <a:latin typeface="Tahoma"/>
              </a:rPr>
              <a:t>explanatory style</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lanations about reality later form our beliefs -so how  we explain the world  to ourselves is of vital importa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Spiritual Perception</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human spirit is the deepest part of 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 relationship with the Holy Spirit but separate from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sets the rest of the personality in balanc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rson’s spirit contains their inner wisdom as a person and forms their basic outlook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also gives strength and power to the personalit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th, hope and love bring strength to the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umans spirit can be full of light and wisdom or dark and embitter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be strengthened in the inner man or broken and weak.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fore and After</a:t>
            </a:r>
            <a:endParaRPr b="0" lang="en-US" sz="4400" spc="-1" strike="noStrike">
              <a:solidFill>
                <a:srgbClr val="333399"/>
              </a:solidFill>
              <a:latin typeface="Tahoma"/>
            </a:endParaRPr>
          </a:p>
        </p:txBody>
      </p:sp>
      <p:sp>
        <p:nvSpPr>
          <p:cNvPr id="141" name="PlaceHolder 2"/>
          <p:cNvSpPr>
            <a:spLocks noGrp="1"/>
          </p:cNvSpPr>
          <p:nvPr>
            <p:ph/>
          </p:nvPr>
        </p:nvSpPr>
        <p:spPr>
          <a:xfrm>
            <a:off x="533520" y="2057400"/>
            <a:ext cx="7772400" cy="36957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 to conversion</a:t>
            </a:r>
            <a:r>
              <a:rPr b="0" lang="en-US" sz="1800" spc="-1" strike="noStrike">
                <a:solidFill>
                  <a:srgbClr val="000000"/>
                </a:solidFill>
                <a:latin typeface="Tahoma"/>
              </a:rPr>
              <a:t> the human spirit is described as : </a:t>
            </a:r>
            <a:br>
              <a:rPr sz="1800"/>
            </a:br>
            <a:r>
              <a:rPr b="0" lang="en-US" sz="1800" spc="-1" strike="noStrike">
                <a:solidFill>
                  <a:srgbClr val="000000"/>
                </a:solidFill>
                <a:latin typeface="Tahoma"/>
              </a:rPr>
              <a:t>dead, in darkness, under a veil, ignorant, blind  and unable to understand spiritual things.</a:t>
            </a:r>
            <a:br>
              <a:rPr sz="1600"/>
            </a:br>
            <a:r>
              <a:rPr b="0" lang="en-US" sz="1600" spc="-1" strike="noStrike">
                <a:solidFill>
                  <a:srgbClr val="000000"/>
                </a:solidFill>
                <a:latin typeface="Tahoma"/>
              </a:rPr>
              <a:t> ( 1 Corinthians 2:13, 3:13-16  Ephesians 2:1-4, 4:18,  2 Corinthians 4:3,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After conversion</a:t>
            </a:r>
            <a:r>
              <a:rPr b="0" lang="en-US" sz="1800" spc="-1" strike="noStrike">
                <a:solidFill>
                  <a:srgbClr val="000000"/>
                </a:solidFill>
                <a:latin typeface="Tahoma"/>
              </a:rPr>
              <a:t> Christians:</a:t>
            </a:r>
            <a:br>
              <a:rPr sz="1800"/>
            </a:br>
            <a:r>
              <a:rPr b="0" lang="en-US" sz="1800" spc="-1" strike="noStrike">
                <a:solidFill>
                  <a:srgbClr val="000000"/>
                </a:solidFill>
                <a:latin typeface="Tahoma"/>
              </a:rPr>
              <a:t> “have the mind of Christ” </a:t>
            </a:r>
            <a:br>
              <a:rPr sz="1800"/>
            </a:br>
            <a:r>
              <a:rPr b="0" lang="en-US" sz="1800" spc="-1" strike="noStrike">
                <a:solidFill>
                  <a:srgbClr val="000000"/>
                </a:solidFill>
                <a:latin typeface="Tahoma"/>
              </a:rPr>
              <a:t> “an anointing” of the Holy Spirit</a:t>
            </a:r>
            <a:br>
              <a:rPr sz="1800"/>
            </a:br>
            <a:r>
              <a:rPr b="0" lang="en-US" sz="1800" spc="-1" strike="noStrike">
                <a:solidFill>
                  <a:srgbClr val="000000"/>
                </a:solidFill>
                <a:latin typeface="Tahoma"/>
              </a:rPr>
              <a:t>the law written on their hearts</a:t>
            </a:r>
            <a:br>
              <a:rPr sz="1800"/>
            </a:br>
            <a:r>
              <a:rPr b="0" lang="en-US" sz="1800" spc="-1" strike="noStrike">
                <a:solidFill>
                  <a:srgbClr val="000000"/>
                </a:solidFill>
                <a:latin typeface="Tahoma"/>
              </a:rPr>
              <a:t>there is abundant revelation even to “men-servants and maidservants”. </a:t>
            </a:r>
            <a:br>
              <a:rPr sz="1800"/>
            </a:br>
            <a:r>
              <a:rPr b="0" lang="en-US" sz="1600" spc="-1" strike="noStrike">
                <a:solidFill>
                  <a:srgbClr val="000000"/>
                </a:solidFill>
                <a:latin typeface="Tahoma"/>
              </a:rPr>
              <a:t>(1 John 2:20,27, 1 Corinthians 2:14-16, Acts 2:16-18, Hebrews 8:10-12, 1 Corinthians 14:3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ing Spiritual Realities</a:t>
            </a:r>
            <a:endParaRPr b="0" lang="en-US" sz="4400" spc="-1" strike="noStrike">
              <a:solidFill>
                <a:srgbClr val="333399"/>
              </a:solidFill>
              <a:latin typeface="Tahoma"/>
            </a:endParaRPr>
          </a:p>
        </p:txBody>
      </p:sp>
      <p:sp>
        <p:nvSpPr>
          <p:cNvPr id="14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truly a vast transition in our nature. We go from being spiritually blind and without understanding, to being able to sense spiritual realities and both understand and enjoy them.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may even sense them so keenly that we are able to edify the Churc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hole new way of seeing things is opened up. This is variously called "being quickened in spirit", "having the eyes of your heart enlightened." or having one's spiritual eyes and ears “opened” to spiritual real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work of the Holy Spirit that is quite independent of human intellect (see 1 Corinthians chapters 1-4 ).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me very intelligent people are spiritually blind while some simple folk grasp the things of the Kingdom.</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Jesus rejoiced in seeing simple people grasping great spiritual realities by faith alone and being obviously taught by God.</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You…</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1:25 NKJV) At that time Jesus answered and said, "I thank You, Father, Lord of heaven and earth, that You have hidden these things from the wise and prudent and have revealed them to bab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6:17 NKJV) Jesus answered and said to him, "Blessed are you, Simon Bar-Jonah, for flesh and blood has not revealed this to you, but My Father who is in heave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aying For Spiritual Perception</a:t>
            </a:r>
            <a:endParaRPr b="0" lang="en-US" sz="4000" spc="-1" strike="noStrike">
              <a:solidFill>
                <a:srgbClr val="333399"/>
              </a:solidFill>
              <a:latin typeface="Tahoma"/>
            </a:endParaRPr>
          </a:p>
        </p:txBody>
      </p:sp>
      <p:sp>
        <p:nvSpPr>
          <p:cNvPr id="14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phesians 1:18 NKJV) </a:t>
            </a:r>
            <a:r>
              <a:rPr b="1" i="1" lang="en-US" sz="1600" spc="-1" strike="noStrike">
                <a:solidFill>
                  <a:srgbClr val="000000"/>
                </a:solidFill>
                <a:latin typeface="Tahoma"/>
              </a:rPr>
              <a:t>the eyes of your understanding being enlightened</a:t>
            </a:r>
            <a:r>
              <a:rPr b="0" lang="en-US" sz="1600" spc="-1" strike="noStrike">
                <a:solidFill>
                  <a:srgbClr val="000000"/>
                </a:solidFill>
                <a:latin typeface="Tahoma"/>
              </a:rPr>
              <a:t>; that you may know what is the hope of His calling, what are the riches of the glory of His inheritance in the saint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hilippians 1:9 NKJV) And this I pray, that your love may </a:t>
            </a:r>
            <a:r>
              <a:rPr b="1" i="1" lang="en-US" sz="1600" spc="-1" strike="noStrike">
                <a:solidFill>
                  <a:srgbClr val="000000"/>
                </a:solidFill>
                <a:latin typeface="Tahoma"/>
              </a:rPr>
              <a:t>abound still more and more in knowledge and all discernmen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1:9 NKJV) For this reason we also, since the day we heard it, do not cease to pray for you, and to ask </a:t>
            </a:r>
            <a:r>
              <a:rPr b="1" i="1" lang="en-US" sz="1600" spc="-1" strike="noStrike">
                <a:solidFill>
                  <a:srgbClr val="000000"/>
                </a:solidFill>
                <a:latin typeface="Tahoma"/>
              </a:rPr>
              <a:t>that you may be filled with the knowledge of His will in all wisdom and spiritual understanding</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2:2 NKJV) that their hearts may be encouraged, being knit together in love, and attaining to all riches of the </a:t>
            </a:r>
            <a:r>
              <a:rPr b="1" i="1" lang="en-US" sz="1600" spc="-1" strike="noStrike">
                <a:solidFill>
                  <a:srgbClr val="000000"/>
                </a:solidFill>
                <a:latin typeface="Tahoma"/>
              </a:rPr>
              <a:t>full assurance of understanding</a:t>
            </a:r>
            <a:r>
              <a:rPr b="0" lang="en-US" sz="1600" spc="-1" strike="noStrike">
                <a:solidFill>
                  <a:srgbClr val="000000"/>
                </a:solidFill>
                <a:latin typeface="Tahoma"/>
              </a:rPr>
              <a:t>, </a:t>
            </a:r>
            <a:r>
              <a:rPr b="1" i="1" lang="en-US" sz="1600" spc="-1" strike="noStrike">
                <a:solidFill>
                  <a:srgbClr val="000000"/>
                </a:solidFill>
                <a:latin typeface="Tahoma"/>
              </a:rPr>
              <a:t>to the knowledge of the mystery of God, both of the Father and of Chris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Sensitivity</a:t>
            </a:r>
            <a:endParaRPr b="0" lang="en-US" sz="4400" spc="-1" strike="noStrike">
              <a:solidFill>
                <a:srgbClr val="333399"/>
              </a:solidFill>
              <a:latin typeface="Tahoma"/>
            </a:endParaRPr>
          </a:p>
        </p:txBody>
      </p:sp>
      <p:sp>
        <p:nvSpPr>
          <p:cNvPr id="149" name="PlaceHolder 2"/>
          <p:cNvSpPr>
            <a:spLocks noGrp="1"/>
          </p:cNvSpPr>
          <p:nvPr>
            <p:ph/>
          </p:nvPr>
        </p:nvSpPr>
        <p:spPr>
          <a:xfrm>
            <a:off x="533520" y="2057040"/>
            <a:ext cx="777240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Spiritual sensitivity opens our eyes to God’s love and thus allows us to be solidly grounded as persons. (Ephesians 3:14-210</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Spiritual perception gives us the right spiritual passions such as Jesus beholding Jerusalem and seeing it with his spirit ,and reacting with compassion. With right spiritual perception we see the lost, our church and our city and our nation through the eyes of Jesus Chris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Spiritual sensitivity allows us to be grounded in faith and in the spiritual realm not on sight and human reason and sentiment alone. (For we walk by faith not by sight.) Moses was able be steadfast in the face of threats from a tyrannical Pharaoh because of his special spiritual percep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Occasionally people of high spiritual sensitivity will be granted a revelation that turns the whole situation around and has an effect not just on their emotions but the emotions of all involved. For instance Paul's revelation from God during the storm at sea. (Acts 27:21-26)</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jor Spiritual Errors</a:t>
            </a:r>
            <a:endParaRPr b="0" lang="en-US" sz="4400" spc="-1" strike="noStrike">
              <a:solidFill>
                <a:srgbClr val="333399"/>
              </a:solidFill>
              <a:latin typeface="Tahoma"/>
            </a:endParaRPr>
          </a:p>
        </p:txBody>
      </p:sp>
      <p:sp>
        <p:nvSpPr>
          <p:cNvPr id="15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ability To Perceive The Obvious:</a:t>
            </a:r>
            <a:r>
              <a:rPr b="0" lang="en-US" sz="1800" spc="-1" strike="noStrike">
                <a:solidFill>
                  <a:srgbClr val="000000"/>
                </a:solidFill>
                <a:latin typeface="Tahoma"/>
              </a:rPr>
              <a:t> This is called " a spirit of stupor" or spirit of slumber. (Romans 11:8)</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Paying Attention To Deceptive Spirits </a:t>
            </a:r>
            <a:r>
              <a:rPr b="0" lang="en-US" sz="1800" spc="-1" strike="noStrike">
                <a:solidFill>
                  <a:srgbClr val="000000"/>
                </a:solidFill>
                <a:latin typeface="Tahoma"/>
              </a:rPr>
              <a:t>(1 Timothy 4:1-4)</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piritual Inflation</a:t>
            </a:r>
            <a:r>
              <a:rPr b="0" lang="en-US" sz="1800" spc="-1" strike="noStrike">
                <a:solidFill>
                  <a:srgbClr val="000000"/>
                </a:solidFill>
                <a:latin typeface="Tahoma"/>
              </a:rPr>
              <a:t> – being “puffed up” (Colossians 2:18, 1 Timothy 3:6)</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Being Spiritually Enslaved To Rules And Regulations:</a:t>
            </a:r>
            <a:r>
              <a:rPr b="0" lang="en-US" sz="1800" spc="-1" strike="noStrike">
                <a:solidFill>
                  <a:srgbClr val="000000"/>
                </a:solidFill>
                <a:latin typeface="Tahoma"/>
              </a:rPr>
              <a:t> This is known as a spirit of bondage and slavery. (Romans 8:15)</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 Spirit That Lacks Courage And Assertiveness</a:t>
            </a:r>
            <a:r>
              <a:rPr b="0" lang="en-US" sz="1800" spc="-1" strike="noStrike">
                <a:solidFill>
                  <a:srgbClr val="000000"/>
                </a:solidFill>
                <a:latin typeface="Tahoma"/>
              </a:rPr>
              <a:t>: Paul calls this is "spirit of fear“ (2 Timothy 1:7)</a:t>
            </a:r>
            <a:endParaRPr b="0" lang="en-US" sz="18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itions Of The Human Spirit</a:t>
            </a:r>
            <a:endParaRPr b="0" lang="en-US" sz="3200" spc="-1" strike="noStrike">
              <a:solidFill>
                <a:srgbClr val="333399"/>
              </a:solidFill>
              <a:latin typeface="Tahoma"/>
            </a:endParaRPr>
          </a:p>
        </p:txBody>
      </p:sp>
      <p:sp>
        <p:nvSpPr>
          <p:cNvPr id="153" name="PlaceHolder 2"/>
          <p:cNvSpPr>
            <a:spLocks noGrp="1"/>
          </p:cNvSpPr>
          <p:nvPr>
            <p:ph/>
          </p:nvPr>
        </p:nvSpPr>
        <p:spPr>
          <a:xfrm>
            <a:off x="1371240" y="2057400"/>
            <a:ext cx="70866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Jealousy: (Numbers 5: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rdened And Obstinate Spirit  (Deuteronomy 2:3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Ill-Will: (Judges 9:2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orrowful Spirit: (1 Samuel 1: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istressing Spirit : (1 Samuel 16:14-16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ullen Spirit: (1 Kings 2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oisoned Spirit : (Job 6: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nguished Spirit: (Job 7:11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urned Against God: (Job 15:13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Broken Spirit: (Job 17:1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Hasty And Compelling Spirit: (Job 32:18 NKJV)</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ditions cont’d…</a:t>
            </a: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77724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Unfaithful Spirit: (Psalms 78: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hat Is Overwhelmed By Troubles:(Psalms 142:3)</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ailing Spirit: (Psalms 143:7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ughty Spirit: (Proverbs 16:18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Uncontrolled Spirit: (Proverbs 25:2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rverse Spirit: (Isaiah 19: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Deep Sleep: (Isaiah 29:1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Errant Spirit: (Isaiah 29:2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Heaviness: (Isaiah 61: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ieved Spirit: (Isaiah 65:14 NKJV) </a:t>
            </a:r>
            <a:endParaRPr b="0" lang="en-US" sz="1800" spc="-1" strike="noStrike">
              <a:solidFill>
                <a:srgbClr val="000000"/>
              </a:solidFill>
              <a:latin typeface="Tahoma"/>
            </a:endParaRPr>
          </a:p>
          <a:p>
            <a:pPr marL="609480" indent="-609480">
              <a:spcBef>
                <a:spcPts val="400"/>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erely Human Spirit: (Ezekiel 13:3 NKJV)</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Of A Person</a:t>
            </a:r>
            <a:endParaRPr b="0" lang="en-US" sz="4400" spc="-1" strike="noStrike">
              <a:solidFill>
                <a:srgbClr val="333399"/>
              </a:solidFill>
              <a:latin typeface="Tahoma"/>
            </a:endParaRPr>
          </a:p>
        </p:txBody>
      </p:sp>
      <p:sp>
        <p:nvSpPr>
          <p:cNvPr id="157" name="PlaceHolder 2"/>
          <p:cNvSpPr>
            <a:spLocks noGrp="1"/>
          </p:cNvSpPr>
          <p:nvPr>
            <p:ph/>
          </p:nvPr>
        </p:nvSpPr>
        <p:spPr>
          <a:xfrm>
            <a:off x="533160" y="2057040"/>
            <a:ext cx="7391160" cy="396252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 has a vast emotional range. It is not a cool, analytical, emotionless part of the human person. In fact the spirit generates the deepest and most powerful emotions we know.</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erson's fundamental outlook on life flows from their spirit and when the spirit is affected this affects the actions of the whole person. </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pirit is vulnerable and can be damaged. Traumatic life circumstances and intense suffering can break the spirit or cause it to be overwhelmed.</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erson has some degree of control over their spirit, and this is a good and desirable thing. A person who lacks control over their spirit has trouble with maintaining proper boundaries. (Proverbs 25:28)</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ual realm is subject to change. Moods seem to be linked to a temporary state of the human spirit. </a:t>
            </a:r>
            <a:endParaRPr b="0" lang="en-US" sz="16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can cause both positive and negative changes in the human spirit. In Isaiah from a spirit of heaviness is changed into a garment of praise. In the case of King Saul he moves from being anointed with the Holy Spirit to being tormented by a distressing spirit.</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eriences Form Belief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eriences form our belief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n experience happens to us we explain it to ourselves a certain wa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explanation of our experience then becomes part of our inner world.</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then generates our beliefs about realit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explain a fever as being due to: a witchcraft, a poison, a virus or the food we ate.</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planation then forms/reinforces  beliefs in witches, plots, viruses or the bad cooking respectivel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explanation forming” is a continuous and progressive proces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ing incorrect explanations of reality in childhood can cause deep misunderstandings later in life e.g. </a:t>
            </a:r>
            <a:r>
              <a:rPr b="0" i="1" lang="en-US" sz="1800" spc="-1" strike="noStrike">
                <a:solidFill>
                  <a:srgbClr val="000000"/>
                </a:solidFill>
                <a:latin typeface="Tahoma"/>
              </a:rPr>
              <a:t>“Bad things must always happen to me because I am a bad pers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our Causes..</a:t>
            </a:r>
            <a:endParaRPr b="0" lang="en-US" sz="4400" spc="-1" strike="noStrike">
              <a:solidFill>
                <a:srgbClr val="333399"/>
              </a:solidFill>
              <a:latin typeface="Tahoma"/>
            </a:endParaRPr>
          </a:p>
        </p:txBody>
      </p:sp>
      <p:sp>
        <p:nvSpPr>
          <p:cNvPr id="15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s with the human spirit have four main causes:</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in</a:t>
            </a:r>
            <a:r>
              <a:rPr b="0" lang="en-US" sz="1800" spc="-1" strike="noStrike">
                <a:solidFill>
                  <a:srgbClr val="000000"/>
                </a:solidFill>
                <a:latin typeface="Tahoma"/>
              </a:rPr>
              <a:t> – requiring repentanc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Folly</a:t>
            </a:r>
            <a:r>
              <a:rPr b="0" lang="en-US" sz="1800" spc="-1" strike="noStrike">
                <a:solidFill>
                  <a:srgbClr val="000000"/>
                </a:solidFill>
                <a:latin typeface="Tahoma"/>
              </a:rPr>
              <a:t> – requiring wisdom and disciplin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rauma</a:t>
            </a:r>
            <a:r>
              <a:rPr b="0" lang="en-US" sz="1800" spc="-1" strike="noStrike">
                <a:solidFill>
                  <a:srgbClr val="333399"/>
                </a:solidFill>
                <a:latin typeface="Tahoma"/>
              </a:rPr>
              <a:t> </a:t>
            </a:r>
            <a:r>
              <a:rPr b="0" lang="en-US" sz="1800" spc="-1" strike="noStrike">
                <a:solidFill>
                  <a:srgbClr val="000000"/>
                </a:solidFill>
                <a:latin typeface="Tahoma"/>
              </a:rPr>
              <a:t>– requiring inner healing</a:t>
            </a:r>
            <a:endParaRPr b="0" lang="en-US" sz="1800" spc="-1" strike="noStrike">
              <a:solidFill>
                <a:srgbClr val="000000"/>
              </a:solidFill>
              <a:latin typeface="Tahoma"/>
            </a:endParaRPr>
          </a:p>
          <a:p>
            <a:pPr marL="609480" indent="-6094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piritual Attack</a:t>
            </a:r>
            <a:r>
              <a:rPr b="0" lang="en-US" sz="1800" spc="-1" strike="noStrike">
                <a:solidFill>
                  <a:srgbClr val="000000"/>
                </a:solidFill>
                <a:latin typeface="Tahoma"/>
              </a:rPr>
              <a:t> – requiring breaking of curses, spiritual warfare and prayer. May even require exorcism. </a:t>
            </a:r>
            <a:br>
              <a:rPr sz="1800"/>
            </a:br>
            <a:r>
              <a:rPr b="0" lang="en-US" sz="1400" spc="-1" strike="noStrike">
                <a:solidFill>
                  <a:srgbClr val="333399"/>
                </a:solidFill>
                <a:latin typeface="Tahoma"/>
              </a:rPr>
              <a:t>See my ebook on spiritual warfare at http://www.aibi.ph/warfare/</a:t>
            </a:r>
            <a:endParaRPr b="0" lang="en-US" sz="14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6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perceptions, perspectives and explanatory style set the tone for our emotional life and lie behind many of our belief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our soul and our human spirit all play a part in forming our life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needs to be reasoned with and to operate with functional categories and explana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oul operates by the law of likeness and authority and needs to love, to worship, and to be disciplin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pirit requires repentance, wisdom, healing and spiritual protec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anatory Styl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explain things that happen to us a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anent </a:t>
            </a:r>
            <a:r>
              <a:rPr b="0" lang="en-US" sz="2000" spc="-1" strike="noStrike">
                <a:solidFill>
                  <a:srgbClr val="ff0000"/>
                </a:solidFill>
                <a:latin typeface="Tahoma"/>
              </a:rPr>
              <a:t>OR</a:t>
            </a:r>
            <a:r>
              <a:rPr b="0" lang="en-US" sz="2000" spc="-1" strike="noStrike">
                <a:solidFill>
                  <a:srgbClr val="000000"/>
                </a:solidFill>
                <a:latin typeface="Tahoma"/>
              </a:rPr>
              <a:t> Temporar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 of Our Control </a:t>
            </a:r>
            <a:r>
              <a:rPr b="0" lang="en-US" sz="2000" spc="-1" strike="noStrike">
                <a:solidFill>
                  <a:srgbClr val="ff0000"/>
                </a:solidFill>
                <a:latin typeface="Tahoma"/>
              </a:rPr>
              <a:t>OR</a:t>
            </a:r>
            <a:r>
              <a:rPr b="0" lang="en-US" sz="2000" spc="-1" strike="noStrike">
                <a:solidFill>
                  <a:srgbClr val="000000"/>
                </a:solidFill>
                <a:latin typeface="Tahoma"/>
              </a:rPr>
              <a:t> Within our Contro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vasive </a:t>
            </a:r>
            <a:r>
              <a:rPr b="0" lang="en-US" sz="2000" spc="-1" strike="noStrike">
                <a:solidFill>
                  <a:srgbClr val="ff0000"/>
                </a:solidFill>
                <a:latin typeface="Tahoma"/>
              </a:rPr>
              <a:t>OR</a:t>
            </a:r>
            <a:r>
              <a:rPr b="0" lang="en-US" sz="2000" spc="-1" strike="noStrike">
                <a:solidFill>
                  <a:srgbClr val="000000"/>
                </a:solidFill>
                <a:latin typeface="Tahoma"/>
              </a:rPr>
              <a:t> Specifi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a:t>
            </a:r>
            <a:r>
              <a:rPr b="0" lang="en-US" sz="2000" spc="-1" strike="noStrike">
                <a:solidFill>
                  <a:srgbClr val="ff0000"/>
                </a:solidFill>
                <a:latin typeface="Tahoma"/>
              </a:rPr>
              <a:t>OR</a:t>
            </a:r>
            <a:r>
              <a:rPr b="0" lang="en-US" sz="2000" spc="-1" strike="noStrike">
                <a:solidFill>
                  <a:srgbClr val="000000"/>
                </a:solidFill>
                <a:latin typeface="Tahoma"/>
              </a:rPr>
              <a:t> Exter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sm</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s and people of faith tend to view negative events as temporary, specific and external - and often within their contro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ssimists  tend to view negative events as permanent, pervasive, personal (their fault) - and often outside of their control.</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ssimism</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essimist gets a traffic tic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ow could I be so stupid” –</a:t>
            </a:r>
            <a:r>
              <a:rPr b="0" lang="en-US" sz="2000" spc="-1" strike="noStrike">
                <a:solidFill>
                  <a:srgbClr val="333399"/>
                </a:solidFill>
                <a:latin typeface="Tahoma"/>
              </a:rPr>
              <a:t>Pers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police are everywhere” – </a:t>
            </a:r>
            <a:r>
              <a:rPr b="0" lang="en-US" sz="2000" spc="-1" strike="noStrike">
                <a:solidFill>
                  <a:srgbClr val="333399"/>
                </a:solidFill>
                <a:latin typeface="Tahoma"/>
              </a:rPr>
              <a:t>Pervasiv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ll never stop getting fined…” – </a:t>
            </a:r>
            <a:r>
              <a:rPr b="0" lang="en-US" sz="2000" spc="-1" strike="noStrike">
                <a:solidFill>
                  <a:srgbClr val="333399"/>
                </a:solidFill>
                <a:latin typeface="Tahoma"/>
              </a:rPr>
              <a:t>Perman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can’t help it and I will lose my license..” – </a:t>
            </a:r>
            <a:r>
              <a:rPr b="0" lang="en-US" sz="2000" spc="-1" strike="noStrike">
                <a:solidFill>
                  <a:srgbClr val="333399"/>
                </a:solidFill>
                <a:latin typeface="Tahoma"/>
              </a:rPr>
              <a:t>Low Locus of Contro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th Is Functional</a:t>
            </a:r>
            <a:endParaRPr b="0" lang="en-US" sz="4400" spc="-1" strike="noStrike">
              <a:solidFill>
                <a:srgbClr val="333399"/>
              </a:solidFill>
              <a:latin typeface="Tahoma"/>
            </a:endParaRPr>
          </a:p>
        </p:txBody>
      </p:sp>
      <p:sp>
        <p:nvSpPr>
          <p:cNvPr id="113" name="PlaceHolder 2"/>
          <p:cNvSpPr>
            <a:spLocks noGrp="1"/>
          </p:cNvSpPr>
          <p:nvPr>
            <p:ph/>
          </p:nvPr>
        </p:nvSpPr>
        <p:spPr>
          <a:xfrm>
            <a:off x="533520" y="220968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happier, healthier and live longer. (Martin Seligman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more attractive soci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pessimistic people are more accurate on detail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ssimist are “correct” but the optimists are the winn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of faith are optimists because they know about the goodness of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Explanatory Style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rsonal, Pervasive and Permanent explanatory styles produce self-defeating beliefs and a negative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gative outlook is reflected in negative self-tal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lf-defeating beliefs we have formed can be reasoned with and our thoughts (negative self-talk) can be disputed with or distracted.</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rshalling evidence against self-defeating beliefs and attacking them logically can slowly but surely lead to a more optimistic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you can “externalize” the belief by writing the thought down on paper or talking it over with a frien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soning With Yourself</a:t>
            </a:r>
            <a:endParaRPr b="0" lang="en-US" sz="4400" spc="-1" strike="noStrike">
              <a:solidFill>
                <a:srgbClr val="333399"/>
              </a:solidFill>
              <a:latin typeface="Tahoma"/>
            </a:endParaRPr>
          </a:p>
        </p:txBody>
      </p:sp>
      <p:sp>
        <p:nvSpPr>
          <p:cNvPr id="11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Find a recent incident that caused you some emotional discomfor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Look at the feeling - name and write down the feeling.</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ry to find the underlying thought that produced that feeling e.g. "I am always stupid".</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Dispute the thought with facts, Scripture, logic and common sense until you come up with a more functional perspective on the even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rite down the new feeling that comes with the new explan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5:13:57Z</dcterms:created>
  <dc:creator>John Edmiston</dc:creator>
  <dc:description/>
  <dc:language>en-US</dc:language>
  <cp:lastModifiedBy>John Edmiston</cp:lastModifiedBy>
  <dcterms:modified xsi:type="dcterms:W3CDTF">2004-05-01T15:49:46Z</dcterms:modified>
  <cp:revision>26</cp:revision>
  <dc:subject/>
  <dc:title>Biblical EQ www.aibi.ph/beq/</dc:title>
</cp:coreProperties>
</file>